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33.png" ContentType="image/png"/>
  <Override PartName="/ppt/media/image17.wmf" ContentType="image/x-wmf"/>
  <Override PartName="/ppt/media/image9.png" ContentType="image/png"/>
  <Override PartName="/ppt/media/image30.wmf" ContentType="image/x-wmf"/>
  <Override PartName="/ppt/media/image5.wmf" ContentType="image/x-wmf"/>
  <Override PartName="/ppt/media/image28.wmf" ContentType="image/x-wmf"/>
  <Override PartName="/ppt/media/image35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7.png" ContentType="image/png"/>
  <Override PartName="/ppt/media/image15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99964-2A55-4418-8381-EB194307E4D1}" type="slidenum">
              <a:rPr b="0" lang="es-MX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solidFill>
            <a:srgbClr val="d4dffe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01760" y="3832200"/>
            <a:ext cx="1077840" cy="2205000"/>
          </a:xfrm>
          <a:custGeom>
            <a:avLst/>
            <a:gdLst/>
            <a:ahLst/>
            <a:rect l="l" t="t" r="r" b="b"/>
            <a:pathLst>
              <a:path w="679" h="1389">
                <a:moveTo>
                  <a:pt x="22" y="88"/>
                </a:moveTo>
                <a:lnTo>
                  <a:pt x="19" y="100"/>
                </a:lnTo>
                <a:lnTo>
                  <a:pt x="15" y="115"/>
                </a:lnTo>
                <a:lnTo>
                  <a:pt x="13" y="130"/>
                </a:lnTo>
                <a:lnTo>
                  <a:pt x="10" y="148"/>
                </a:lnTo>
                <a:lnTo>
                  <a:pt x="5" y="188"/>
                </a:lnTo>
                <a:lnTo>
                  <a:pt x="1" y="230"/>
                </a:lnTo>
                <a:lnTo>
                  <a:pt x="0" y="275"/>
                </a:lnTo>
                <a:lnTo>
                  <a:pt x="2" y="317"/>
                </a:lnTo>
                <a:lnTo>
                  <a:pt x="5" y="337"/>
                </a:lnTo>
                <a:lnTo>
                  <a:pt x="8" y="355"/>
                </a:lnTo>
                <a:lnTo>
                  <a:pt x="13" y="372"/>
                </a:lnTo>
                <a:lnTo>
                  <a:pt x="18" y="387"/>
                </a:lnTo>
                <a:lnTo>
                  <a:pt x="33" y="415"/>
                </a:lnTo>
                <a:lnTo>
                  <a:pt x="51" y="440"/>
                </a:lnTo>
                <a:lnTo>
                  <a:pt x="69" y="465"/>
                </a:lnTo>
                <a:lnTo>
                  <a:pt x="88" y="488"/>
                </a:lnTo>
                <a:lnTo>
                  <a:pt x="106" y="512"/>
                </a:lnTo>
                <a:lnTo>
                  <a:pt x="123" y="536"/>
                </a:lnTo>
                <a:lnTo>
                  <a:pt x="135" y="560"/>
                </a:lnTo>
                <a:lnTo>
                  <a:pt x="140" y="573"/>
                </a:lnTo>
                <a:lnTo>
                  <a:pt x="143" y="584"/>
                </a:lnTo>
                <a:lnTo>
                  <a:pt x="148" y="611"/>
                </a:lnTo>
                <a:lnTo>
                  <a:pt x="152" y="638"/>
                </a:lnTo>
                <a:lnTo>
                  <a:pt x="154" y="668"/>
                </a:lnTo>
                <a:lnTo>
                  <a:pt x="154" y="698"/>
                </a:lnTo>
                <a:lnTo>
                  <a:pt x="153" y="728"/>
                </a:lnTo>
                <a:lnTo>
                  <a:pt x="149" y="761"/>
                </a:lnTo>
                <a:lnTo>
                  <a:pt x="144" y="794"/>
                </a:lnTo>
                <a:lnTo>
                  <a:pt x="138" y="826"/>
                </a:lnTo>
                <a:lnTo>
                  <a:pt x="131" y="868"/>
                </a:lnTo>
                <a:lnTo>
                  <a:pt x="126" y="911"/>
                </a:lnTo>
                <a:lnTo>
                  <a:pt x="122" y="998"/>
                </a:lnTo>
                <a:lnTo>
                  <a:pt x="120" y="1038"/>
                </a:lnTo>
                <a:lnTo>
                  <a:pt x="118" y="1074"/>
                </a:lnTo>
                <a:lnTo>
                  <a:pt x="115" y="1108"/>
                </a:lnTo>
                <a:lnTo>
                  <a:pt x="113" y="1122"/>
                </a:lnTo>
                <a:lnTo>
                  <a:pt x="110" y="1135"/>
                </a:lnTo>
                <a:lnTo>
                  <a:pt x="102" y="1161"/>
                </a:lnTo>
                <a:lnTo>
                  <a:pt x="94" y="1191"/>
                </a:lnTo>
                <a:lnTo>
                  <a:pt x="91" y="1206"/>
                </a:lnTo>
                <a:lnTo>
                  <a:pt x="90" y="1221"/>
                </a:lnTo>
                <a:lnTo>
                  <a:pt x="91" y="1236"/>
                </a:lnTo>
                <a:lnTo>
                  <a:pt x="96" y="1249"/>
                </a:lnTo>
                <a:lnTo>
                  <a:pt x="102" y="1264"/>
                </a:lnTo>
                <a:lnTo>
                  <a:pt x="108" y="1282"/>
                </a:lnTo>
                <a:lnTo>
                  <a:pt x="115" y="1300"/>
                </a:lnTo>
                <a:lnTo>
                  <a:pt x="123" y="1319"/>
                </a:lnTo>
                <a:lnTo>
                  <a:pt x="131" y="1338"/>
                </a:lnTo>
                <a:lnTo>
                  <a:pt x="139" y="1353"/>
                </a:lnTo>
                <a:lnTo>
                  <a:pt x="147" y="1365"/>
                </a:lnTo>
                <a:lnTo>
                  <a:pt x="155" y="1372"/>
                </a:lnTo>
                <a:lnTo>
                  <a:pt x="164" y="1378"/>
                </a:lnTo>
                <a:lnTo>
                  <a:pt x="175" y="1381"/>
                </a:lnTo>
                <a:lnTo>
                  <a:pt x="198" y="1387"/>
                </a:lnTo>
                <a:lnTo>
                  <a:pt x="210" y="1388"/>
                </a:lnTo>
                <a:lnTo>
                  <a:pt x="220" y="1388"/>
                </a:lnTo>
                <a:lnTo>
                  <a:pt x="229" y="1387"/>
                </a:lnTo>
                <a:lnTo>
                  <a:pt x="235" y="1385"/>
                </a:lnTo>
                <a:lnTo>
                  <a:pt x="235" y="1379"/>
                </a:lnTo>
                <a:lnTo>
                  <a:pt x="234" y="1374"/>
                </a:lnTo>
                <a:lnTo>
                  <a:pt x="229" y="1367"/>
                </a:lnTo>
                <a:lnTo>
                  <a:pt x="220" y="1358"/>
                </a:lnTo>
                <a:lnTo>
                  <a:pt x="215" y="1353"/>
                </a:lnTo>
                <a:lnTo>
                  <a:pt x="212" y="1346"/>
                </a:lnTo>
                <a:lnTo>
                  <a:pt x="204" y="1330"/>
                </a:lnTo>
                <a:lnTo>
                  <a:pt x="196" y="1308"/>
                </a:lnTo>
                <a:lnTo>
                  <a:pt x="194" y="1295"/>
                </a:lnTo>
                <a:lnTo>
                  <a:pt x="192" y="1280"/>
                </a:lnTo>
                <a:lnTo>
                  <a:pt x="193" y="1263"/>
                </a:lnTo>
                <a:lnTo>
                  <a:pt x="195" y="1243"/>
                </a:lnTo>
                <a:lnTo>
                  <a:pt x="199" y="1222"/>
                </a:lnTo>
                <a:lnTo>
                  <a:pt x="204" y="1206"/>
                </a:lnTo>
                <a:lnTo>
                  <a:pt x="210" y="1193"/>
                </a:lnTo>
                <a:lnTo>
                  <a:pt x="215" y="1182"/>
                </a:lnTo>
                <a:lnTo>
                  <a:pt x="230" y="1164"/>
                </a:lnTo>
                <a:lnTo>
                  <a:pt x="237" y="1154"/>
                </a:lnTo>
                <a:lnTo>
                  <a:pt x="247" y="1144"/>
                </a:lnTo>
                <a:lnTo>
                  <a:pt x="255" y="1134"/>
                </a:lnTo>
                <a:lnTo>
                  <a:pt x="263" y="1121"/>
                </a:lnTo>
                <a:lnTo>
                  <a:pt x="275" y="1096"/>
                </a:lnTo>
                <a:lnTo>
                  <a:pt x="283" y="1067"/>
                </a:lnTo>
                <a:lnTo>
                  <a:pt x="291" y="1041"/>
                </a:lnTo>
                <a:lnTo>
                  <a:pt x="296" y="1030"/>
                </a:lnTo>
                <a:lnTo>
                  <a:pt x="302" y="1020"/>
                </a:lnTo>
                <a:lnTo>
                  <a:pt x="309" y="1015"/>
                </a:lnTo>
                <a:lnTo>
                  <a:pt x="317" y="1009"/>
                </a:lnTo>
                <a:lnTo>
                  <a:pt x="332" y="1001"/>
                </a:lnTo>
                <a:lnTo>
                  <a:pt x="347" y="993"/>
                </a:lnTo>
                <a:lnTo>
                  <a:pt x="354" y="986"/>
                </a:lnTo>
                <a:lnTo>
                  <a:pt x="360" y="978"/>
                </a:lnTo>
                <a:lnTo>
                  <a:pt x="374" y="959"/>
                </a:lnTo>
                <a:lnTo>
                  <a:pt x="385" y="938"/>
                </a:lnTo>
                <a:lnTo>
                  <a:pt x="391" y="930"/>
                </a:lnTo>
                <a:lnTo>
                  <a:pt x="396" y="923"/>
                </a:lnTo>
                <a:lnTo>
                  <a:pt x="415" y="891"/>
                </a:lnTo>
                <a:lnTo>
                  <a:pt x="425" y="874"/>
                </a:lnTo>
                <a:lnTo>
                  <a:pt x="434" y="857"/>
                </a:lnTo>
                <a:lnTo>
                  <a:pt x="443" y="841"/>
                </a:lnTo>
                <a:lnTo>
                  <a:pt x="448" y="828"/>
                </a:lnTo>
                <a:lnTo>
                  <a:pt x="455" y="817"/>
                </a:lnTo>
                <a:lnTo>
                  <a:pt x="459" y="810"/>
                </a:lnTo>
                <a:lnTo>
                  <a:pt x="464" y="803"/>
                </a:lnTo>
                <a:lnTo>
                  <a:pt x="468" y="794"/>
                </a:lnTo>
                <a:lnTo>
                  <a:pt x="469" y="785"/>
                </a:lnTo>
                <a:lnTo>
                  <a:pt x="467" y="764"/>
                </a:lnTo>
                <a:lnTo>
                  <a:pt x="466" y="754"/>
                </a:lnTo>
                <a:lnTo>
                  <a:pt x="466" y="746"/>
                </a:lnTo>
                <a:lnTo>
                  <a:pt x="467" y="739"/>
                </a:lnTo>
                <a:lnTo>
                  <a:pt x="470" y="734"/>
                </a:lnTo>
                <a:lnTo>
                  <a:pt x="474" y="731"/>
                </a:lnTo>
                <a:lnTo>
                  <a:pt x="480" y="727"/>
                </a:lnTo>
                <a:lnTo>
                  <a:pt x="491" y="725"/>
                </a:lnTo>
                <a:lnTo>
                  <a:pt x="504" y="723"/>
                </a:lnTo>
                <a:lnTo>
                  <a:pt x="515" y="719"/>
                </a:lnTo>
                <a:lnTo>
                  <a:pt x="520" y="716"/>
                </a:lnTo>
                <a:lnTo>
                  <a:pt x="527" y="712"/>
                </a:lnTo>
                <a:lnTo>
                  <a:pt x="544" y="704"/>
                </a:lnTo>
                <a:lnTo>
                  <a:pt x="560" y="698"/>
                </a:lnTo>
                <a:lnTo>
                  <a:pt x="569" y="696"/>
                </a:lnTo>
                <a:lnTo>
                  <a:pt x="575" y="695"/>
                </a:lnTo>
                <a:lnTo>
                  <a:pt x="588" y="692"/>
                </a:lnTo>
                <a:lnTo>
                  <a:pt x="598" y="683"/>
                </a:lnTo>
                <a:lnTo>
                  <a:pt x="607" y="670"/>
                </a:lnTo>
                <a:lnTo>
                  <a:pt x="615" y="658"/>
                </a:lnTo>
                <a:lnTo>
                  <a:pt x="619" y="647"/>
                </a:lnTo>
                <a:lnTo>
                  <a:pt x="623" y="632"/>
                </a:lnTo>
                <a:lnTo>
                  <a:pt x="629" y="615"/>
                </a:lnTo>
                <a:lnTo>
                  <a:pt x="636" y="596"/>
                </a:lnTo>
                <a:lnTo>
                  <a:pt x="647" y="557"/>
                </a:lnTo>
                <a:lnTo>
                  <a:pt x="651" y="538"/>
                </a:lnTo>
                <a:lnTo>
                  <a:pt x="654" y="525"/>
                </a:lnTo>
                <a:lnTo>
                  <a:pt x="659" y="498"/>
                </a:lnTo>
                <a:lnTo>
                  <a:pt x="664" y="470"/>
                </a:lnTo>
                <a:lnTo>
                  <a:pt x="670" y="441"/>
                </a:lnTo>
                <a:lnTo>
                  <a:pt x="673" y="430"/>
                </a:lnTo>
                <a:lnTo>
                  <a:pt x="676" y="421"/>
                </a:lnTo>
                <a:lnTo>
                  <a:pt x="677" y="411"/>
                </a:lnTo>
                <a:lnTo>
                  <a:pt x="678" y="400"/>
                </a:lnTo>
                <a:lnTo>
                  <a:pt x="674" y="372"/>
                </a:lnTo>
                <a:lnTo>
                  <a:pt x="671" y="360"/>
                </a:lnTo>
                <a:lnTo>
                  <a:pt x="668" y="348"/>
                </a:lnTo>
                <a:lnTo>
                  <a:pt x="663" y="340"/>
                </a:lnTo>
                <a:lnTo>
                  <a:pt x="660" y="336"/>
                </a:lnTo>
                <a:lnTo>
                  <a:pt x="654" y="332"/>
                </a:lnTo>
                <a:lnTo>
                  <a:pt x="646" y="329"/>
                </a:lnTo>
                <a:lnTo>
                  <a:pt x="625" y="320"/>
                </a:lnTo>
                <a:lnTo>
                  <a:pt x="616" y="313"/>
                </a:lnTo>
                <a:lnTo>
                  <a:pt x="607" y="306"/>
                </a:lnTo>
                <a:lnTo>
                  <a:pt x="599" y="299"/>
                </a:lnTo>
                <a:lnTo>
                  <a:pt x="595" y="290"/>
                </a:lnTo>
                <a:lnTo>
                  <a:pt x="589" y="274"/>
                </a:lnTo>
                <a:lnTo>
                  <a:pt x="580" y="262"/>
                </a:lnTo>
                <a:lnTo>
                  <a:pt x="569" y="254"/>
                </a:lnTo>
                <a:lnTo>
                  <a:pt x="558" y="252"/>
                </a:lnTo>
                <a:lnTo>
                  <a:pt x="543" y="252"/>
                </a:lnTo>
                <a:lnTo>
                  <a:pt x="522" y="250"/>
                </a:lnTo>
                <a:lnTo>
                  <a:pt x="512" y="248"/>
                </a:lnTo>
                <a:lnTo>
                  <a:pt x="503" y="244"/>
                </a:lnTo>
                <a:lnTo>
                  <a:pt x="496" y="238"/>
                </a:lnTo>
                <a:lnTo>
                  <a:pt x="490" y="230"/>
                </a:lnTo>
                <a:lnTo>
                  <a:pt x="485" y="220"/>
                </a:lnTo>
                <a:lnTo>
                  <a:pt x="479" y="208"/>
                </a:lnTo>
                <a:lnTo>
                  <a:pt x="464" y="181"/>
                </a:lnTo>
                <a:lnTo>
                  <a:pt x="451" y="156"/>
                </a:lnTo>
                <a:lnTo>
                  <a:pt x="445" y="147"/>
                </a:lnTo>
                <a:lnTo>
                  <a:pt x="439" y="140"/>
                </a:lnTo>
                <a:lnTo>
                  <a:pt x="435" y="137"/>
                </a:lnTo>
                <a:lnTo>
                  <a:pt x="429" y="132"/>
                </a:lnTo>
                <a:lnTo>
                  <a:pt x="422" y="125"/>
                </a:lnTo>
                <a:lnTo>
                  <a:pt x="414" y="118"/>
                </a:lnTo>
                <a:lnTo>
                  <a:pt x="394" y="103"/>
                </a:lnTo>
                <a:lnTo>
                  <a:pt x="371" y="86"/>
                </a:lnTo>
                <a:lnTo>
                  <a:pt x="345" y="69"/>
                </a:lnTo>
                <a:lnTo>
                  <a:pt x="319" y="54"/>
                </a:lnTo>
                <a:lnTo>
                  <a:pt x="293" y="44"/>
                </a:lnTo>
                <a:lnTo>
                  <a:pt x="282" y="40"/>
                </a:lnTo>
                <a:lnTo>
                  <a:pt x="270" y="38"/>
                </a:lnTo>
                <a:lnTo>
                  <a:pt x="249" y="36"/>
                </a:lnTo>
                <a:lnTo>
                  <a:pt x="230" y="33"/>
                </a:lnTo>
                <a:lnTo>
                  <a:pt x="212" y="31"/>
                </a:lnTo>
                <a:lnTo>
                  <a:pt x="198" y="29"/>
                </a:lnTo>
                <a:lnTo>
                  <a:pt x="186" y="28"/>
                </a:lnTo>
                <a:lnTo>
                  <a:pt x="176" y="27"/>
                </a:lnTo>
                <a:lnTo>
                  <a:pt x="156" y="27"/>
                </a:lnTo>
                <a:lnTo>
                  <a:pt x="146" y="22"/>
                </a:lnTo>
                <a:lnTo>
                  <a:pt x="137" y="14"/>
                </a:lnTo>
                <a:lnTo>
                  <a:pt x="129" y="5"/>
                </a:lnTo>
                <a:lnTo>
                  <a:pt x="122" y="0"/>
                </a:lnTo>
                <a:lnTo>
                  <a:pt x="112" y="0"/>
                </a:lnTo>
                <a:lnTo>
                  <a:pt x="102" y="4"/>
                </a:lnTo>
                <a:lnTo>
                  <a:pt x="92" y="9"/>
                </a:lnTo>
                <a:lnTo>
                  <a:pt x="83" y="21"/>
                </a:lnTo>
                <a:lnTo>
                  <a:pt x="73" y="35"/>
                </a:lnTo>
                <a:lnTo>
                  <a:pt x="64" y="48"/>
                </a:lnTo>
                <a:lnTo>
                  <a:pt x="59" y="54"/>
                </a:lnTo>
                <a:lnTo>
                  <a:pt x="55" y="57"/>
                </a:lnTo>
                <a:lnTo>
                  <a:pt x="44" y="65"/>
                </a:lnTo>
                <a:lnTo>
                  <a:pt x="34" y="72"/>
                </a:lnTo>
                <a:lnTo>
                  <a:pt x="27" y="80"/>
                </a:lnTo>
                <a:lnTo>
                  <a:pt x="22" y="88"/>
                </a:lnTo>
                <a:lnTo>
                  <a:pt x="20" y="88"/>
                </a:lnTo>
                <a:lnTo>
                  <a:pt x="22" y="88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0080" y="1490760"/>
            <a:ext cx="2732040" cy="2473200"/>
          </a:xfrm>
          <a:custGeom>
            <a:avLst/>
            <a:gdLst/>
            <a:ahLst/>
            <a:rect l="l" t="t" r="r" b="b"/>
            <a:pathLst>
              <a:path w="1721" h="1558">
                <a:moveTo>
                  <a:pt x="1257" y="1133"/>
                </a:moveTo>
                <a:lnTo>
                  <a:pt x="1249" y="1136"/>
                </a:lnTo>
                <a:lnTo>
                  <a:pt x="1242" y="1135"/>
                </a:lnTo>
                <a:lnTo>
                  <a:pt x="1236" y="1131"/>
                </a:lnTo>
                <a:lnTo>
                  <a:pt x="1229" y="1127"/>
                </a:lnTo>
                <a:lnTo>
                  <a:pt x="1223" y="1123"/>
                </a:lnTo>
                <a:lnTo>
                  <a:pt x="1216" y="1121"/>
                </a:lnTo>
                <a:lnTo>
                  <a:pt x="1209" y="1123"/>
                </a:lnTo>
                <a:lnTo>
                  <a:pt x="1200" y="1130"/>
                </a:lnTo>
                <a:lnTo>
                  <a:pt x="1192" y="1138"/>
                </a:lnTo>
                <a:lnTo>
                  <a:pt x="1187" y="1145"/>
                </a:lnTo>
                <a:lnTo>
                  <a:pt x="1176" y="1153"/>
                </a:lnTo>
                <a:lnTo>
                  <a:pt x="1165" y="1158"/>
                </a:lnTo>
                <a:lnTo>
                  <a:pt x="1158" y="1160"/>
                </a:lnTo>
                <a:lnTo>
                  <a:pt x="1151" y="1161"/>
                </a:lnTo>
                <a:lnTo>
                  <a:pt x="1132" y="1160"/>
                </a:lnTo>
                <a:lnTo>
                  <a:pt x="1121" y="1160"/>
                </a:lnTo>
                <a:lnTo>
                  <a:pt x="1111" y="1161"/>
                </a:lnTo>
                <a:lnTo>
                  <a:pt x="1101" y="1167"/>
                </a:lnTo>
                <a:lnTo>
                  <a:pt x="1093" y="1177"/>
                </a:lnTo>
                <a:lnTo>
                  <a:pt x="1088" y="1185"/>
                </a:lnTo>
                <a:lnTo>
                  <a:pt x="1085" y="1196"/>
                </a:lnTo>
                <a:lnTo>
                  <a:pt x="1082" y="1207"/>
                </a:lnTo>
                <a:lnTo>
                  <a:pt x="1080" y="1222"/>
                </a:lnTo>
                <a:lnTo>
                  <a:pt x="1078" y="1237"/>
                </a:lnTo>
                <a:lnTo>
                  <a:pt x="1078" y="1251"/>
                </a:lnTo>
                <a:lnTo>
                  <a:pt x="1079" y="1263"/>
                </a:lnTo>
                <a:lnTo>
                  <a:pt x="1081" y="1276"/>
                </a:lnTo>
                <a:lnTo>
                  <a:pt x="1087" y="1295"/>
                </a:lnTo>
                <a:lnTo>
                  <a:pt x="1098" y="1311"/>
                </a:lnTo>
                <a:lnTo>
                  <a:pt x="1108" y="1324"/>
                </a:lnTo>
                <a:lnTo>
                  <a:pt x="1119" y="1334"/>
                </a:lnTo>
                <a:lnTo>
                  <a:pt x="1131" y="1340"/>
                </a:lnTo>
                <a:lnTo>
                  <a:pt x="1140" y="1344"/>
                </a:lnTo>
                <a:lnTo>
                  <a:pt x="1148" y="1346"/>
                </a:lnTo>
                <a:lnTo>
                  <a:pt x="1157" y="1342"/>
                </a:lnTo>
                <a:lnTo>
                  <a:pt x="1166" y="1338"/>
                </a:lnTo>
                <a:lnTo>
                  <a:pt x="1176" y="1329"/>
                </a:lnTo>
                <a:lnTo>
                  <a:pt x="1194" y="1311"/>
                </a:lnTo>
                <a:lnTo>
                  <a:pt x="1211" y="1292"/>
                </a:lnTo>
                <a:lnTo>
                  <a:pt x="1215" y="1288"/>
                </a:lnTo>
                <a:lnTo>
                  <a:pt x="1218" y="1287"/>
                </a:lnTo>
                <a:lnTo>
                  <a:pt x="1221" y="1287"/>
                </a:lnTo>
                <a:lnTo>
                  <a:pt x="1224" y="1288"/>
                </a:lnTo>
                <a:lnTo>
                  <a:pt x="1227" y="1296"/>
                </a:lnTo>
                <a:lnTo>
                  <a:pt x="1230" y="1307"/>
                </a:lnTo>
                <a:lnTo>
                  <a:pt x="1231" y="1320"/>
                </a:lnTo>
                <a:lnTo>
                  <a:pt x="1230" y="1334"/>
                </a:lnTo>
                <a:lnTo>
                  <a:pt x="1227" y="1348"/>
                </a:lnTo>
                <a:lnTo>
                  <a:pt x="1224" y="1358"/>
                </a:lnTo>
                <a:lnTo>
                  <a:pt x="1220" y="1366"/>
                </a:lnTo>
                <a:lnTo>
                  <a:pt x="1218" y="1373"/>
                </a:lnTo>
                <a:lnTo>
                  <a:pt x="1219" y="1379"/>
                </a:lnTo>
                <a:lnTo>
                  <a:pt x="1222" y="1383"/>
                </a:lnTo>
                <a:lnTo>
                  <a:pt x="1226" y="1386"/>
                </a:lnTo>
                <a:lnTo>
                  <a:pt x="1231" y="1389"/>
                </a:lnTo>
                <a:lnTo>
                  <a:pt x="1244" y="1391"/>
                </a:lnTo>
                <a:lnTo>
                  <a:pt x="1257" y="1397"/>
                </a:lnTo>
                <a:lnTo>
                  <a:pt x="1271" y="1408"/>
                </a:lnTo>
                <a:lnTo>
                  <a:pt x="1277" y="1416"/>
                </a:lnTo>
                <a:lnTo>
                  <a:pt x="1282" y="1427"/>
                </a:lnTo>
                <a:lnTo>
                  <a:pt x="1286" y="1436"/>
                </a:lnTo>
                <a:lnTo>
                  <a:pt x="1289" y="1450"/>
                </a:lnTo>
                <a:lnTo>
                  <a:pt x="1290" y="1464"/>
                </a:lnTo>
                <a:lnTo>
                  <a:pt x="1291" y="1474"/>
                </a:lnTo>
                <a:lnTo>
                  <a:pt x="1293" y="1492"/>
                </a:lnTo>
                <a:lnTo>
                  <a:pt x="1296" y="1505"/>
                </a:lnTo>
                <a:lnTo>
                  <a:pt x="1303" y="1517"/>
                </a:lnTo>
                <a:lnTo>
                  <a:pt x="1306" y="1521"/>
                </a:lnTo>
                <a:lnTo>
                  <a:pt x="1311" y="1523"/>
                </a:lnTo>
                <a:lnTo>
                  <a:pt x="1323" y="1528"/>
                </a:lnTo>
                <a:lnTo>
                  <a:pt x="1336" y="1530"/>
                </a:lnTo>
                <a:lnTo>
                  <a:pt x="1347" y="1531"/>
                </a:lnTo>
                <a:lnTo>
                  <a:pt x="1356" y="1531"/>
                </a:lnTo>
                <a:lnTo>
                  <a:pt x="1362" y="1530"/>
                </a:lnTo>
                <a:lnTo>
                  <a:pt x="1364" y="1530"/>
                </a:lnTo>
                <a:lnTo>
                  <a:pt x="1363" y="1531"/>
                </a:lnTo>
                <a:lnTo>
                  <a:pt x="1361" y="1538"/>
                </a:lnTo>
                <a:lnTo>
                  <a:pt x="1356" y="1547"/>
                </a:lnTo>
                <a:lnTo>
                  <a:pt x="1350" y="1554"/>
                </a:lnTo>
                <a:lnTo>
                  <a:pt x="1346" y="1556"/>
                </a:lnTo>
                <a:lnTo>
                  <a:pt x="1341" y="1557"/>
                </a:lnTo>
                <a:lnTo>
                  <a:pt x="1334" y="1557"/>
                </a:lnTo>
                <a:lnTo>
                  <a:pt x="1324" y="1556"/>
                </a:lnTo>
                <a:lnTo>
                  <a:pt x="1302" y="1552"/>
                </a:lnTo>
                <a:lnTo>
                  <a:pt x="1292" y="1548"/>
                </a:lnTo>
                <a:lnTo>
                  <a:pt x="1284" y="1545"/>
                </a:lnTo>
                <a:lnTo>
                  <a:pt x="1277" y="1541"/>
                </a:lnTo>
                <a:lnTo>
                  <a:pt x="1273" y="1538"/>
                </a:lnTo>
                <a:lnTo>
                  <a:pt x="1266" y="1530"/>
                </a:lnTo>
                <a:lnTo>
                  <a:pt x="1255" y="1522"/>
                </a:lnTo>
                <a:lnTo>
                  <a:pt x="1242" y="1513"/>
                </a:lnTo>
                <a:lnTo>
                  <a:pt x="1226" y="1500"/>
                </a:lnTo>
                <a:lnTo>
                  <a:pt x="1213" y="1486"/>
                </a:lnTo>
                <a:lnTo>
                  <a:pt x="1205" y="1475"/>
                </a:lnTo>
                <a:lnTo>
                  <a:pt x="1192" y="1457"/>
                </a:lnTo>
                <a:lnTo>
                  <a:pt x="1185" y="1450"/>
                </a:lnTo>
                <a:lnTo>
                  <a:pt x="1176" y="1443"/>
                </a:lnTo>
                <a:lnTo>
                  <a:pt x="1164" y="1435"/>
                </a:lnTo>
                <a:lnTo>
                  <a:pt x="1156" y="1431"/>
                </a:lnTo>
                <a:lnTo>
                  <a:pt x="1147" y="1427"/>
                </a:lnTo>
                <a:lnTo>
                  <a:pt x="1118" y="1414"/>
                </a:lnTo>
                <a:lnTo>
                  <a:pt x="1091" y="1400"/>
                </a:lnTo>
                <a:lnTo>
                  <a:pt x="1065" y="1389"/>
                </a:lnTo>
                <a:lnTo>
                  <a:pt x="1044" y="1380"/>
                </a:lnTo>
                <a:lnTo>
                  <a:pt x="1033" y="1373"/>
                </a:lnTo>
                <a:lnTo>
                  <a:pt x="1023" y="1363"/>
                </a:lnTo>
                <a:lnTo>
                  <a:pt x="1003" y="1336"/>
                </a:lnTo>
                <a:lnTo>
                  <a:pt x="993" y="1324"/>
                </a:lnTo>
                <a:lnTo>
                  <a:pt x="984" y="1311"/>
                </a:lnTo>
                <a:lnTo>
                  <a:pt x="972" y="1296"/>
                </a:lnTo>
                <a:lnTo>
                  <a:pt x="963" y="1284"/>
                </a:lnTo>
                <a:lnTo>
                  <a:pt x="958" y="1277"/>
                </a:lnTo>
                <a:lnTo>
                  <a:pt x="954" y="1269"/>
                </a:lnTo>
                <a:lnTo>
                  <a:pt x="941" y="1254"/>
                </a:lnTo>
                <a:lnTo>
                  <a:pt x="933" y="1249"/>
                </a:lnTo>
                <a:lnTo>
                  <a:pt x="924" y="1246"/>
                </a:lnTo>
                <a:lnTo>
                  <a:pt x="914" y="1245"/>
                </a:lnTo>
                <a:lnTo>
                  <a:pt x="902" y="1241"/>
                </a:lnTo>
                <a:lnTo>
                  <a:pt x="877" y="1230"/>
                </a:lnTo>
                <a:lnTo>
                  <a:pt x="851" y="1213"/>
                </a:lnTo>
                <a:lnTo>
                  <a:pt x="840" y="1202"/>
                </a:lnTo>
                <a:lnTo>
                  <a:pt x="830" y="1191"/>
                </a:lnTo>
                <a:lnTo>
                  <a:pt x="820" y="1178"/>
                </a:lnTo>
                <a:lnTo>
                  <a:pt x="811" y="1167"/>
                </a:lnTo>
                <a:lnTo>
                  <a:pt x="794" y="1144"/>
                </a:lnTo>
                <a:lnTo>
                  <a:pt x="780" y="1123"/>
                </a:lnTo>
                <a:lnTo>
                  <a:pt x="775" y="1112"/>
                </a:lnTo>
                <a:lnTo>
                  <a:pt x="773" y="1102"/>
                </a:lnTo>
                <a:lnTo>
                  <a:pt x="760" y="1057"/>
                </a:lnTo>
                <a:lnTo>
                  <a:pt x="754" y="1036"/>
                </a:lnTo>
                <a:lnTo>
                  <a:pt x="749" y="1018"/>
                </a:lnTo>
                <a:lnTo>
                  <a:pt x="744" y="1009"/>
                </a:lnTo>
                <a:lnTo>
                  <a:pt x="737" y="1000"/>
                </a:lnTo>
                <a:lnTo>
                  <a:pt x="727" y="989"/>
                </a:lnTo>
                <a:lnTo>
                  <a:pt x="717" y="977"/>
                </a:lnTo>
                <a:lnTo>
                  <a:pt x="693" y="951"/>
                </a:lnTo>
                <a:lnTo>
                  <a:pt x="683" y="936"/>
                </a:lnTo>
                <a:lnTo>
                  <a:pt x="675" y="921"/>
                </a:lnTo>
                <a:lnTo>
                  <a:pt x="670" y="906"/>
                </a:lnTo>
                <a:lnTo>
                  <a:pt x="668" y="887"/>
                </a:lnTo>
                <a:lnTo>
                  <a:pt x="668" y="869"/>
                </a:lnTo>
                <a:lnTo>
                  <a:pt x="669" y="851"/>
                </a:lnTo>
                <a:lnTo>
                  <a:pt x="672" y="834"/>
                </a:lnTo>
                <a:lnTo>
                  <a:pt x="675" y="819"/>
                </a:lnTo>
                <a:lnTo>
                  <a:pt x="678" y="806"/>
                </a:lnTo>
                <a:lnTo>
                  <a:pt x="681" y="797"/>
                </a:lnTo>
                <a:lnTo>
                  <a:pt x="683" y="788"/>
                </a:lnTo>
                <a:lnTo>
                  <a:pt x="684" y="775"/>
                </a:lnTo>
                <a:lnTo>
                  <a:pt x="685" y="759"/>
                </a:lnTo>
                <a:lnTo>
                  <a:pt x="685" y="743"/>
                </a:lnTo>
                <a:lnTo>
                  <a:pt x="682" y="707"/>
                </a:lnTo>
                <a:lnTo>
                  <a:pt x="675" y="671"/>
                </a:lnTo>
                <a:lnTo>
                  <a:pt x="671" y="657"/>
                </a:lnTo>
                <a:lnTo>
                  <a:pt x="668" y="648"/>
                </a:lnTo>
                <a:lnTo>
                  <a:pt x="664" y="641"/>
                </a:lnTo>
                <a:lnTo>
                  <a:pt x="660" y="634"/>
                </a:lnTo>
                <a:lnTo>
                  <a:pt x="650" y="624"/>
                </a:lnTo>
                <a:lnTo>
                  <a:pt x="644" y="617"/>
                </a:lnTo>
                <a:lnTo>
                  <a:pt x="635" y="610"/>
                </a:lnTo>
                <a:lnTo>
                  <a:pt x="627" y="602"/>
                </a:lnTo>
                <a:lnTo>
                  <a:pt x="621" y="594"/>
                </a:lnTo>
                <a:lnTo>
                  <a:pt x="611" y="577"/>
                </a:lnTo>
                <a:lnTo>
                  <a:pt x="604" y="560"/>
                </a:lnTo>
                <a:lnTo>
                  <a:pt x="599" y="541"/>
                </a:lnTo>
                <a:lnTo>
                  <a:pt x="596" y="530"/>
                </a:lnTo>
                <a:lnTo>
                  <a:pt x="593" y="521"/>
                </a:lnTo>
                <a:lnTo>
                  <a:pt x="586" y="513"/>
                </a:lnTo>
                <a:lnTo>
                  <a:pt x="579" y="506"/>
                </a:lnTo>
                <a:lnTo>
                  <a:pt x="571" y="501"/>
                </a:lnTo>
                <a:lnTo>
                  <a:pt x="563" y="498"/>
                </a:lnTo>
                <a:lnTo>
                  <a:pt x="556" y="497"/>
                </a:lnTo>
                <a:lnTo>
                  <a:pt x="548" y="498"/>
                </a:lnTo>
                <a:lnTo>
                  <a:pt x="541" y="499"/>
                </a:lnTo>
                <a:lnTo>
                  <a:pt x="531" y="497"/>
                </a:lnTo>
                <a:lnTo>
                  <a:pt x="521" y="494"/>
                </a:lnTo>
                <a:lnTo>
                  <a:pt x="510" y="489"/>
                </a:lnTo>
                <a:lnTo>
                  <a:pt x="487" y="477"/>
                </a:lnTo>
                <a:lnTo>
                  <a:pt x="468" y="465"/>
                </a:lnTo>
                <a:lnTo>
                  <a:pt x="460" y="459"/>
                </a:lnTo>
                <a:lnTo>
                  <a:pt x="453" y="455"/>
                </a:lnTo>
                <a:lnTo>
                  <a:pt x="443" y="448"/>
                </a:lnTo>
                <a:lnTo>
                  <a:pt x="432" y="442"/>
                </a:lnTo>
                <a:lnTo>
                  <a:pt x="417" y="436"/>
                </a:lnTo>
                <a:lnTo>
                  <a:pt x="398" y="434"/>
                </a:lnTo>
                <a:lnTo>
                  <a:pt x="379" y="434"/>
                </a:lnTo>
                <a:lnTo>
                  <a:pt x="358" y="432"/>
                </a:lnTo>
                <a:lnTo>
                  <a:pt x="347" y="428"/>
                </a:lnTo>
                <a:lnTo>
                  <a:pt x="336" y="422"/>
                </a:lnTo>
                <a:lnTo>
                  <a:pt x="325" y="415"/>
                </a:lnTo>
                <a:lnTo>
                  <a:pt x="316" y="410"/>
                </a:lnTo>
                <a:lnTo>
                  <a:pt x="306" y="407"/>
                </a:lnTo>
                <a:lnTo>
                  <a:pt x="294" y="404"/>
                </a:lnTo>
                <a:lnTo>
                  <a:pt x="283" y="403"/>
                </a:lnTo>
                <a:lnTo>
                  <a:pt x="270" y="404"/>
                </a:lnTo>
                <a:lnTo>
                  <a:pt x="255" y="406"/>
                </a:lnTo>
                <a:lnTo>
                  <a:pt x="239" y="408"/>
                </a:lnTo>
                <a:lnTo>
                  <a:pt x="231" y="410"/>
                </a:lnTo>
                <a:lnTo>
                  <a:pt x="223" y="414"/>
                </a:lnTo>
                <a:lnTo>
                  <a:pt x="209" y="426"/>
                </a:lnTo>
                <a:lnTo>
                  <a:pt x="196" y="441"/>
                </a:lnTo>
                <a:lnTo>
                  <a:pt x="184" y="458"/>
                </a:lnTo>
                <a:lnTo>
                  <a:pt x="173" y="474"/>
                </a:lnTo>
                <a:lnTo>
                  <a:pt x="161" y="488"/>
                </a:lnTo>
                <a:lnTo>
                  <a:pt x="148" y="497"/>
                </a:lnTo>
                <a:lnTo>
                  <a:pt x="142" y="498"/>
                </a:lnTo>
                <a:lnTo>
                  <a:pt x="134" y="498"/>
                </a:lnTo>
                <a:lnTo>
                  <a:pt x="125" y="496"/>
                </a:lnTo>
                <a:lnTo>
                  <a:pt x="118" y="493"/>
                </a:lnTo>
                <a:lnTo>
                  <a:pt x="109" y="482"/>
                </a:lnTo>
                <a:lnTo>
                  <a:pt x="107" y="475"/>
                </a:lnTo>
                <a:lnTo>
                  <a:pt x="103" y="470"/>
                </a:lnTo>
                <a:lnTo>
                  <a:pt x="98" y="464"/>
                </a:lnTo>
                <a:lnTo>
                  <a:pt x="91" y="458"/>
                </a:lnTo>
                <a:lnTo>
                  <a:pt x="83" y="451"/>
                </a:lnTo>
                <a:lnTo>
                  <a:pt x="76" y="441"/>
                </a:lnTo>
                <a:lnTo>
                  <a:pt x="72" y="428"/>
                </a:lnTo>
                <a:lnTo>
                  <a:pt x="69" y="414"/>
                </a:lnTo>
                <a:lnTo>
                  <a:pt x="69" y="396"/>
                </a:lnTo>
                <a:lnTo>
                  <a:pt x="70" y="379"/>
                </a:lnTo>
                <a:lnTo>
                  <a:pt x="73" y="360"/>
                </a:lnTo>
                <a:lnTo>
                  <a:pt x="78" y="339"/>
                </a:lnTo>
                <a:lnTo>
                  <a:pt x="81" y="328"/>
                </a:lnTo>
                <a:lnTo>
                  <a:pt x="82" y="318"/>
                </a:lnTo>
                <a:lnTo>
                  <a:pt x="82" y="310"/>
                </a:lnTo>
                <a:lnTo>
                  <a:pt x="81" y="305"/>
                </a:lnTo>
                <a:lnTo>
                  <a:pt x="78" y="299"/>
                </a:lnTo>
                <a:lnTo>
                  <a:pt x="74" y="296"/>
                </a:lnTo>
                <a:lnTo>
                  <a:pt x="65" y="291"/>
                </a:lnTo>
                <a:lnTo>
                  <a:pt x="52" y="288"/>
                </a:lnTo>
                <a:lnTo>
                  <a:pt x="37" y="284"/>
                </a:lnTo>
                <a:lnTo>
                  <a:pt x="23" y="278"/>
                </a:lnTo>
                <a:lnTo>
                  <a:pt x="9" y="270"/>
                </a:lnTo>
                <a:lnTo>
                  <a:pt x="4" y="265"/>
                </a:lnTo>
                <a:lnTo>
                  <a:pt x="1" y="257"/>
                </a:lnTo>
                <a:lnTo>
                  <a:pt x="0" y="248"/>
                </a:lnTo>
                <a:lnTo>
                  <a:pt x="1" y="238"/>
                </a:lnTo>
                <a:lnTo>
                  <a:pt x="3" y="228"/>
                </a:lnTo>
                <a:lnTo>
                  <a:pt x="7" y="217"/>
                </a:lnTo>
                <a:lnTo>
                  <a:pt x="18" y="194"/>
                </a:lnTo>
                <a:lnTo>
                  <a:pt x="33" y="171"/>
                </a:lnTo>
                <a:lnTo>
                  <a:pt x="49" y="149"/>
                </a:lnTo>
                <a:lnTo>
                  <a:pt x="64" y="131"/>
                </a:lnTo>
                <a:lnTo>
                  <a:pt x="72" y="125"/>
                </a:lnTo>
                <a:lnTo>
                  <a:pt x="78" y="119"/>
                </a:lnTo>
                <a:lnTo>
                  <a:pt x="91" y="108"/>
                </a:lnTo>
                <a:lnTo>
                  <a:pt x="103" y="94"/>
                </a:lnTo>
                <a:lnTo>
                  <a:pt x="116" y="81"/>
                </a:lnTo>
                <a:lnTo>
                  <a:pt x="132" y="70"/>
                </a:lnTo>
                <a:lnTo>
                  <a:pt x="142" y="65"/>
                </a:lnTo>
                <a:lnTo>
                  <a:pt x="151" y="61"/>
                </a:lnTo>
                <a:lnTo>
                  <a:pt x="164" y="57"/>
                </a:lnTo>
                <a:lnTo>
                  <a:pt x="179" y="56"/>
                </a:lnTo>
                <a:lnTo>
                  <a:pt x="196" y="55"/>
                </a:lnTo>
                <a:lnTo>
                  <a:pt x="215" y="56"/>
                </a:lnTo>
                <a:lnTo>
                  <a:pt x="236" y="57"/>
                </a:lnTo>
                <a:lnTo>
                  <a:pt x="261" y="62"/>
                </a:lnTo>
                <a:lnTo>
                  <a:pt x="283" y="77"/>
                </a:lnTo>
                <a:lnTo>
                  <a:pt x="301" y="87"/>
                </a:lnTo>
                <a:lnTo>
                  <a:pt x="316" y="95"/>
                </a:lnTo>
                <a:lnTo>
                  <a:pt x="330" y="101"/>
                </a:lnTo>
                <a:lnTo>
                  <a:pt x="342" y="105"/>
                </a:lnTo>
                <a:lnTo>
                  <a:pt x="352" y="108"/>
                </a:lnTo>
                <a:lnTo>
                  <a:pt x="362" y="110"/>
                </a:lnTo>
                <a:lnTo>
                  <a:pt x="372" y="113"/>
                </a:lnTo>
                <a:lnTo>
                  <a:pt x="378" y="116"/>
                </a:lnTo>
                <a:lnTo>
                  <a:pt x="384" y="118"/>
                </a:lnTo>
                <a:lnTo>
                  <a:pt x="402" y="123"/>
                </a:lnTo>
                <a:lnTo>
                  <a:pt x="423" y="127"/>
                </a:lnTo>
                <a:lnTo>
                  <a:pt x="446" y="130"/>
                </a:lnTo>
                <a:lnTo>
                  <a:pt x="469" y="132"/>
                </a:lnTo>
                <a:lnTo>
                  <a:pt x="490" y="133"/>
                </a:lnTo>
                <a:lnTo>
                  <a:pt x="516" y="133"/>
                </a:lnTo>
                <a:lnTo>
                  <a:pt x="523" y="132"/>
                </a:lnTo>
                <a:lnTo>
                  <a:pt x="536" y="130"/>
                </a:lnTo>
                <a:lnTo>
                  <a:pt x="554" y="130"/>
                </a:lnTo>
                <a:lnTo>
                  <a:pt x="595" y="130"/>
                </a:lnTo>
                <a:lnTo>
                  <a:pt x="617" y="130"/>
                </a:lnTo>
                <a:lnTo>
                  <a:pt x="636" y="131"/>
                </a:lnTo>
                <a:lnTo>
                  <a:pt x="653" y="132"/>
                </a:lnTo>
                <a:lnTo>
                  <a:pt x="674" y="132"/>
                </a:lnTo>
                <a:lnTo>
                  <a:pt x="686" y="134"/>
                </a:lnTo>
                <a:lnTo>
                  <a:pt x="711" y="140"/>
                </a:lnTo>
                <a:lnTo>
                  <a:pt x="737" y="148"/>
                </a:lnTo>
                <a:lnTo>
                  <a:pt x="760" y="156"/>
                </a:lnTo>
                <a:lnTo>
                  <a:pt x="767" y="158"/>
                </a:lnTo>
                <a:lnTo>
                  <a:pt x="775" y="159"/>
                </a:lnTo>
                <a:lnTo>
                  <a:pt x="794" y="165"/>
                </a:lnTo>
                <a:lnTo>
                  <a:pt x="816" y="170"/>
                </a:lnTo>
                <a:lnTo>
                  <a:pt x="840" y="175"/>
                </a:lnTo>
                <a:lnTo>
                  <a:pt x="865" y="180"/>
                </a:lnTo>
                <a:lnTo>
                  <a:pt x="886" y="183"/>
                </a:lnTo>
                <a:lnTo>
                  <a:pt x="905" y="186"/>
                </a:lnTo>
                <a:lnTo>
                  <a:pt x="913" y="187"/>
                </a:lnTo>
                <a:lnTo>
                  <a:pt x="933" y="187"/>
                </a:lnTo>
                <a:lnTo>
                  <a:pt x="952" y="186"/>
                </a:lnTo>
                <a:lnTo>
                  <a:pt x="974" y="185"/>
                </a:lnTo>
                <a:lnTo>
                  <a:pt x="999" y="182"/>
                </a:lnTo>
                <a:lnTo>
                  <a:pt x="1024" y="179"/>
                </a:lnTo>
                <a:lnTo>
                  <a:pt x="1047" y="174"/>
                </a:lnTo>
                <a:lnTo>
                  <a:pt x="1068" y="170"/>
                </a:lnTo>
                <a:lnTo>
                  <a:pt x="1085" y="163"/>
                </a:lnTo>
                <a:lnTo>
                  <a:pt x="1098" y="155"/>
                </a:lnTo>
                <a:lnTo>
                  <a:pt x="1107" y="149"/>
                </a:lnTo>
                <a:lnTo>
                  <a:pt x="1115" y="142"/>
                </a:lnTo>
                <a:lnTo>
                  <a:pt x="1119" y="138"/>
                </a:lnTo>
                <a:lnTo>
                  <a:pt x="1122" y="133"/>
                </a:lnTo>
                <a:lnTo>
                  <a:pt x="1124" y="128"/>
                </a:lnTo>
                <a:lnTo>
                  <a:pt x="1125" y="119"/>
                </a:lnTo>
                <a:lnTo>
                  <a:pt x="1124" y="113"/>
                </a:lnTo>
                <a:lnTo>
                  <a:pt x="1120" y="107"/>
                </a:lnTo>
                <a:lnTo>
                  <a:pt x="1110" y="93"/>
                </a:lnTo>
                <a:lnTo>
                  <a:pt x="1099" y="78"/>
                </a:lnTo>
                <a:lnTo>
                  <a:pt x="1094" y="72"/>
                </a:lnTo>
                <a:lnTo>
                  <a:pt x="1091" y="67"/>
                </a:lnTo>
                <a:lnTo>
                  <a:pt x="1090" y="61"/>
                </a:lnTo>
                <a:lnTo>
                  <a:pt x="1090" y="53"/>
                </a:lnTo>
                <a:lnTo>
                  <a:pt x="1094" y="37"/>
                </a:lnTo>
                <a:lnTo>
                  <a:pt x="1101" y="21"/>
                </a:lnTo>
                <a:lnTo>
                  <a:pt x="1111" y="7"/>
                </a:lnTo>
                <a:lnTo>
                  <a:pt x="1117" y="2"/>
                </a:lnTo>
                <a:lnTo>
                  <a:pt x="1123" y="0"/>
                </a:lnTo>
                <a:lnTo>
                  <a:pt x="1130" y="1"/>
                </a:lnTo>
                <a:lnTo>
                  <a:pt x="1137" y="4"/>
                </a:lnTo>
                <a:lnTo>
                  <a:pt x="1153" y="13"/>
                </a:lnTo>
                <a:lnTo>
                  <a:pt x="1168" y="21"/>
                </a:lnTo>
                <a:lnTo>
                  <a:pt x="1174" y="25"/>
                </a:lnTo>
                <a:lnTo>
                  <a:pt x="1178" y="32"/>
                </a:lnTo>
                <a:lnTo>
                  <a:pt x="1180" y="39"/>
                </a:lnTo>
                <a:lnTo>
                  <a:pt x="1181" y="47"/>
                </a:lnTo>
                <a:lnTo>
                  <a:pt x="1180" y="63"/>
                </a:lnTo>
                <a:lnTo>
                  <a:pt x="1180" y="76"/>
                </a:lnTo>
                <a:lnTo>
                  <a:pt x="1182" y="83"/>
                </a:lnTo>
                <a:lnTo>
                  <a:pt x="1185" y="89"/>
                </a:lnTo>
                <a:lnTo>
                  <a:pt x="1190" y="97"/>
                </a:lnTo>
                <a:lnTo>
                  <a:pt x="1196" y="105"/>
                </a:lnTo>
                <a:lnTo>
                  <a:pt x="1204" y="113"/>
                </a:lnTo>
                <a:lnTo>
                  <a:pt x="1212" y="118"/>
                </a:lnTo>
                <a:lnTo>
                  <a:pt x="1221" y="121"/>
                </a:lnTo>
                <a:lnTo>
                  <a:pt x="1242" y="121"/>
                </a:lnTo>
                <a:lnTo>
                  <a:pt x="1253" y="124"/>
                </a:lnTo>
                <a:lnTo>
                  <a:pt x="1274" y="130"/>
                </a:lnTo>
                <a:lnTo>
                  <a:pt x="1295" y="137"/>
                </a:lnTo>
                <a:lnTo>
                  <a:pt x="1317" y="141"/>
                </a:lnTo>
                <a:lnTo>
                  <a:pt x="1328" y="142"/>
                </a:lnTo>
                <a:lnTo>
                  <a:pt x="1335" y="145"/>
                </a:lnTo>
                <a:lnTo>
                  <a:pt x="1340" y="147"/>
                </a:lnTo>
                <a:lnTo>
                  <a:pt x="1343" y="149"/>
                </a:lnTo>
                <a:lnTo>
                  <a:pt x="1344" y="154"/>
                </a:lnTo>
                <a:lnTo>
                  <a:pt x="1344" y="158"/>
                </a:lnTo>
                <a:lnTo>
                  <a:pt x="1343" y="165"/>
                </a:lnTo>
                <a:lnTo>
                  <a:pt x="1341" y="173"/>
                </a:lnTo>
                <a:lnTo>
                  <a:pt x="1337" y="181"/>
                </a:lnTo>
                <a:lnTo>
                  <a:pt x="1332" y="187"/>
                </a:lnTo>
                <a:lnTo>
                  <a:pt x="1324" y="190"/>
                </a:lnTo>
                <a:lnTo>
                  <a:pt x="1315" y="194"/>
                </a:lnTo>
                <a:lnTo>
                  <a:pt x="1294" y="199"/>
                </a:lnTo>
                <a:lnTo>
                  <a:pt x="1273" y="204"/>
                </a:lnTo>
                <a:lnTo>
                  <a:pt x="1253" y="211"/>
                </a:lnTo>
                <a:lnTo>
                  <a:pt x="1236" y="220"/>
                </a:lnTo>
                <a:lnTo>
                  <a:pt x="1222" y="233"/>
                </a:lnTo>
                <a:lnTo>
                  <a:pt x="1209" y="246"/>
                </a:lnTo>
                <a:lnTo>
                  <a:pt x="1195" y="261"/>
                </a:lnTo>
                <a:lnTo>
                  <a:pt x="1179" y="278"/>
                </a:lnTo>
                <a:lnTo>
                  <a:pt x="1164" y="301"/>
                </a:lnTo>
                <a:lnTo>
                  <a:pt x="1156" y="315"/>
                </a:lnTo>
                <a:lnTo>
                  <a:pt x="1149" y="330"/>
                </a:lnTo>
                <a:lnTo>
                  <a:pt x="1143" y="347"/>
                </a:lnTo>
                <a:lnTo>
                  <a:pt x="1140" y="368"/>
                </a:lnTo>
                <a:lnTo>
                  <a:pt x="1139" y="390"/>
                </a:lnTo>
                <a:lnTo>
                  <a:pt x="1140" y="412"/>
                </a:lnTo>
                <a:lnTo>
                  <a:pt x="1143" y="435"/>
                </a:lnTo>
                <a:lnTo>
                  <a:pt x="1145" y="455"/>
                </a:lnTo>
                <a:lnTo>
                  <a:pt x="1148" y="472"/>
                </a:lnTo>
                <a:lnTo>
                  <a:pt x="1148" y="479"/>
                </a:lnTo>
                <a:lnTo>
                  <a:pt x="1149" y="483"/>
                </a:lnTo>
                <a:lnTo>
                  <a:pt x="1150" y="491"/>
                </a:lnTo>
                <a:lnTo>
                  <a:pt x="1153" y="497"/>
                </a:lnTo>
                <a:lnTo>
                  <a:pt x="1156" y="499"/>
                </a:lnTo>
                <a:lnTo>
                  <a:pt x="1161" y="501"/>
                </a:lnTo>
                <a:lnTo>
                  <a:pt x="1173" y="499"/>
                </a:lnTo>
                <a:lnTo>
                  <a:pt x="1186" y="498"/>
                </a:lnTo>
                <a:lnTo>
                  <a:pt x="1200" y="501"/>
                </a:lnTo>
                <a:lnTo>
                  <a:pt x="1214" y="505"/>
                </a:lnTo>
                <a:lnTo>
                  <a:pt x="1242" y="520"/>
                </a:lnTo>
                <a:lnTo>
                  <a:pt x="1253" y="526"/>
                </a:lnTo>
                <a:lnTo>
                  <a:pt x="1263" y="530"/>
                </a:lnTo>
                <a:lnTo>
                  <a:pt x="1273" y="533"/>
                </a:lnTo>
                <a:lnTo>
                  <a:pt x="1284" y="534"/>
                </a:lnTo>
                <a:lnTo>
                  <a:pt x="1294" y="535"/>
                </a:lnTo>
                <a:lnTo>
                  <a:pt x="1302" y="537"/>
                </a:lnTo>
                <a:lnTo>
                  <a:pt x="1308" y="545"/>
                </a:lnTo>
                <a:lnTo>
                  <a:pt x="1310" y="551"/>
                </a:lnTo>
                <a:lnTo>
                  <a:pt x="1312" y="558"/>
                </a:lnTo>
                <a:lnTo>
                  <a:pt x="1316" y="572"/>
                </a:lnTo>
                <a:lnTo>
                  <a:pt x="1322" y="582"/>
                </a:lnTo>
                <a:lnTo>
                  <a:pt x="1331" y="586"/>
                </a:lnTo>
                <a:lnTo>
                  <a:pt x="1341" y="589"/>
                </a:lnTo>
                <a:lnTo>
                  <a:pt x="1346" y="586"/>
                </a:lnTo>
                <a:lnTo>
                  <a:pt x="1349" y="580"/>
                </a:lnTo>
                <a:lnTo>
                  <a:pt x="1351" y="570"/>
                </a:lnTo>
                <a:lnTo>
                  <a:pt x="1352" y="559"/>
                </a:lnTo>
                <a:lnTo>
                  <a:pt x="1351" y="534"/>
                </a:lnTo>
                <a:lnTo>
                  <a:pt x="1349" y="522"/>
                </a:lnTo>
                <a:lnTo>
                  <a:pt x="1347" y="512"/>
                </a:lnTo>
                <a:lnTo>
                  <a:pt x="1346" y="504"/>
                </a:lnTo>
                <a:lnTo>
                  <a:pt x="1349" y="498"/>
                </a:lnTo>
                <a:lnTo>
                  <a:pt x="1353" y="493"/>
                </a:lnTo>
                <a:lnTo>
                  <a:pt x="1360" y="488"/>
                </a:lnTo>
                <a:lnTo>
                  <a:pt x="1376" y="481"/>
                </a:lnTo>
                <a:lnTo>
                  <a:pt x="1392" y="474"/>
                </a:lnTo>
                <a:lnTo>
                  <a:pt x="1398" y="470"/>
                </a:lnTo>
                <a:lnTo>
                  <a:pt x="1402" y="463"/>
                </a:lnTo>
                <a:lnTo>
                  <a:pt x="1402" y="455"/>
                </a:lnTo>
                <a:lnTo>
                  <a:pt x="1401" y="447"/>
                </a:lnTo>
                <a:lnTo>
                  <a:pt x="1397" y="438"/>
                </a:lnTo>
                <a:lnTo>
                  <a:pt x="1392" y="428"/>
                </a:lnTo>
                <a:lnTo>
                  <a:pt x="1387" y="422"/>
                </a:lnTo>
                <a:lnTo>
                  <a:pt x="1380" y="415"/>
                </a:lnTo>
                <a:lnTo>
                  <a:pt x="1374" y="409"/>
                </a:lnTo>
                <a:lnTo>
                  <a:pt x="1371" y="402"/>
                </a:lnTo>
                <a:lnTo>
                  <a:pt x="1369" y="395"/>
                </a:lnTo>
                <a:lnTo>
                  <a:pt x="1368" y="388"/>
                </a:lnTo>
                <a:lnTo>
                  <a:pt x="1370" y="372"/>
                </a:lnTo>
                <a:lnTo>
                  <a:pt x="1374" y="354"/>
                </a:lnTo>
                <a:lnTo>
                  <a:pt x="1380" y="346"/>
                </a:lnTo>
                <a:lnTo>
                  <a:pt x="1387" y="340"/>
                </a:lnTo>
                <a:lnTo>
                  <a:pt x="1396" y="337"/>
                </a:lnTo>
                <a:lnTo>
                  <a:pt x="1406" y="336"/>
                </a:lnTo>
                <a:lnTo>
                  <a:pt x="1415" y="336"/>
                </a:lnTo>
                <a:lnTo>
                  <a:pt x="1424" y="339"/>
                </a:lnTo>
                <a:lnTo>
                  <a:pt x="1431" y="342"/>
                </a:lnTo>
                <a:lnTo>
                  <a:pt x="1436" y="349"/>
                </a:lnTo>
                <a:lnTo>
                  <a:pt x="1440" y="356"/>
                </a:lnTo>
                <a:lnTo>
                  <a:pt x="1444" y="362"/>
                </a:lnTo>
                <a:lnTo>
                  <a:pt x="1457" y="371"/>
                </a:lnTo>
                <a:lnTo>
                  <a:pt x="1470" y="378"/>
                </a:lnTo>
                <a:lnTo>
                  <a:pt x="1481" y="385"/>
                </a:lnTo>
                <a:lnTo>
                  <a:pt x="1490" y="392"/>
                </a:lnTo>
                <a:lnTo>
                  <a:pt x="1499" y="403"/>
                </a:lnTo>
                <a:lnTo>
                  <a:pt x="1516" y="426"/>
                </a:lnTo>
                <a:lnTo>
                  <a:pt x="1521" y="428"/>
                </a:lnTo>
                <a:lnTo>
                  <a:pt x="1526" y="428"/>
                </a:lnTo>
                <a:lnTo>
                  <a:pt x="1533" y="425"/>
                </a:lnTo>
                <a:lnTo>
                  <a:pt x="1538" y="419"/>
                </a:lnTo>
                <a:lnTo>
                  <a:pt x="1551" y="404"/>
                </a:lnTo>
                <a:lnTo>
                  <a:pt x="1560" y="389"/>
                </a:lnTo>
                <a:lnTo>
                  <a:pt x="1564" y="384"/>
                </a:lnTo>
                <a:lnTo>
                  <a:pt x="1569" y="381"/>
                </a:lnTo>
                <a:lnTo>
                  <a:pt x="1575" y="383"/>
                </a:lnTo>
                <a:lnTo>
                  <a:pt x="1581" y="386"/>
                </a:lnTo>
                <a:lnTo>
                  <a:pt x="1588" y="391"/>
                </a:lnTo>
                <a:lnTo>
                  <a:pt x="1594" y="400"/>
                </a:lnTo>
                <a:lnTo>
                  <a:pt x="1600" y="409"/>
                </a:lnTo>
                <a:lnTo>
                  <a:pt x="1605" y="419"/>
                </a:lnTo>
                <a:lnTo>
                  <a:pt x="1611" y="436"/>
                </a:lnTo>
                <a:lnTo>
                  <a:pt x="1619" y="449"/>
                </a:lnTo>
                <a:lnTo>
                  <a:pt x="1629" y="463"/>
                </a:lnTo>
                <a:lnTo>
                  <a:pt x="1636" y="471"/>
                </a:lnTo>
                <a:lnTo>
                  <a:pt x="1642" y="481"/>
                </a:lnTo>
                <a:lnTo>
                  <a:pt x="1649" y="491"/>
                </a:lnTo>
                <a:lnTo>
                  <a:pt x="1655" y="499"/>
                </a:lnTo>
                <a:lnTo>
                  <a:pt x="1662" y="514"/>
                </a:lnTo>
                <a:lnTo>
                  <a:pt x="1667" y="527"/>
                </a:lnTo>
                <a:lnTo>
                  <a:pt x="1668" y="541"/>
                </a:lnTo>
                <a:lnTo>
                  <a:pt x="1669" y="546"/>
                </a:lnTo>
                <a:lnTo>
                  <a:pt x="1672" y="551"/>
                </a:lnTo>
                <a:lnTo>
                  <a:pt x="1677" y="552"/>
                </a:lnTo>
                <a:lnTo>
                  <a:pt x="1682" y="553"/>
                </a:lnTo>
                <a:lnTo>
                  <a:pt x="1695" y="551"/>
                </a:lnTo>
                <a:lnTo>
                  <a:pt x="1701" y="550"/>
                </a:lnTo>
                <a:lnTo>
                  <a:pt x="1707" y="549"/>
                </a:lnTo>
                <a:lnTo>
                  <a:pt x="1713" y="549"/>
                </a:lnTo>
                <a:lnTo>
                  <a:pt x="1716" y="551"/>
                </a:lnTo>
                <a:lnTo>
                  <a:pt x="1719" y="555"/>
                </a:lnTo>
                <a:lnTo>
                  <a:pt x="1720" y="563"/>
                </a:lnTo>
                <a:lnTo>
                  <a:pt x="1720" y="572"/>
                </a:lnTo>
                <a:lnTo>
                  <a:pt x="1718" y="582"/>
                </a:lnTo>
                <a:lnTo>
                  <a:pt x="1715" y="593"/>
                </a:lnTo>
                <a:lnTo>
                  <a:pt x="1711" y="606"/>
                </a:lnTo>
                <a:lnTo>
                  <a:pt x="1706" y="617"/>
                </a:lnTo>
                <a:lnTo>
                  <a:pt x="1700" y="625"/>
                </a:lnTo>
                <a:lnTo>
                  <a:pt x="1695" y="630"/>
                </a:lnTo>
                <a:lnTo>
                  <a:pt x="1690" y="633"/>
                </a:lnTo>
                <a:lnTo>
                  <a:pt x="1677" y="636"/>
                </a:lnTo>
                <a:lnTo>
                  <a:pt x="1661" y="639"/>
                </a:lnTo>
                <a:lnTo>
                  <a:pt x="1653" y="640"/>
                </a:lnTo>
                <a:lnTo>
                  <a:pt x="1646" y="641"/>
                </a:lnTo>
                <a:lnTo>
                  <a:pt x="1636" y="642"/>
                </a:lnTo>
                <a:lnTo>
                  <a:pt x="1627" y="645"/>
                </a:lnTo>
                <a:lnTo>
                  <a:pt x="1619" y="649"/>
                </a:lnTo>
                <a:lnTo>
                  <a:pt x="1615" y="656"/>
                </a:lnTo>
                <a:lnTo>
                  <a:pt x="1613" y="663"/>
                </a:lnTo>
                <a:lnTo>
                  <a:pt x="1613" y="682"/>
                </a:lnTo>
                <a:lnTo>
                  <a:pt x="1616" y="702"/>
                </a:lnTo>
                <a:lnTo>
                  <a:pt x="1619" y="724"/>
                </a:lnTo>
                <a:lnTo>
                  <a:pt x="1618" y="734"/>
                </a:lnTo>
                <a:lnTo>
                  <a:pt x="1614" y="744"/>
                </a:lnTo>
                <a:lnTo>
                  <a:pt x="1606" y="754"/>
                </a:lnTo>
                <a:lnTo>
                  <a:pt x="1598" y="762"/>
                </a:lnTo>
                <a:lnTo>
                  <a:pt x="1578" y="775"/>
                </a:lnTo>
                <a:lnTo>
                  <a:pt x="1570" y="780"/>
                </a:lnTo>
                <a:lnTo>
                  <a:pt x="1562" y="783"/>
                </a:lnTo>
                <a:lnTo>
                  <a:pt x="1548" y="791"/>
                </a:lnTo>
                <a:lnTo>
                  <a:pt x="1534" y="803"/>
                </a:lnTo>
                <a:lnTo>
                  <a:pt x="1523" y="819"/>
                </a:lnTo>
                <a:lnTo>
                  <a:pt x="1519" y="828"/>
                </a:lnTo>
                <a:lnTo>
                  <a:pt x="1516" y="838"/>
                </a:lnTo>
                <a:lnTo>
                  <a:pt x="1514" y="847"/>
                </a:lnTo>
                <a:lnTo>
                  <a:pt x="1511" y="855"/>
                </a:lnTo>
                <a:lnTo>
                  <a:pt x="1502" y="866"/>
                </a:lnTo>
                <a:lnTo>
                  <a:pt x="1492" y="876"/>
                </a:lnTo>
                <a:lnTo>
                  <a:pt x="1481" y="889"/>
                </a:lnTo>
                <a:lnTo>
                  <a:pt x="1476" y="894"/>
                </a:lnTo>
                <a:lnTo>
                  <a:pt x="1471" y="898"/>
                </a:lnTo>
                <a:lnTo>
                  <a:pt x="1461" y="900"/>
                </a:lnTo>
                <a:lnTo>
                  <a:pt x="1450" y="902"/>
                </a:lnTo>
                <a:lnTo>
                  <a:pt x="1444" y="906"/>
                </a:lnTo>
                <a:lnTo>
                  <a:pt x="1438" y="911"/>
                </a:lnTo>
                <a:lnTo>
                  <a:pt x="1433" y="916"/>
                </a:lnTo>
                <a:lnTo>
                  <a:pt x="1430" y="922"/>
                </a:lnTo>
                <a:lnTo>
                  <a:pt x="1428" y="932"/>
                </a:lnTo>
                <a:lnTo>
                  <a:pt x="1428" y="943"/>
                </a:lnTo>
                <a:lnTo>
                  <a:pt x="1427" y="948"/>
                </a:lnTo>
                <a:lnTo>
                  <a:pt x="1425" y="956"/>
                </a:lnTo>
                <a:lnTo>
                  <a:pt x="1424" y="972"/>
                </a:lnTo>
                <a:lnTo>
                  <a:pt x="1421" y="988"/>
                </a:lnTo>
                <a:lnTo>
                  <a:pt x="1417" y="1005"/>
                </a:lnTo>
                <a:lnTo>
                  <a:pt x="1410" y="1020"/>
                </a:lnTo>
                <a:lnTo>
                  <a:pt x="1407" y="1028"/>
                </a:lnTo>
                <a:lnTo>
                  <a:pt x="1406" y="1035"/>
                </a:lnTo>
                <a:lnTo>
                  <a:pt x="1405" y="1046"/>
                </a:lnTo>
                <a:lnTo>
                  <a:pt x="1402" y="1052"/>
                </a:lnTo>
                <a:lnTo>
                  <a:pt x="1398" y="1056"/>
                </a:lnTo>
                <a:lnTo>
                  <a:pt x="1392" y="1057"/>
                </a:lnTo>
                <a:lnTo>
                  <a:pt x="1386" y="1058"/>
                </a:lnTo>
                <a:lnTo>
                  <a:pt x="1380" y="1058"/>
                </a:lnTo>
                <a:lnTo>
                  <a:pt x="1371" y="1062"/>
                </a:lnTo>
                <a:lnTo>
                  <a:pt x="1367" y="1065"/>
                </a:lnTo>
                <a:lnTo>
                  <a:pt x="1364" y="1071"/>
                </a:lnTo>
                <a:lnTo>
                  <a:pt x="1360" y="1078"/>
                </a:lnTo>
                <a:lnTo>
                  <a:pt x="1356" y="1088"/>
                </a:lnTo>
                <a:lnTo>
                  <a:pt x="1355" y="1095"/>
                </a:lnTo>
                <a:lnTo>
                  <a:pt x="1355" y="1103"/>
                </a:lnTo>
                <a:lnTo>
                  <a:pt x="1357" y="1122"/>
                </a:lnTo>
                <a:lnTo>
                  <a:pt x="1360" y="1144"/>
                </a:lnTo>
                <a:lnTo>
                  <a:pt x="1364" y="1166"/>
                </a:lnTo>
                <a:lnTo>
                  <a:pt x="1367" y="1185"/>
                </a:lnTo>
                <a:lnTo>
                  <a:pt x="1368" y="1204"/>
                </a:lnTo>
                <a:lnTo>
                  <a:pt x="1366" y="1210"/>
                </a:lnTo>
                <a:lnTo>
                  <a:pt x="1364" y="1215"/>
                </a:lnTo>
                <a:lnTo>
                  <a:pt x="1361" y="1218"/>
                </a:lnTo>
                <a:lnTo>
                  <a:pt x="1356" y="1220"/>
                </a:lnTo>
                <a:lnTo>
                  <a:pt x="1349" y="1218"/>
                </a:lnTo>
                <a:lnTo>
                  <a:pt x="1343" y="1217"/>
                </a:lnTo>
                <a:lnTo>
                  <a:pt x="1334" y="1210"/>
                </a:lnTo>
                <a:lnTo>
                  <a:pt x="1326" y="1200"/>
                </a:lnTo>
                <a:lnTo>
                  <a:pt x="1319" y="1186"/>
                </a:lnTo>
                <a:lnTo>
                  <a:pt x="1316" y="1177"/>
                </a:lnTo>
                <a:lnTo>
                  <a:pt x="1312" y="1166"/>
                </a:lnTo>
                <a:lnTo>
                  <a:pt x="1307" y="1151"/>
                </a:lnTo>
                <a:lnTo>
                  <a:pt x="1303" y="1133"/>
                </a:lnTo>
                <a:lnTo>
                  <a:pt x="1288" y="1130"/>
                </a:lnTo>
                <a:lnTo>
                  <a:pt x="1275" y="1129"/>
                </a:lnTo>
                <a:lnTo>
                  <a:pt x="1264" y="1130"/>
                </a:lnTo>
                <a:lnTo>
                  <a:pt x="1257" y="1133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68560" y="1390680"/>
            <a:ext cx="658800" cy="623880"/>
          </a:xfrm>
          <a:custGeom>
            <a:avLst/>
            <a:gdLst/>
            <a:ahLst/>
            <a:rect l="l" t="t" r="r" b="b"/>
            <a:pathLst>
              <a:path w="415" h="393">
                <a:moveTo>
                  <a:pt x="19" y="11"/>
                </a:moveTo>
                <a:lnTo>
                  <a:pt x="28" y="5"/>
                </a:lnTo>
                <a:lnTo>
                  <a:pt x="37" y="1"/>
                </a:lnTo>
                <a:lnTo>
                  <a:pt x="47" y="0"/>
                </a:lnTo>
                <a:lnTo>
                  <a:pt x="59" y="1"/>
                </a:lnTo>
                <a:lnTo>
                  <a:pt x="81" y="6"/>
                </a:lnTo>
                <a:lnTo>
                  <a:pt x="104" y="15"/>
                </a:lnTo>
                <a:lnTo>
                  <a:pt x="116" y="20"/>
                </a:lnTo>
                <a:lnTo>
                  <a:pt x="131" y="24"/>
                </a:lnTo>
                <a:lnTo>
                  <a:pt x="160" y="35"/>
                </a:lnTo>
                <a:lnTo>
                  <a:pt x="173" y="40"/>
                </a:lnTo>
                <a:lnTo>
                  <a:pt x="187" y="46"/>
                </a:lnTo>
                <a:lnTo>
                  <a:pt x="199" y="51"/>
                </a:lnTo>
                <a:lnTo>
                  <a:pt x="209" y="54"/>
                </a:lnTo>
                <a:lnTo>
                  <a:pt x="220" y="58"/>
                </a:lnTo>
                <a:lnTo>
                  <a:pt x="234" y="62"/>
                </a:lnTo>
                <a:lnTo>
                  <a:pt x="249" y="69"/>
                </a:lnTo>
                <a:lnTo>
                  <a:pt x="267" y="76"/>
                </a:lnTo>
                <a:lnTo>
                  <a:pt x="284" y="85"/>
                </a:lnTo>
                <a:lnTo>
                  <a:pt x="300" y="95"/>
                </a:lnTo>
                <a:lnTo>
                  <a:pt x="313" y="106"/>
                </a:lnTo>
                <a:lnTo>
                  <a:pt x="324" y="117"/>
                </a:lnTo>
                <a:lnTo>
                  <a:pt x="332" y="131"/>
                </a:lnTo>
                <a:lnTo>
                  <a:pt x="340" y="148"/>
                </a:lnTo>
                <a:lnTo>
                  <a:pt x="352" y="185"/>
                </a:lnTo>
                <a:lnTo>
                  <a:pt x="358" y="203"/>
                </a:lnTo>
                <a:lnTo>
                  <a:pt x="363" y="219"/>
                </a:lnTo>
                <a:lnTo>
                  <a:pt x="368" y="230"/>
                </a:lnTo>
                <a:lnTo>
                  <a:pt x="373" y="238"/>
                </a:lnTo>
                <a:lnTo>
                  <a:pt x="379" y="242"/>
                </a:lnTo>
                <a:lnTo>
                  <a:pt x="383" y="249"/>
                </a:lnTo>
                <a:lnTo>
                  <a:pt x="393" y="266"/>
                </a:lnTo>
                <a:lnTo>
                  <a:pt x="398" y="288"/>
                </a:lnTo>
                <a:lnTo>
                  <a:pt x="399" y="297"/>
                </a:lnTo>
                <a:lnTo>
                  <a:pt x="398" y="308"/>
                </a:lnTo>
                <a:lnTo>
                  <a:pt x="398" y="318"/>
                </a:lnTo>
                <a:lnTo>
                  <a:pt x="399" y="326"/>
                </a:lnTo>
                <a:lnTo>
                  <a:pt x="403" y="341"/>
                </a:lnTo>
                <a:lnTo>
                  <a:pt x="409" y="353"/>
                </a:lnTo>
                <a:lnTo>
                  <a:pt x="414" y="366"/>
                </a:lnTo>
                <a:lnTo>
                  <a:pt x="414" y="371"/>
                </a:lnTo>
                <a:lnTo>
                  <a:pt x="411" y="374"/>
                </a:lnTo>
                <a:lnTo>
                  <a:pt x="403" y="381"/>
                </a:lnTo>
                <a:lnTo>
                  <a:pt x="391" y="387"/>
                </a:lnTo>
                <a:lnTo>
                  <a:pt x="378" y="391"/>
                </a:lnTo>
                <a:lnTo>
                  <a:pt x="362" y="392"/>
                </a:lnTo>
                <a:lnTo>
                  <a:pt x="346" y="390"/>
                </a:lnTo>
                <a:lnTo>
                  <a:pt x="331" y="384"/>
                </a:lnTo>
                <a:lnTo>
                  <a:pt x="320" y="374"/>
                </a:lnTo>
                <a:lnTo>
                  <a:pt x="298" y="349"/>
                </a:lnTo>
                <a:lnTo>
                  <a:pt x="273" y="327"/>
                </a:lnTo>
                <a:lnTo>
                  <a:pt x="259" y="318"/>
                </a:lnTo>
                <a:lnTo>
                  <a:pt x="246" y="311"/>
                </a:lnTo>
                <a:lnTo>
                  <a:pt x="235" y="307"/>
                </a:lnTo>
                <a:lnTo>
                  <a:pt x="223" y="305"/>
                </a:lnTo>
                <a:lnTo>
                  <a:pt x="212" y="304"/>
                </a:lnTo>
                <a:lnTo>
                  <a:pt x="202" y="300"/>
                </a:lnTo>
                <a:lnTo>
                  <a:pt x="191" y="294"/>
                </a:lnTo>
                <a:lnTo>
                  <a:pt x="183" y="286"/>
                </a:lnTo>
                <a:lnTo>
                  <a:pt x="175" y="277"/>
                </a:lnTo>
                <a:lnTo>
                  <a:pt x="172" y="267"/>
                </a:lnTo>
                <a:lnTo>
                  <a:pt x="170" y="258"/>
                </a:lnTo>
                <a:lnTo>
                  <a:pt x="173" y="249"/>
                </a:lnTo>
                <a:lnTo>
                  <a:pt x="178" y="243"/>
                </a:lnTo>
                <a:lnTo>
                  <a:pt x="185" y="239"/>
                </a:lnTo>
                <a:lnTo>
                  <a:pt x="203" y="237"/>
                </a:lnTo>
                <a:lnTo>
                  <a:pt x="223" y="235"/>
                </a:lnTo>
                <a:lnTo>
                  <a:pt x="241" y="233"/>
                </a:lnTo>
                <a:lnTo>
                  <a:pt x="243" y="231"/>
                </a:lnTo>
                <a:lnTo>
                  <a:pt x="245" y="229"/>
                </a:lnTo>
                <a:lnTo>
                  <a:pt x="245" y="220"/>
                </a:lnTo>
                <a:lnTo>
                  <a:pt x="242" y="210"/>
                </a:lnTo>
                <a:lnTo>
                  <a:pt x="238" y="199"/>
                </a:lnTo>
                <a:lnTo>
                  <a:pt x="222" y="175"/>
                </a:lnTo>
                <a:lnTo>
                  <a:pt x="213" y="165"/>
                </a:lnTo>
                <a:lnTo>
                  <a:pt x="205" y="161"/>
                </a:lnTo>
                <a:lnTo>
                  <a:pt x="202" y="158"/>
                </a:lnTo>
                <a:lnTo>
                  <a:pt x="196" y="157"/>
                </a:lnTo>
                <a:lnTo>
                  <a:pt x="182" y="153"/>
                </a:lnTo>
                <a:lnTo>
                  <a:pt x="165" y="148"/>
                </a:lnTo>
                <a:lnTo>
                  <a:pt x="145" y="142"/>
                </a:lnTo>
                <a:lnTo>
                  <a:pt x="104" y="131"/>
                </a:lnTo>
                <a:lnTo>
                  <a:pt x="87" y="126"/>
                </a:lnTo>
                <a:lnTo>
                  <a:pt x="73" y="121"/>
                </a:lnTo>
                <a:lnTo>
                  <a:pt x="60" y="114"/>
                </a:lnTo>
                <a:lnTo>
                  <a:pt x="44" y="104"/>
                </a:lnTo>
                <a:lnTo>
                  <a:pt x="28" y="92"/>
                </a:lnTo>
                <a:lnTo>
                  <a:pt x="14" y="77"/>
                </a:lnTo>
                <a:lnTo>
                  <a:pt x="4" y="61"/>
                </a:lnTo>
                <a:lnTo>
                  <a:pt x="1" y="52"/>
                </a:lnTo>
                <a:lnTo>
                  <a:pt x="0" y="44"/>
                </a:lnTo>
                <a:lnTo>
                  <a:pt x="1" y="35"/>
                </a:lnTo>
                <a:lnTo>
                  <a:pt x="4" y="28"/>
                </a:lnTo>
                <a:lnTo>
                  <a:pt x="10" y="19"/>
                </a:lnTo>
                <a:lnTo>
                  <a:pt x="19" y="11"/>
                </a:lnTo>
                <a:lnTo>
                  <a:pt x="17" y="11"/>
                </a:lnTo>
                <a:lnTo>
                  <a:pt x="19" y="11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486160" y="668160"/>
            <a:ext cx="1349280" cy="1344960"/>
          </a:xfrm>
          <a:custGeom>
            <a:avLst/>
            <a:gdLst/>
            <a:ahLst/>
            <a:rect l="l" t="t" r="r" b="b"/>
            <a:pathLst>
              <a:path w="850" h="847">
                <a:moveTo>
                  <a:pt x="196" y="116"/>
                </a:moveTo>
                <a:lnTo>
                  <a:pt x="186" y="119"/>
                </a:lnTo>
                <a:lnTo>
                  <a:pt x="177" y="120"/>
                </a:lnTo>
                <a:lnTo>
                  <a:pt x="159" y="120"/>
                </a:lnTo>
                <a:lnTo>
                  <a:pt x="150" y="121"/>
                </a:lnTo>
                <a:lnTo>
                  <a:pt x="141" y="124"/>
                </a:lnTo>
                <a:lnTo>
                  <a:pt x="131" y="130"/>
                </a:lnTo>
                <a:lnTo>
                  <a:pt x="121" y="142"/>
                </a:lnTo>
                <a:lnTo>
                  <a:pt x="111" y="157"/>
                </a:lnTo>
                <a:lnTo>
                  <a:pt x="104" y="169"/>
                </a:lnTo>
                <a:lnTo>
                  <a:pt x="92" y="194"/>
                </a:lnTo>
                <a:lnTo>
                  <a:pt x="81" y="215"/>
                </a:lnTo>
                <a:lnTo>
                  <a:pt x="74" y="224"/>
                </a:lnTo>
                <a:lnTo>
                  <a:pt x="66" y="232"/>
                </a:lnTo>
                <a:lnTo>
                  <a:pt x="55" y="238"/>
                </a:lnTo>
                <a:lnTo>
                  <a:pt x="43" y="245"/>
                </a:lnTo>
                <a:lnTo>
                  <a:pt x="19" y="260"/>
                </a:lnTo>
                <a:lnTo>
                  <a:pt x="10" y="267"/>
                </a:lnTo>
                <a:lnTo>
                  <a:pt x="3" y="275"/>
                </a:lnTo>
                <a:lnTo>
                  <a:pt x="0" y="283"/>
                </a:lnTo>
                <a:lnTo>
                  <a:pt x="3" y="290"/>
                </a:lnTo>
                <a:lnTo>
                  <a:pt x="9" y="296"/>
                </a:lnTo>
                <a:lnTo>
                  <a:pt x="14" y="301"/>
                </a:lnTo>
                <a:lnTo>
                  <a:pt x="22" y="307"/>
                </a:lnTo>
                <a:lnTo>
                  <a:pt x="30" y="314"/>
                </a:lnTo>
                <a:lnTo>
                  <a:pt x="33" y="318"/>
                </a:lnTo>
                <a:lnTo>
                  <a:pt x="35" y="325"/>
                </a:lnTo>
                <a:lnTo>
                  <a:pt x="41" y="342"/>
                </a:lnTo>
                <a:lnTo>
                  <a:pt x="45" y="350"/>
                </a:lnTo>
                <a:lnTo>
                  <a:pt x="51" y="356"/>
                </a:lnTo>
                <a:lnTo>
                  <a:pt x="57" y="361"/>
                </a:lnTo>
                <a:lnTo>
                  <a:pt x="65" y="362"/>
                </a:lnTo>
                <a:lnTo>
                  <a:pt x="71" y="360"/>
                </a:lnTo>
                <a:lnTo>
                  <a:pt x="81" y="353"/>
                </a:lnTo>
                <a:lnTo>
                  <a:pt x="89" y="345"/>
                </a:lnTo>
                <a:lnTo>
                  <a:pt x="97" y="339"/>
                </a:lnTo>
                <a:lnTo>
                  <a:pt x="112" y="331"/>
                </a:lnTo>
                <a:lnTo>
                  <a:pt x="125" y="327"/>
                </a:lnTo>
                <a:lnTo>
                  <a:pt x="140" y="325"/>
                </a:lnTo>
                <a:lnTo>
                  <a:pt x="147" y="324"/>
                </a:lnTo>
                <a:lnTo>
                  <a:pt x="153" y="322"/>
                </a:lnTo>
                <a:lnTo>
                  <a:pt x="158" y="318"/>
                </a:lnTo>
                <a:lnTo>
                  <a:pt x="161" y="316"/>
                </a:lnTo>
                <a:lnTo>
                  <a:pt x="164" y="316"/>
                </a:lnTo>
                <a:lnTo>
                  <a:pt x="168" y="317"/>
                </a:lnTo>
                <a:lnTo>
                  <a:pt x="172" y="321"/>
                </a:lnTo>
                <a:lnTo>
                  <a:pt x="176" y="327"/>
                </a:lnTo>
                <a:lnTo>
                  <a:pt x="182" y="341"/>
                </a:lnTo>
                <a:lnTo>
                  <a:pt x="191" y="353"/>
                </a:lnTo>
                <a:lnTo>
                  <a:pt x="200" y="365"/>
                </a:lnTo>
                <a:lnTo>
                  <a:pt x="212" y="379"/>
                </a:lnTo>
                <a:lnTo>
                  <a:pt x="212" y="393"/>
                </a:lnTo>
                <a:lnTo>
                  <a:pt x="213" y="404"/>
                </a:lnTo>
                <a:lnTo>
                  <a:pt x="214" y="424"/>
                </a:lnTo>
                <a:lnTo>
                  <a:pt x="216" y="432"/>
                </a:lnTo>
                <a:lnTo>
                  <a:pt x="220" y="439"/>
                </a:lnTo>
                <a:lnTo>
                  <a:pt x="231" y="456"/>
                </a:lnTo>
                <a:lnTo>
                  <a:pt x="244" y="472"/>
                </a:lnTo>
                <a:lnTo>
                  <a:pt x="257" y="489"/>
                </a:lnTo>
                <a:lnTo>
                  <a:pt x="263" y="495"/>
                </a:lnTo>
                <a:lnTo>
                  <a:pt x="267" y="502"/>
                </a:lnTo>
                <a:lnTo>
                  <a:pt x="270" y="515"/>
                </a:lnTo>
                <a:lnTo>
                  <a:pt x="271" y="524"/>
                </a:lnTo>
                <a:lnTo>
                  <a:pt x="272" y="534"/>
                </a:lnTo>
                <a:lnTo>
                  <a:pt x="273" y="544"/>
                </a:lnTo>
                <a:lnTo>
                  <a:pt x="275" y="557"/>
                </a:lnTo>
                <a:lnTo>
                  <a:pt x="279" y="583"/>
                </a:lnTo>
                <a:lnTo>
                  <a:pt x="281" y="610"/>
                </a:lnTo>
                <a:lnTo>
                  <a:pt x="280" y="635"/>
                </a:lnTo>
                <a:lnTo>
                  <a:pt x="279" y="645"/>
                </a:lnTo>
                <a:lnTo>
                  <a:pt x="277" y="653"/>
                </a:lnTo>
                <a:lnTo>
                  <a:pt x="271" y="667"/>
                </a:lnTo>
                <a:lnTo>
                  <a:pt x="265" y="683"/>
                </a:lnTo>
                <a:lnTo>
                  <a:pt x="259" y="700"/>
                </a:lnTo>
                <a:lnTo>
                  <a:pt x="257" y="716"/>
                </a:lnTo>
                <a:lnTo>
                  <a:pt x="258" y="723"/>
                </a:lnTo>
                <a:lnTo>
                  <a:pt x="260" y="728"/>
                </a:lnTo>
                <a:lnTo>
                  <a:pt x="267" y="736"/>
                </a:lnTo>
                <a:lnTo>
                  <a:pt x="273" y="743"/>
                </a:lnTo>
                <a:lnTo>
                  <a:pt x="276" y="748"/>
                </a:lnTo>
                <a:lnTo>
                  <a:pt x="277" y="754"/>
                </a:lnTo>
                <a:lnTo>
                  <a:pt x="280" y="767"/>
                </a:lnTo>
                <a:lnTo>
                  <a:pt x="284" y="782"/>
                </a:lnTo>
                <a:lnTo>
                  <a:pt x="289" y="798"/>
                </a:lnTo>
                <a:lnTo>
                  <a:pt x="293" y="806"/>
                </a:lnTo>
                <a:lnTo>
                  <a:pt x="299" y="812"/>
                </a:lnTo>
                <a:lnTo>
                  <a:pt x="306" y="818"/>
                </a:lnTo>
                <a:lnTo>
                  <a:pt x="318" y="825"/>
                </a:lnTo>
                <a:lnTo>
                  <a:pt x="331" y="831"/>
                </a:lnTo>
                <a:lnTo>
                  <a:pt x="345" y="838"/>
                </a:lnTo>
                <a:lnTo>
                  <a:pt x="359" y="844"/>
                </a:lnTo>
                <a:lnTo>
                  <a:pt x="373" y="846"/>
                </a:lnTo>
                <a:lnTo>
                  <a:pt x="384" y="844"/>
                </a:lnTo>
                <a:lnTo>
                  <a:pt x="389" y="842"/>
                </a:lnTo>
                <a:lnTo>
                  <a:pt x="393" y="838"/>
                </a:lnTo>
                <a:lnTo>
                  <a:pt x="399" y="828"/>
                </a:lnTo>
                <a:lnTo>
                  <a:pt x="421" y="802"/>
                </a:lnTo>
                <a:lnTo>
                  <a:pt x="434" y="787"/>
                </a:lnTo>
                <a:lnTo>
                  <a:pt x="461" y="758"/>
                </a:lnTo>
                <a:lnTo>
                  <a:pt x="473" y="744"/>
                </a:lnTo>
                <a:lnTo>
                  <a:pt x="484" y="732"/>
                </a:lnTo>
                <a:lnTo>
                  <a:pt x="493" y="719"/>
                </a:lnTo>
                <a:lnTo>
                  <a:pt x="501" y="704"/>
                </a:lnTo>
                <a:lnTo>
                  <a:pt x="509" y="688"/>
                </a:lnTo>
                <a:lnTo>
                  <a:pt x="518" y="672"/>
                </a:lnTo>
                <a:lnTo>
                  <a:pt x="527" y="657"/>
                </a:lnTo>
                <a:lnTo>
                  <a:pt x="537" y="644"/>
                </a:lnTo>
                <a:lnTo>
                  <a:pt x="546" y="634"/>
                </a:lnTo>
                <a:lnTo>
                  <a:pt x="557" y="627"/>
                </a:lnTo>
                <a:lnTo>
                  <a:pt x="581" y="622"/>
                </a:lnTo>
                <a:lnTo>
                  <a:pt x="603" y="617"/>
                </a:lnTo>
                <a:lnTo>
                  <a:pt x="623" y="611"/>
                </a:lnTo>
                <a:lnTo>
                  <a:pt x="631" y="608"/>
                </a:lnTo>
                <a:lnTo>
                  <a:pt x="638" y="602"/>
                </a:lnTo>
                <a:lnTo>
                  <a:pt x="650" y="590"/>
                </a:lnTo>
                <a:lnTo>
                  <a:pt x="661" y="581"/>
                </a:lnTo>
                <a:lnTo>
                  <a:pt x="682" y="566"/>
                </a:lnTo>
                <a:lnTo>
                  <a:pt x="695" y="557"/>
                </a:lnTo>
                <a:lnTo>
                  <a:pt x="704" y="544"/>
                </a:lnTo>
                <a:lnTo>
                  <a:pt x="710" y="530"/>
                </a:lnTo>
                <a:lnTo>
                  <a:pt x="711" y="526"/>
                </a:lnTo>
                <a:lnTo>
                  <a:pt x="711" y="521"/>
                </a:lnTo>
                <a:lnTo>
                  <a:pt x="705" y="513"/>
                </a:lnTo>
                <a:lnTo>
                  <a:pt x="698" y="505"/>
                </a:lnTo>
                <a:lnTo>
                  <a:pt x="688" y="497"/>
                </a:lnTo>
                <a:lnTo>
                  <a:pt x="681" y="493"/>
                </a:lnTo>
                <a:lnTo>
                  <a:pt x="672" y="492"/>
                </a:lnTo>
                <a:lnTo>
                  <a:pt x="661" y="489"/>
                </a:lnTo>
                <a:lnTo>
                  <a:pt x="655" y="485"/>
                </a:lnTo>
                <a:lnTo>
                  <a:pt x="651" y="482"/>
                </a:lnTo>
                <a:lnTo>
                  <a:pt x="650" y="476"/>
                </a:lnTo>
                <a:lnTo>
                  <a:pt x="651" y="469"/>
                </a:lnTo>
                <a:lnTo>
                  <a:pt x="659" y="453"/>
                </a:lnTo>
                <a:lnTo>
                  <a:pt x="664" y="439"/>
                </a:lnTo>
                <a:lnTo>
                  <a:pt x="668" y="433"/>
                </a:lnTo>
                <a:lnTo>
                  <a:pt x="672" y="431"/>
                </a:lnTo>
                <a:lnTo>
                  <a:pt x="676" y="429"/>
                </a:lnTo>
                <a:lnTo>
                  <a:pt x="681" y="432"/>
                </a:lnTo>
                <a:lnTo>
                  <a:pt x="689" y="437"/>
                </a:lnTo>
                <a:lnTo>
                  <a:pt x="700" y="441"/>
                </a:lnTo>
                <a:lnTo>
                  <a:pt x="715" y="442"/>
                </a:lnTo>
                <a:lnTo>
                  <a:pt x="733" y="443"/>
                </a:lnTo>
                <a:lnTo>
                  <a:pt x="735" y="442"/>
                </a:lnTo>
                <a:lnTo>
                  <a:pt x="737" y="437"/>
                </a:lnTo>
                <a:lnTo>
                  <a:pt x="739" y="428"/>
                </a:lnTo>
                <a:lnTo>
                  <a:pt x="742" y="417"/>
                </a:lnTo>
                <a:lnTo>
                  <a:pt x="746" y="397"/>
                </a:lnTo>
                <a:lnTo>
                  <a:pt x="749" y="378"/>
                </a:lnTo>
                <a:lnTo>
                  <a:pt x="750" y="358"/>
                </a:lnTo>
                <a:lnTo>
                  <a:pt x="750" y="341"/>
                </a:lnTo>
                <a:lnTo>
                  <a:pt x="749" y="333"/>
                </a:lnTo>
                <a:lnTo>
                  <a:pt x="747" y="324"/>
                </a:lnTo>
                <a:lnTo>
                  <a:pt x="744" y="302"/>
                </a:lnTo>
                <a:lnTo>
                  <a:pt x="743" y="276"/>
                </a:lnTo>
                <a:lnTo>
                  <a:pt x="745" y="262"/>
                </a:lnTo>
                <a:lnTo>
                  <a:pt x="748" y="248"/>
                </a:lnTo>
                <a:lnTo>
                  <a:pt x="752" y="236"/>
                </a:lnTo>
                <a:lnTo>
                  <a:pt x="755" y="224"/>
                </a:lnTo>
                <a:lnTo>
                  <a:pt x="764" y="207"/>
                </a:lnTo>
                <a:lnTo>
                  <a:pt x="772" y="193"/>
                </a:lnTo>
                <a:lnTo>
                  <a:pt x="781" y="181"/>
                </a:lnTo>
                <a:lnTo>
                  <a:pt x="788" y="173"/>
                </a:lnTo>
                <a:lnTo>
                  <a:pt x="795" y="166"/>
                </a:lnTo>
                <a:lnTo>
                  <a:pt x="816" y="149"/>
                </a:lnTo>
                <a:lnTo>
                  <a:pt x="835" y="132"/>
                </a:lnTo>
                <a:lnTo>
                  <a:pt x="843" y="122"/>
                </a:lnTo>
                <a:lnTo>
                  <a:pt x="847" y="113"/>
                </a:lnTo>
                <a:lnTo>
                  <a:pt x="849" y="105"/>
                </a:lnTo>
                <a:lnTo>
                  <a:pt x="849" y="100"/>
                </a:lnTo>
                <a:lnTo>
                  <a:pt x="846" y="96"/>
                </a:lnTo>
                <a:lnTo>
                  <a:pt x="843" y="94"/>
                </a:lnTo>
                <a:lnTo>
                  <a:pt x="831" y="91"/>
                </a:lnTo>
                <a:lnTo>
                  <a:pt x="818" y="93"/>
                </a:lnTo>
                <a:lnTo>
                  <a:pt x="804" y="94"/>
                </a:lnTo>
                <a:lnTo>
                  <a:pt x="789" y="93"/>
                </a:lnTo>
                <a:lnTo>
                  <a:pt x="764" y="85"/>
                </a:lnTo>
                <a:lnTo>
                  <a:pt x="754" y="83"/>
                </a:lnTo>
                <a:lnTo>
                  <a:pt x="747" y="86"/>
                </a:lnTo>
                <a:lnTo>
                  <a:pt x="739" y="93"/>
                </a:lnTo>
                <a:lnTo>
                  <a:pt x="733" y="104"/>
                </a:lnTo>
                <a:lnTo>
                  <a:pt x="728" y="110"/>
                </a:lnTo>
                <a:lnTo>
                  <a:pt x="721" y="114"/>
                </a:lnTo>
                <a:lnTo>
                  <a:pt x="714" y="117"/>
                </a:lnTo>
                <a:lnTo>
                  <a:pt x="704" y="119"/>
                </a:lnTo>
                <a:lnTo>
                  <a:pt x="683" y="119"/>
                </a:lnTo>
                <a:lnTo>
                  <a:pt x="664" y="116"/>
                </a:lnTo>
                <a:lnTo>
                  <a:pt x="630" y="112"/>
                </a:lnTo>
                <a:lnTo>
                  <a:pt x="614" y="111"/>
                </a:lnTo>
                <a:lnTo>
                  <a:pt x="596" y="111"/>
                </a:lnTo>
                <a:lnTo>
                  <a:pt x="597" y="110"/>
                </a:lnTo>
                <a:lnTo>
                  <a:pt x="600" y="109"/>
                </a:lnTo>
                <a:lnTo>
                  <a:pt x="605" y="106"/>
                </a:lnTo>
                <a:lnTo>
                  <a:pt x="610" y="102"/>
                </a:lnTo>
                <a:lnTo>
                  <a:pt x="617" y="97"/>
                </a:lnTo>
                <a:lnTo>
                  <a:pt x="625" y="90"/>
                </a:lnTo>
                <a:lnTo>
                  <a:pt x="638" y="77"/>
                </a:lnTo>
                <a:lnTo>
                  <a:pt x="650" y="68"/>
                </a:lnTo>
                <a:lnTo>
                  <a:pt x="663" y="64"/>
                </a:lnTo>
                <a:lnTo>
                  <a:pt x="675" y="63"/>
                </a:lnTo>
                <a:lnTo>
                  <a:pt x="685" y="63"/>
                </a:lnTo>
                <a:lnTo>
                  <a:pt x="699" y="65"/>
                </a:lnTo>
                <a:lnTo>
                  <a:pt x="714" y="66"/>
                </a:lnTo>
                <a:lnTo>
                  <a:pt x="733" y="70"/>
                </a:lnTo>
                <a:lnTo>
                  <a:pt x="720" y="48"/>
                </a:lnTo>
                <a:lnTo>
                  <a:pt x="706" y="28"/>
                </a:lnTo>
                <a:lnTo>
                  <a:pt x="692" y="15"/>
                </a:lnTo>
                <a:lnTo>
                  <a:pt x="685" y="10"/>
                </a:lnTo>
                <a:lnTo>
                  <a:pt x="679" y="8"/>
                </a:lnTo>
                <a:lnTo>
                  <a:pt x="671" y="6"/>
                </a:lnTo>
                <a:lnTo>
                  <a:pt x="662" y="3"/>
                </a:lnTo>
                <a:lnTo>
                  <a:pt x="650" y="2"/>
                </a:lnTo>
                <a:lnTo>
                  <a:pt x="637" y="0"/>
                </a:lnTo>
                <a:lnTo>
                  <a:pt x="609" y="0"/>
                </a:lnTo>
                <a:lnTo>
                  <a:pt x="577" y="2"/>
                </a:lnTo>
                <a:lnTo>
                  <a:pt x="546" y="7"/>
                </a:lnTo>
                <a:lnTo>
                  <a:pt x="515" y="9"/>
                </a:lnTo>
                <a:lnTo>
                  <a:pt x="500" y="10"/>
                </a:lnTo>
                <a:lnTo>
                  <a:pt x="487" y="11"/>
                </a:lnTo>
                <a:lnTo>
                  <a:pt x="476" y="12"/>
                </a:lnTo>
                <a:lnTo>
                  <a:pt x="467" y="15"/>
                </a:lnTo>
                <a:lnTo>
                  <a:pt x="452" y="22"/>
                </a:lnTo>
                <a:lnTo>
                  <a:pt x="439" y="30"/>
                </a:lnTo>
                <a:lnTo>
                  <a:pt x="426" y="36"/>
                </a:lnTo>
                <a:lnTo>
                  <a:pt x="412" y="39"/>
                </a:lnTo>
                <a:lnTo>
                  <a:pt x="407" y="39"/>
                </a:lnTo>
                <a:lnTo>
                  <a:pt x="402" y="40"/>
                </a:lnTo>
                <a:lnTo>
                  <a:pt x="394" y="43"/>
                </a:lnTo>
                <a:lnTo>
                  <a:pt x="387" y="48"/>
                </a:lnTo>
                <a:lnTo>
                  <a:pt x="382" y="50"/>
                </a:lnTo>
                <a:lnTo>
                  <a:pt x="376" y="52"/>
                </a:lnTo>
                <a:lnTo>
                  <a:pt x="373" y="56"/>
                </a:lnTo>
                <a:lnTo>
                  <a:pt x="371" y="59"/>
                </a:lnTo>
                <a:lnTo>
                  <a:pt x="372" y="64"/>
                </a:lnTo>
                <a:lnTo>
                  <a:pt x="374" y="68"/>
                </a:lnTo>
                <a:lnTo>
                  <a:pt x="379" y="79"/>
                </a:lnTo>
                <a:lnTo>
                  <a:pt x="383" y="93"/>
                </a:lnTo>
                <a:lnTo>
                  <a:pt x="383" y="98"/>
                </a:lnTo>
                <a:lnTo>
                  <a:pt x="382" y="102"/>
                </a:lnTo>
                <a:lnTo>
                  <a:pt x="374" y="102"/>
                </a:lnTo>
                <a:lnTo>
                  <a:pt x="368" y="101"/>
                </a:lnTo>
                <a:lnTo>
                  <a:pt x="354" y="101"/>
                </a:lnTo>
                <a:lnTo>
                  <a:pt x="346" y="104"/>
                </a:lnTo>
                <a:lnTo>
                  <a:pt x="332" y="109"/>
                </a:lnTo>
                <a:lnTo>
                  <a:pt x="320" y="111"/>
                </a:lnTo>
                <a:lnTo>
                  <a:pt x="308" y="110"/>
                </a:lnTo>
                <a:lnTo>
                  <a:pt x="301" y="106"/>
                </a:lnTo>
                <a:lnTo>
                  <a:pt x="295" y="105"/>
                </a:lnTo>
                <a:lnTo>
                  <a:pt x="286" y="106"/>
                </a:lnTo>
                <a:lnTo>
                  <a:pt x="272" y="109"/>
                </a:lnTo>
                <a:lnTo>
                  <a:pt x="255" y="113"/>
                </a:lnTo>
                <a:lnTo>
                  <a:pt x="236" y="111"/>
                </a:lnTo>
                <a:lnTo>
                  <a:pt x="219" y="110"/>
                </a:lnTo>
                <a:lnTo>
                  <a:pt x="207" y="112"/>
                </a:lnTo>
                <a:lnTo>
                  <a:pt x="196" y="11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09880" y="758880"/>
            <a:ext cx="725400" cy="447480"/>
          </a:xfrm>
          <a:custGeom>
            <a:avLst/>
            <a:gdLst/>
            <a:ahLst/>
            <a:rect l="l" t="t" r="r" b="b"/>
            <a:pathLst>
              <a:path w="457" h="282">
                <a:moveTo>
                  <a:pt x="456" y="25"/>
                </a:moveTo>
                <a:lnTo>
                  <a:pt x="456" y="24"/>
                </a:lnTo>
                <a:lnTo>
                  <a:pt x="454" y="24"/>
                </a:lnTo>
                <a:lnTo>
                  <a:pt x="448" y="23"/>
                </a:lnTo>
                <a:lnTo>
                  <a:pt x="397" y="23"/>
                </a:lnTo>
                <a:lnTo>
                  <a:pt x="370" y="23"/>
                </a:lnTo>
                <a:lnTo>
                  <a:pt x="345" y="22"/>
                </a:lnTo>
                <a:lnTo>
                  <a:pt x="334" y="21"/>
                </a:lnTo>
                <a:lnTo>
                  <a:pt x="325" y="19"/>
                </a:lnTo>
                <a:lnTo>
                  <a:pt x="316" y="18"/>
                </a:lnTo>
                <a:lnTo>
                  <a:pt x="311" y="17"/>
                </a:lnTo>
                <a:lnTo>
                  <a:pt x="305" y="15"/>
                </a:lnTo>
                <a:lnTo>
                  <a:pt x="297" y="13"/>
                </a:lnTo>
                <a:lnTo>
                  <a:pt x="277" y="8"/>
                </a:lnTo>
                <a:lnTo>
                  <a:pt x="256" y="5"/>
                </a:lnTo>
                <a:lnTo>
                  <a:pt x="230" y="1"/>
                </a:lnTo>
                <a:lnTo>
                  <a:pt x="204" y="0"/>
                </a:lnTo>
                <a:lnTo>
                  <a:pt x="182" y="1"/>
                </a:lnTo>
                <a:lnTo>
                  <a:pt x="171" y="2"/>
                </a:lnTo>
                <a:lnTo>
                  <a:pt x="162" y="3"/>
                </a:lnTo>
                <a:lnTo>
                  <a:pt x="154" y="7"/>
                </a:lnTo>
                <a:lnTo>
                  <a:pt x="149" y="10"/>
                </a:lnTo>
                <a:lnTo>
                  <a:pt x="138" y="16"/>
                </a:lnTo>
                <a:lnTo>
                  <a:pt x="126" y="21"/>
                </a:lnTo>
                <a:lnTo>
                  <a:pt x="100" y="26"/>
                </a:lnTo>
                <a:lnTo>
                  <a:pt x="75" y="32"/>
                </a:lnTo>
                <a:lnTo>
                  <a:pt x="63" y="36"/>
                </a:lnTo>
                <a:lnTo>
                  <a:pt x="55" y="40"/>
                </a:lnTo>
                <a:lnTo>
                  <a:pt x="47" y="43"/>
                </a:lnTo>
                <a:lnTo>
                  <a:pt x="39" y="44"/>
                </a:lnTo>
                <a:lnTo>
                  <a:pt x="15" y="44"/>
                </a:lnTo>
                <a:lnTo>
                  <a:pt x="10" y="46"/>
                </a:lnTo>
                <a:lnTo>
                  <a:pt x="4" y="48"/>
                </a:lnTo>
                <a:lnTo>
                  <a:pt x="1" y="54"/>
                </a:lnTo>
                <a:lnTo>
                  <a:pt x="0" y="60"/>
                </a:lnTo>
                <a:lnTo>
                  <a:pt x="3" y="65"/>
                </a:lnTo>
                <a:lnTo>
                  <a:pt x="7" y="70"/>
                </a:lnTo>
                <a:lnTo>
                  <a:pt x="12" y="75"/>
                </a:lnTo>
                <a:lnTo>
                  <a:pt x="25" y="83"/>
                </a:lnTo>
                <a:lnTo>
                  <a:pt x="36" y="92"/>
                </a:lnTo>
                <a:lnTo>
                  <a:pt x="45" y="96"/>
                </a:lnTo>
                <a:lnTo>
                  <a:pt x="59" y="100"/>
                </a:lnTo>
                <a:lnTo>
                  <a:pt x="73" y="103"/>
                </a:lnTo>
                <a:lnTo>
                  <a:pt x="86" y="110"/>
                </a:lnTo>
                <a:lnTo>
                  <a:pt x="100" y="123"/>
                </a:lnTo>
                <a:lnTo>
                  <a:pt x="107" y="131"/>
                </a:lnTo>
                <a:lnTo>
                  <a:pt x="112" y="139"/>
                </a:lnTo>
                <a:lnTo>
                  <a:pt x="114" y="148"/>
                </a:lnTo>
                <a:lnTo>
                  <a:pt x="114" y="156"/>
                </a:lnTo>
                <a:lnTo>
                  <a:pt x="110" y="163"/>
                </a:lnTo>
                <a:lnTo>
                  <a:pt x="100" y="168"/>
                </a:lnTo>
                <a:lnTo>
                  <a:pt x="86" y="177"/>
                </a:lnTo>
                <a:lnTo>
                  <a:pt x="75" y="188"/>
                </a:lnTo>
                <a:lnTo>
                  <a:pt x="66" y="204"/>
                </a:lnTo>
                <a:lnTo>
                  <a:pt x="61" y="222"/>
                </a:lnTo>
                <a:lnTo>
                  <a:pt x="59" y="222"/>
                </a:lnTo>
                <a:lnTo>
                  <a:pt x="57" y="266"/>
                </a:lnTo>
                <a:lnTo>
                  <a:pt x="116" y="266"/>
                </a:lnTo>
                <a:lnTo>
                  <a:pt x="126" y="276"/>
                </a:lnTo>
                <a:lnTo>
                  <a:pt x="135" y="280"/>
                </a:lnTo>
                <a:lnTo>
                  <a:pt x="142" y="281"/>
                </a:lnTo>
                <a:lnTo>
                  <a:pt x="149" y="278"/>
                </a:lnTo>
                <a:lnTo>
                  <a:pt x="155" y="272"/>
                </a:lnTo>
                <a:lnTo>
                  <a:pt x="165" y="265"/>
                </a:lnTo>
                <a:lnTo>
                  <a:pt x="176" y="258"/>
                </a:lnTo>
                <a:lnTo>
                  <a:pt x="188" y="250"/>
                </a:lnTo>
                <a:lnTo>
                  <a:pt x="198" y="242"/>
                </a:lnTo>
                <a:lnTo>
                  <a:pt x="207" y="233"/>
                </a:lnTo>
                <a:lnTo>
                  <a:pt x="214" y="226"/>
                </a:lnTo>
                <a:lnTo>
                  <a:pt x="217" y="219"/>
                </a:lnTo>
                <a:lnTo>
                  <a:pt x="216" y="209"/>
                </a:lnTo>
                <a:lnTo>
                  <a:pt x="215" y="196"/>
                </a:lnTo>
                <a:lnTo>
                  <a:pt x="216" y="183"/>
                </a:lnTo>
                <a:lnTo>
                  <a:pt x="221" y="165"/>
                </a:lnTo>
                <a:lnTo>
                  <a:pt x="227" y="147"/>
                </a:lnTo>
                <a:lnTo>
                  <a:pt x="234" y="129"/>
                </a:lnTo>
                <a:lnTo>
                  <a:pt x="239" y="122"/>
                </a:lnTo>
                <a:lnTo>
                  <a:pt x="243" y="118"/>
                </a:lnTo>
                <a:lnTo>
                  <a:pt x="248" y="117"/>
                </a:lnTo>
                <a:lnTo>
                  <a:pt x="255" y="117"/>
                </a:lnTo>
                <a:lnTo>
                  <a:pt x="266" y="125"/>
                </a:lnTo>
                <a:lnTo>
                  <a:pt x="278" y="138"/>
                </a:lnTo>
                <a:lnTo>
                  <a:pt x="287" y="152"/>
                </a:lnTo>
                <a:lnTo>
                  <a:pt x="291" y="165"/>
                </a:lnTo>
                <a:lnTo>
                  <a:pt x="293" y="177"/>
                </a:lnTo>
                <a:lnTo>
                  <a:pt x="294" y="180"/>
                </a:lnTo>
                <a:lnTo>
                  <a:pt x="295" y="183"/>
                </a:lnTo>
                <a:lnTo>
                  <a:pt x="299" y="184"/>
                </a:lnTo>
                <a:lnTo>
                  <a:pt x="304" y="184"/>
                </a:lnTo>
                <a:lnTo>
                  <a:pt x="311" y="180"/>
                </a:lnTo>
                <a:lnTo>
                  <a:pt x="320" y="176"/>
                </a:lnTo>
                <a:lnTo>
                  <a:pt x="332" y="164"/>
                </a:lnTo>
                <a:lnTo>
                  <a:pt x="344" y="149"/>
                </a:lnTo>
                <a:lnTo>
                  <a:pt x="350" y="140"/>
                </a:lnTo>
                <a:lnTo>
                  <a:pt x="357" y="130"/>
                </a:lnTo>
                <a:lnTo>
                  <a:pt x="371" y="108"/>
                </a:lnTo>
                <a:lnTo>
                  <a:pt x="387" y="85"/>
                </a:lnTo>
                <a:lnTo>
                  <a:pt x="406" y="63"/>
                </a:lnTo>
                <a:lnTo>
                  <a:pt x="429" y="43"/>
                </a:lnTo>
                <a:lnTo>
                  <a:pt x="442" y="33"/>
                </a:lnTo>
                <a:lnTo>
                  <a:pt x="456" y="25"/>
                </a:lnTo>
                <a:lnTo>
                  <a:pt x="455" y="23"/>
                </a:lnTo>
                <a:lnTo>
                  <a:pt x="456" y="25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5120" y="1463760"/>
            <a:ext cx="358920" cy="228600"/>
          </a:xfrm>
          <a:custGeom>
            <a:avLst/>
            <a:gdLst/>
            <a:ahLst/>
            <a:rect l="l" t="t" r="r" b="b"/>
            <a:pathLst>
              <a:path w="226" h="144">
                <a:moveTo>
                  <a:pt x="23" y="9"/>
                </a:moveTo>
                <a:lnTo>
                  <a:pt x="35" y="3"/>
                </a:lnTo>
                <a:lnTo>
                  <a:pt x="49" y="1"/>
                </a:lnTo>
                <a:lnTo>
                  <a:pt x="62" y="0"/>
                </a:lnTo>
                <a:lnTo>
                  <a:pt x="76" y="1"/>
                </a:lnTo>
                <a:lnTo>
                  <a:pt x="89" y="3"/>
                </a:lnTo>
                <a:lnTo>
                  <a:pt x="101" y="7"/>
                </a:lnTo>
                <a:lnTo>
                  <a:pt x="111" y="11"/>
                </a:lnTo>
                <a:lnTo>
                  <a:pt x="120" y="15"/>
                </a:lnTo>
                <a:lnTo>
                  <a:pt x="133" y="26"/>
                </a:lnTo>
                <a:lnTo>
                  <a:pt x="149" y="38"/>
                </a:lnTo>
                <a:lnTo>
                  <a:pt x="167" y="47"/>
                </a:lnTo>
                <a:lnTo>
                  <a:pt x="175" y="50"/>
                </a:lnTo>
                <a:lnTo>
                  <a:pt x="187" y="51"/>
                </a:lnTo>
                <a:lnTo>
                  <a:pt x="194" y="52"/>
                </a:lnTo>
                <a:lnTo>
                  <a:pt x="200" y="54"/>
                </a:lnTo>
                <a:lnTo>
                  <a:pt x="206" y="59"/>
                </a:lnTo>
                <a:lnTo>
                  <a:pt x="210" y="63"/>
                </a:lnTo>
                <a:lnTo>
                  <a:pt x="214" y="71"/>
                </a:lnTo>
                <a:lnTo>
                  <a:pt x="218" y="81"/>
                </a:lnTo>
                <a:lnTo>
                  <a:pt x="222" y="91"/>
                </a:lnTo>
                <a:lnTo>
                  <a:pt x="225" y="104"/>
                </a:lnTo>
                <a:lnTo>
                  <a:pt x="206" y="112"/>
                </a:lnTo>
                <a:lnTo>
                  <a:pt x="189" y="116"/>
                </a:lnTo>
                <a:lnTo>
                  <a:pt x="173" y="119"/>
                </a:lnTo>
                <a:lnTo>
                  <a:pt x="158" y="116"/>
                </a:lnTo>
                <a:lnTo>
                  <a:pt x="142" y="115"/>
                </a:lnTo>
                <a:lnTo>
                  <a:pt x="124" y="119"/>
                </a:lnTo>
                <a:lnTo>
                  <a:pt x="104" y="125"/>
                </a:lnTo>
                <a:lnTo>
                  <a:pt x="79" y="137"/>
                </a:lnTo>
                <a:lnTo>
                  <a:pt x="64" y="141"/>
                </a:lnTo>
                <a:lnTo>
                  <a:pt x="53" y="142"/>
                </a:lnTo>
                <a:lnTo>
                  <a:pt x="41" y="143"/>
                </a:lnTo>
                <a:lnTo>
                  <a:pt x="33" y="143"/>
                </a:lnTo>
                <a:lnTo>
                  <a:pt x="25" y="141"/>
                </a:lnTo>
                <a:lnTo>
                  <a:pt x="20" y="138"/>
                </a:lnTo>
                <a:lnTo>
                  <a:pt x="18" y="135"/>
                </a:lnTo>
                <a:lnTo>
                  <a:pt x="18" y="131"/>
                </a:lnTo>
                <a:lnTo>
                  <a:pt x="19" y="119"/>
                </a:lnTo>
                <a:lnTo>
                  <a:pt x="24" y="106"/>
                </a:lnTo>
                <a:lnTo>
                  <a:pt x="34" y="89"/>
                </a:lnTo>
                <a:lnTo>
                  <a:pt x="47" y="70"/>
                </a:lnTo>
                <a:lnTo>
                  <a:pt x="45" y="68"/>
                </a:lnTo>
                <a:lnTo>
                  <a:pt x="0" y="35"/>
                </a:lnTo>
                <a:lnTo>
                  <a:pt x="2" y="36"/>
                </a:lnTo>
                <a:lnTo>
                  <a:pt x="1" y="32"/>
                </a:lnTo>
                <a:lnTo>
                  <a:pt x="4" y="26"/>
                </a:lnTo>
                <a:lnTo>
                  <a:pt x="12" y="18"/>
                </a:lnTo>
                <a:lnTo>
                  <a:pt x="23" y="9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71920" y="1719360"/>
            <a:ext cx="276120" cy="172800"/>
          </a:xfrm>
          <a:custGeom>
            <a:avLst/>
            <a:gdLst/>
            <a:ahLst/>
            <a:rect l="l" t="t" r="r" b="b"/>
            <a:pathLst>
              <a:path w="174" h="109">
                <a:moveTo>
                  <a:pt x="67" y="35"/>
                </a:moveTo>
                <a:lnTo>
                  <a:pt x="68" y="43"/>
                </a:lnTo>
                <a:lnTo>
                  <a:pt x="70" y="48"/>
                </a:lnTo>
                <a:lnTo>
                  <a:pt x="72" y="50"/>
                </a:lnTo>
                <a:lnTo>
                  <a:pt x="77" y="50"/>
                </a:lnTo>
                <a:lnTo>
                  <a:pt x="83" y="48"/>
                </a:lnTo>
                <a:lnTo>
                  <a:pt x="89" y="45"/>
                </a:lnTo>
                <a:lnTo>
                  <a:pt x="102" y="36"/>
                </a:lnTo>
                <a:lnTo>
                  <a:pt x="109" y="29"/>
                </a:lnTo>
                <a:lnTo>
                  <a:pt x="118" y="25"/>
                </a:lnTo>
                <a:lnTo>
                  <a:pt x="131" y="14"/>
                </a:lnTo>
                <a:lnTo>
                  <a:pt x="144" y="8"/>
                </a:lnTo>
                <a:lnTo>
                  <a:pt x="150" y="7"/>
                </a:lnTo>
                <a:lnTo>
                  <a:pt x="155" y="8"/>
                </a:lnTo>
                <a:lnTo>
                  <a:pt x="160" y="12"/>
                </a:lnTo>
                <a:lnTo>
                  <a:pt x="164" y="18"/>
                </a:lnTo>
                <a:lnTo>
                  <a:pt x="168" y="25"/>
                </a:lnTo>
                <a:lnTo>
                  <a:pt x="170" y="33"/>
                </a:lnTo>
                <a:lnTo>
                  <a:pt x="172" y="42"/>
                </a:lnTo>
                <a:lnTo>
                  <a:pt x="173" y="53"/>
                </a:lnTo>
                <a:lnTo>
                  <a:pt x="173" y="65"/>
                </a:lnTo>
                <a:lnTo>
                  <a:pt x="172" y="80"/>
                </a:lnTo>
                <a:lnTo>
                  <a:pt x="160" y="92"/>
                </a:lnTo>
                <a:lnTo>
                  <a:pt x="146" y="100"/>
                </a:lnTo>
                <a:lnTo>
                  <a:pt x="131" y="104"/>
                </a:lnTo>
                <a:lnTo>
                  <a:pt x="116" y="107"/>
                </a:lnTo>
                <a:lnTo>
                  <a:pt x="90" y="108"/>
                </a:lnTo>
                <a:lnTo>
                  <a:pt x="67" y="108"/>
                </a:lnTo>
                <a:lnTo>
                  <a:pt x="56" y="107"/>
                </a:lnTo>
                <a:lnTo>
                  <a:pt x="48" y="104"/>
                </a:lnTo>
                <a:lnTo>
                  <a:pt x="42" y="100"/>
                </a:lnTo>
                <a:lnTo>
                  <a:pt x="38" y="94"/>
                </a:lnTo>
                <a:lnTo>
                  <a:pt x="34" y="85"/>
                </a:lnTo>
                <a:lnTo>
                  <a:pt x="26" y="76"/>
                </a:lnTo>
                <a:lnTo>
                  <a:pt x="14" y="68"/>
                </a:lnTo>
                <a:lnTo>
                  <a:pt x="0" y="63"/>
                </a:lnTo>
                <a:lnTo>
                  <a:pt x="0" y="49"/>
                </a:lnTo>
                <a:lnTo>
                  <a:pt x="1" y="37"/>
                </a:lnTo>
                <a:lnTo>
                  <a:pt x="3" y="27"/>
                </a:lnTo>
                <a:lnTo>
                  <a:pt x="5" y="20"/>
                </a:lnTo>
                <a:lnTo>
                  <a:pt x="8" y="13"/>
                </a:lnTo>
                <a:lnTo>
                  <a:pt x="12" y="8"/>
                </a:lnTo>
                <a:lnTo>
                  <a:pt x="15" y="4"/>
                </a:lnTo>
                <a:lnTo>
                  <a:pt x="20" y="2"/>
                </a:lnTo>
                <a:lnTo>
                  <a:pt x="29" y="0"/>
                </a:lnTo>
                <a:lnTo>
                  <a:pt x="38" y="2"/>
                </a:lnTo>
                <a:lnTo>
                  <a:pt x="45" y="5"/>
                </a:lnTo>
                <a:lnTo>
                  <a:pt x="52" y="9"/>
                </a:lnTo>
                <a:lnTo>
                  <a:pt x="58" y="14"/>
                </a:lnTo>
                <a:lnTo>
                  <a:pt x="63" y="20"/>
                </a:lnTo>
                <a:lnTo>
                  <a:pt x="66" y="27"/>
                </a:lnTo>
                <a:lnTo>
                  <a:pt x="67" y="35"/>
                </a:lnTo>
                <a:lnTo>
                  <a:pt x="65" y="35"/>
                </a:lnTo>
                <a:lnTo>
                  <a:pt x="67" y="35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08320" y="1090440"/>
            <a:ext cx="4767480" cy="2927520"/>
          </a:xfrm>
          <a:custGeom>
            <a:avLst/>
            <a:gdLst/>
            <a:ahLst/>
            <a:rect l="l" t="t" r="r" b="b"/>
            <a:pathLst>
              <a:path w="3003" h="1844">
                <a:moveTo>
                  <a:pt x="120" y="967"/>
                </a:moveTo>
                <a:lnTo>
                  <a:pt x="115" y="971"/>
                </a:lnTo>
                <a:lnTo>
                  <a:pt x="107" y="975"/>
                </a:lnTo>
                <a:lnTo>
                  <a:pt x="99" y="976"/>
                </a:lnTo>
                <a:lnTo>
                  <a:pt x="88" y="975"/>
                </a:lnTo>
                <a:lnTo>
                  <a:pt x="76" y="971"/>
                </a:lnTo>
                <a:lnTo>
                  <a:pt x="62" y="967"/>
                </a:lnTo>
                <a:lnTo>
                  <a:pt x="46" y="960"/>
                </a:lnTo>
                <a:lnTo>
                  <a:pt x="29" y="952"/>
                </a:lnTo>
                <a:lnTo>
                  <a:pt x="16" y="969"/>
                </a:lnTo>
                <a:lnTo>
                  <a:pt x="8" y="986"/>
                </a:lnTo>
                <a:lnTo>
                  <a:pt x="2" y="1001"/>
                </a:lnTo>
                <a:lnTo>
                  <a:pt x="0" y="1016"/>
                </a:lnTo>
                <a:lnTo>
                  <a:pt x="1" y="1027"/>
                </a:lnTo>
                <a:lnTo>
                  <a:pt x="4" y="1042"/>
                </a:lnTo>
                <a:lnTo>
                  <a:pt x="13" y="1075"/>
                </a:lnTo>
                <a:lnTo>
                  <a:pt x="19" y="1090"/>
                </a:lnTo>
                <a:lnTo>
                  <a:pt x="25" y="1105"/>
                </a:lnTo>
                <a:lnTo>
                  <a:pt x="30" y="1117"/>
                </a:lnTo>
                <a:lnTo>
                  <a:pt x="35" y="1125"/>
                </a:lnTo>
                <a:lnTo>
                  <a:pt x="40" y="1130"/>
                </a:lnTo>
                <a:lnTo>
                  <a:pt x="48" y="1135"/>
                </a:lnTo>
                <a:lnTo>
                  <a:pt x="59" y="1138"/>
                </a:lnTo>
                <a:lnTo>
                  <a:pt x="70" y="1141"/>
                </a:lnTo>
                <a:lnTo>
                  <a:pt x="81" y="1140"/>
                </a:lnTo>
                <a:lnTo>
                  <a:pt x="94" y="1136"/>
                </a:lnTo>
                <a:lnTo>
                  <a:pt x="104" y="1129"/>
                </a:lnTo>
                <a:lnTo>
                  <a:pt x="114" y="1118"/>
                </a:lnTo>
                <a:lnTo>
                  <a:pt x="124" y="1103"/>
                </a:lnTo>
                <a:lnTo>
                  <a:pt x="130" y="1094"/>
                </a:lnTo>
                <a:lnTo>
                  <a:pt x="136" y="1084"/>
                </a:lnTo>
                <a:lnTo>
                  <a:pt x="150" y="1062"/>
                </a:lnTo>
                <a:lnTo>
                  <a:pt x="165" y="1039"/>
                </a:lnTo>
                <a:lnTo>
                  <a:pt x="180" y="1017"/>
                </a:lnTo>
                <a:lnTo>
                  <a:pt x="196" y="998"/>
                </a:lnTo>
                <a:lnTo>
                  <a:pt x="210" y="983"/>
                </a:lnTo>
                <a:lnTo>
                  <a:pt x="218" y="977"/>
                </a:lnTo>
                <a:lnTo>
                  <a:pt x="225" y="974"/>
                </a:lnTo>
                <a:lnTo>
                  <a:pt x="237" y="969"/>
                </a:lnTo>
                <a:lnTo>
                  <a:pt x="250" y="967"/>
                </a:lnTo>
                <a:lnTo>
                  <a:pt x="263" y="967"/>
                </a:lnTo>
                <a:lnTo>
                  <a:pt x="277" y="968"/>
                </a:lnTo>
                <a:lnTo>
                  <a:pt x="289" y="972"/>
                </a:lnTo>
                <a:lnTo>
                  <a:pt x="300" y="978"/>
                </a:lnTo>
                <a:lnTo>
                  <a:pt x="311" y="985"/>
                </a:lnTo>
                <a:lnTo>
                  <a:pt x="320" y="995"/>
                </a:lnTo>
                <a:lnTo>
                  <a:pt x="327" y="1003"/>
                </a:lnTo>
                <a:lnTo>
                  <a:pt x="333" y="1014"/>
                </a:lnTo>
                <a:lnTo>
                  <a:pt x="341" y="1025"/>
                </a:lnTo>
                <a:lnTo>
                  <a:pt x="350" y="1038"/>
                </a:lnTo>
                <a:lnTo>
                  <a:pt x="358" y="1053"/>
                </a:lnTo>
                <a:lnTo>
                  <a:pt x="368" y="1069"/>
                </a:lnTo>
                <a:lnTo>
                  <a:pt x="378" y="1086"/>
                </a:lnTo>
                <a:lnTo>
                  <a:pt x="389" y="1105"/>
                </a:lnTo>
                <a:lnTo>
                  <a:pt x="389" y="1103"/>
                </a:lnTo>
                <a:lnTo>
                  <a:pt x="402" y="1057"/>
                </a:lnTo>
                <a:lnTo>
                  <a:pt x="446" y="1042"/>
                </a:lnTo>
                <a:lnTo>
                  <a:pt x="464" y="1125"/>
                </a:lnTo>
                <a:lnTo>
                  <a:pt x="484" y="1096"/>
                </a:lnTo>
                <a:lnTo>
                  <a:pt x="495" y="1080"/>
                </a:lnTo>
                <a:lnTo>
                  <a:pt x="506" y="1064"/>
                </a:lnTo>
                <a:lnTo>
                  <a:pt x="518" y="1043"/>
                </a:lnTo>
                <a:lnTo>
                  <a:pt x="532" y="1018"/>
                </a:lnTo>
                <a:lnTo>
                  <a:pt x="546" y="987"/>
                </a:lnTo>
                <a:lnTo>
                  <a:pt x="563" y="952"/>
                </a:lnTo>
                <a:lnTo>
                  <a:pt x="584" y="961"/>
                </a:lnTo>
                <a:lnTo>
                  <a:pt x="603" y="974"/>
                </a:lnTo>
                <a:lnTo>
                  <a:pt x="614" y="980"/>
                </a:lnTo>
                <a:lnTo>
                  <a:pt x="629" y="986"/>
                </a:lnTo>
                <a:lnTo>
                  <a:pt x="648" y="991"/>
                </a:lnTo>
                <a:lnTo>
                  <a:pt x="672" y="995"/>
                </a:lnTo>
                <a:lnTo>
                  <a:pt x="695" y="1002"/>
                </a:lnTo>
                <a:lnTo>
                  <a:pt x="713" y="1009"/>
                </a:lnTo>
                <a:lnTo>
                  <a:pt x="727" y="1016"/>
                </a:lnTo>
                <a:lnTo>
                  <a:pt x="735" y="1024"/>
                </a:lnTo>
                <a:lnTo>
                  <a:pt x="743" y="1032"/>
                </a:lnTo>
                <a:lnTo>
                  <a:pt x="751" y="1045"/>
                </a:lnTo>
                <a:lnTo>
                  <a:pt x="765" y="1063"/>
                </a:lnTo>
                <a:lnTo>
                  <a:pt x="773" y="1073"/>
                </a:lnTo>
                <a:lnTo>
                  <a:pt x="782" y="1085"/>
                </a:lnTo>
                <a:lnTo>
                  <a:pt x="750" y="1089"/>
                </a:lnTo>
                <a:lnTo>
                  <a:pt x="734" y="1092"/>
                </a:lnTo>
                <a:lnTo>
                  <a:pt x="720" y="1093"/>
                </a:lnTo>
                <a:lnTo>
                  <a:pt x="695" y="1092"/>
                </a:lnTo>
                <a:lnTo>
                  <a:pt x="683" y="1089"/>
                </a:lnTo>
                <a:lnTo>
                  <a:pt x="672" y="1085"/>
                </a:lnTo>
                <a:lnTo>
                  <a:pt x="660" y="1080"/>
                </a:lnTo>
                <a:lnTo>
                  <a:pt x="648" y="1078"/>
                </a:lnTo>
                <a:lnTo>
                  <a:pt x="635" y="1077"/>
                </a:lnTo>
                <a:lnTo>
                  <a:pt x="621" y="1078"/>
                </a:lnTo>
                <a:lnTo>
                  <a:pt x="606" y="1080"/>
                </a:lnTo>
                <a:lnTo>
                  <a:pt x="593" y="1085"/>
                </a:lnTo>
                <a:lnTo>
                  <a:pt x="581" y="1090"/>
                </a:lnTo>
                <a:lnTo>
                  <a:pt x="569" y="1098"/>
                </a:lnTo>
                <a:lnTo>
                  <a:pt x="555" y="1111"/>
                </a:lnTo>
                <a:lnTo>
                  <a:pt x="544" y="1127"/>
                </a:lnTo>
                <a:lnTo>
                  <a:pt x="534" y="1149"/>
                </a:lnTo>
                <a:lnTo>
                  <a:pt x="528" y="1175"/>
                </a:lnTo>
                <a:lnTo>
                  <a:pt x="548" y="1181"/>
                </a:lnTo>
                <a:lnTo>
                  <a:pt x="565" y="1187"/>
                </a:lnTo>
                <a:lnTo>
                  <a:pt x="579" y="1191"/>
                </a:lnTo>
                <a:lnTo>
                  <a:pt x="591" y="1195"/>
                </a:lnTo>
                <a:lnTo>
                  <a:pt x="600" y="1198"/>
                </a:lnTo>
                <a:lnTo>
                  <a:pt x="605" y="1201"/>
                </a:lnTo>
                <a:lnTo>
                  <a:pt x="611" y="1206"/>
                </a:lnTo>
                <a:lnTo>
                  <a:pt x="615" y="1211"/>
                </a:lnTo>
                <a:lnTo>
                  <a:pt x="620" y="1225"/>
                </a:lnTo>
                <a:lnTo>
                  <a:pt x="621" y="1244"/>
                </a:lnTo>
                <a:lnTo>
                  <a:pt x="619" y="1259"/>
                </a:lnTo>
                <a:lnTo>
                  <a:pt x="615" y="1276"/>
                </a:lnTo>
                <a:lnTo>
                  <a:pt x="607" y="1294"/>
                </a:lnTo>
                <a:lnTo>
                  <a:pt x="597" y="1314"/>
                </a:lnTo>
                <a:lnTo>
                  <a:pt x="603" y="1318"/>
                </a:lnTo>
                <a:lnTo>
                  <a:pt x="611" y="1326"/>
                </a:lnTo>
                <a:lnTo>
                  <a:pt x="637" y="1357"/>
                </a:lnTo>
                <a:lnTo>
                  <a:pt x="643" y="1367"/>
                </a:lnTo>
                <a:lnTo>
                  <a:pt x="648" y="1375"/>
                </a:lnTo>
                <a:lnTo>
                  <a:pt x="650" y="1382"/>
                </a:lnTo>
                <a:lnTo>
                  <a:pt x="659" y="1385"/>
                </a:lnTo>
                <a:lnTo>
                  <a:pt x="666" y="1393"/>
                </a:lnTo>
                <a:lnTo>
                  <a:pt x="673" y="1402"/>
                </a:lnTo>
                <a:lnTo>
                  <a:pt x="679" y="1414"/>
                </a:lnTo>
                <a:lnTo>
                  <a:pt x="690" y="1438"/>
                </a:lnTo>
                <a:lnTo>
                  <a:pt x="694" y="1449"/>
                </a:lnTo>
                <a:lnTo>
                  <a:pt x="695" y="1458"/>
                </a:lnTo>
                <a:lnTo>
                  <a:pt x="696" y="1464"/>
                </a:lnTo>
                <a:lnTo>
                  <a:pt x="698" y="1472"/>
                </a:lnTo>
                <a:lnTo>
                  <a:pt x="702" y="1481"/>
                </a:lnTo>
                <a:lnTo>
                  <a:pt x="706" y="1493"/>
                </a:lnTo>
                <a:lnTo>
                  <a:pt x="716" y="1520"/>
                </a:lnTo>
                <a:lnTo>
                  <a:pt x="729" y="1548"/>
                </a:lnTo>
                <a:lnTo>
                  <a:pt x="741" y="1577"/>
                </a:lnTo>
                <a:lnTo>
                  <a:pt x="752" y="1601"/>
                </a:lnTo>
                <a:lnTo>
                  <a:pt x="758" y="1610"/>
                </a:lnTo>
                <a:lnTo>
                  <a:pt x="763" y="1618"/>
                </a:lnTo>
                <a:lnTo>
                  <a:pt x="767" y="1623"/>
                </a:lnTo>
                <a:lnTo>
                  <a:pt x="769" y="1625"/>
                </a:lnTo>
                <a:lnTo>
                  <a:pt x="776" y="1628"/>
                </a:lnTo>
                <a:lnTo>
                  <a:pt x="784" y="1634"/>
                </a:lnTo>
                <a:lnTo>
                  <a:pt x="801" y="1650"/>
                </a:lnTo>
                <a:lnTo>
                  <a:pt x="818" y="1665"/>
                </a:lnTo>
                <a:lnTo>
                  <a:pt x="824" y="1671"/>
                </a:lnTo>
                <a:lnTo>
                  <a:pt x="829" y="1674"/>
                </a:lnTo>
                <a:lnTo>
                  <a:pt x="835" y="1674"/>
                </a:lnTo>
                <a:lnTo>
                  <a:pt x="843" y="1672"/>
                </a:lnTo>
                <a:lnTo>
                  <a:pt x="853" y="1668"/>
                </a:lnTo>
                <a:lnTo>
                  <a:pt x="864" y="1663"/>
                </a:lnTo>
                <a:lnTo>
                  <a:pt x="875" y="1656"/>
                </a:lnTo>
                <a:lnTo>
                  <a:pt x="883" y="1648"/>
                </a:lnTo>
                <a:lnTo>
                  <a:pt x="891" y="1639"/>
                </a:lnTo>
                <a:lnTo>
                  <a:pt x="895" y="1630"/>
                </a:lnTo>
                <a:lnTo>
                  <a:pt x="900" y="1617"/>
                </a:lnTo>
                <a:lnTo>
                  <a:pt x="907" y="1602"/>
                </a:lnTo>
                <a:lnTo>
                  <a:pt x="927" y="1568"/>
                </a:lnTo>
                <a:lnTo>
                  <a:pt x="937" y="1552"/>
                </a:lnTo>
                <a:lnTo>
                  <a:pt x="948" y="1537"/>
                </a:lnTo>
                <a:lnTo>
                  <a:pt x="958" y="1525"/>
                </a:lnTo>
                <a:lnTo>
                  <a:pt x="966" y="1517"/>
                </a:lnTo>
                <a:lnTo>
                  <a:pt x="991" y="1500"/>
                </a:lnTo>
                <a:lnTo>
                  <a:pt x="1017" y="1480"/>
                </a:lnTo>
                <a:lnTo>
                  <a:pt x="969" y="1464"/>
                </a:lnTo>
                <a:lnTo>
                  <a:pt x="921" y="1446"/>
                </a:lnTo>
                <a:lnTo>
                  <a:pt x="899" y="1437"/>
                </a:lnTo>
                <a:lnTo>
                  <a:pt x="880" y="1427"/>
                </a:lnTo>
                <a:lnTo>
                  <a:pt x="864" y="1416"/>
                </a:lnTo>
                <a:lnTo>
                  <a:pt x="853" y="1403"/>
                </a:lnTo>
                <a:lnTo>
                  <a:pt x="845" y="1389"/>
                </a:lnTo>
                <a:lnTo>
                  <a:pt x="841" y="1378"/>
                </a:lnTo>
                <a:lnTo>
                  <a:pt x="839" y="1365"/>
                </a:lnTo>
                <a:lnTo>
                  <a:pt x="840" y="1354"/>
                </a:lnTo>
                <a:lnTo>
                  <a:pt x="844" y="1342"/>
                </a:lnTo>
                <a:lnTo>
                  <a:pt x="849" y="1332"/>
                </a:lnTo>
                <a:lnTo>
                  <a:pt x="856" y="1324"/>
                </a:lnTo>
                <a:lnTo>
                  <a:pt x="864" y="1316"/>
                </a:lnTo>
                <a:lnTo>
                  <a:pt x="873" y="1311"/>
                </a:lnTo>
                <a:lnTo>
                  <a:pt x="881" y="1311"/>
                </a:lnTo>
                <a:lnTo>
                  <a:pt x="890" y="1315"/>
                </a:lnTo>
                <a:lnTo>
                  <a:pt x="897" y="1320"/>
                </a:lnTo>
                <a:lnTo>
                  <a:pt x="910" y="1336"/>
                </a:lnTo>
                <a:lnTo>
                  <a:pt x="919" y="1351"/>
                </a:lnTo>
                <a:lnTo>
                  <a:pt x="923" y="1359"/>
                </a:lnTo>
                <a:lnTo>
                  <a:pt x="929" y="1368"/>
                </a:lnTo>
                <a:lnTo>
                  <a:pt x="944" y="1389"/>
                </a:lnTo>
                <a:lnTo>
                  <a:pt x="953" y="1398"/>
                </a:lnTo>
                <a:lnTo>
                  <a:pt x="964" y="1406"/>
                </a:lnTo>
                <a:lnTo>
                  <a:pt x="976" y="1410"/>
                </a:lnTo>
                <a:lnTo>
                  <a:pt x="988" y="1410"/>
                </a:lnTo>
                <a:lnTo>
                  <a:pt x="995" y="1409"/>
                </a:lnTo>
                <a:lnTo>
                  <a:pt x="1003" y="1409"/>
                </a:lnTo>
                <a:lnTo>
                  <a:pt x="1023" y="1411"/>
                </a:lnTo>
                <a:lnTo>
                  <a:pt x="1045" y="1417"/>
                </a:lnTo>
                <a:lnTo>
                  <a:pt x="1069" y="1424"/>
                </a:lnTo>
                <a:lnTo>
                  <a:pt x="1092" y="1433"/>
                </a:lnTo>
                <a:lnTo>
                  <a:pt x="1114" y="1444"/>
                </a:lnTo>
                <a:lnTo>
                  <a:pt x="1132" y="1457"/>
                </a:lnTo>
                <a:lnTo>
                  <a:pt x="1147" y="1469"/>
                </a:lnTo>
                <a:lnTo>
                  <a:pt x="1158" y="1481"/>
                </a:lnTo>
                <a:lnTo>
                  <a:pt x="1170" y="1491"/>
                </a:lnTo>
                <a:lnTo>
                  <a:pt x="1196" y="1509"/>
                </a:lnTo>
                <a:lnTo>
                  <a:pt x="1208" y="1519"/>
                </a:lnTo>
                <a:lnTo>
                  <a:pt x="1218" y="1529"/>
                </a:lnTo>
                <a:lnTo>
                  <a:pt x="1225" y="1540"/>
                </a:lnTo>
                <a:lnTo>
                  <a:pt x="1230" y="1553"/>
                </a:lnTo>
                <a:lnTo>
                  <a:pt x="1234" y="1583"/>
                </a:lnTo>
                <a:lnTo>
                  <a:pt x="1238" y="1614"/>
                </a:lnTo>
                <a:lnTo>
                  <a:pt x="1245" y="1642"/>
                </a:lnTo>
                <a:lnTo>
                  <a:pt x="1250" y="1656"/>
                </a:lnTo>
                <a:lnTo>
                  <a:pt x="1254" y="1667"/>
                </a:lnTo>
                <a:lnTo>
                  <a:pt x="1260" y="1678"/>
                </a:lnTo>
                <a:lnTo>
                  <a:pt x="1267" y="1689"/>
                </a:lnTo>
                <a:lnTo>
                  <a:pt x="1280" y="1720"/>
                </a:lnTo>
                <a:lnTo>
                  <a:pt x="1295" y="1750"/>
                </a:lnTo>
                <a:lnTo>
                  <a:pt x="1303" y="1762"/>
                </a:lnTo>
                <a:lnTo>
                  <a:pt x="1311" y="1772"/>
                </a:lnTo>
                <a:lnTo>
                  <a:pt x="1320" y="1777"/>
                </a:lnTo>
                <a:lnTo>
                  <a:pt x="1327" y="1782"/>
                </a:lnTo>
                <a:lnTo>
                  <a:pt x="1333" y="1783"/>
                </a:lnTo>
                <a:lnTo>
                  <a:pt x="1338" y="1782"/>
                </a:lnTo>
                <a:lnTo>
                  <a:pt x="1343" y="1777"/>
                </a:lnTo>
                <a:lnTo>
                  <a:pt x="1345" y="1767"/>
                </a:lnTo>
                <a:lnTo>
                  <a:pt x="1346" y="1752"/>
                </a:lnTo>
                <a:lnTo>
                  <a:pt x="1347" y="1742"/>
                </a:lnTo>
                <a:lnTo>
                  <a:pt x="1347" y="1730"/>
                </a:lnTo>
                <a:lnTo>
                  <a:pt x="1348" y="1706"/>
                </a:lnTo>
                <a:lnTo>
                  <a:pt x="1350" y="1684"/>
                </a:lnTo>
                <a:lnTo>
                  <a:pt x="1353" y="1662"/>
                </a:lnTo>
                <a:lnTo>
                  <a:pt x="1358" y="1640"/>
                </a:lnTo>
                <a:lnTo>
                  <a:pt x="1364" y="1619"/>
                </a:lnTo>
                <a:lnTo>
                  <a:pt x="1374" y="1601"/>
                </a:lnTo>
                <a:lnTo>
                  <a:pt x="1385" y="1585"/>
                </a:lnTo>
                <a:lnTo>
                  <a:pt x="1399" y="1570"/>
                </a:lnTo>
                <a:lnTo>
                  <a:pt x="1414" y="1557"/>
                </a:lnTo>
                <a:lnTo>
                  <a:pt x="1428" y="1546"/>
                </a:lnTo>
                <a:lnTo>
                  <a:pt x="1441" y="1536"/>
                </a:lnTo>
                <a:lnTo>
                  <a:pt x="1453" y="1528"/>
                </a:lnTo>
                <a:lnTo>
                  <a:pt x="1465" y="1520"/>
                </a:lnTo>
                <a:lnTo>
                  <a:pt x="1475" y="1513"/>
                </a:lnTo>
                <a:lnTo>
                  <a:pt x="1484" y="1507"/>
                </a:lnTo>
                <a:lnTo>
                  <a:pt x="1491" y="1503"/>
                </a:lnTo>
                <a:lnTo>
                  <a:pt x="1499" y="1497"/>
                </a:lnTo>
                <a:lnTo>
                  <a:pt x="1517" y="1475"/>
                </a:lnTo>
                <a:lnTo>
                  <a:pt x="1527" y="1466"/>
                </a:lnTo>
                <a:lnTo>
                  <a:pt x="1536" y="1459"/>
                </a:lnTo>
                <a:lnTo>
                  <a:pt x="1540" y="1458"/>
                </a:lnTo>
                <a:lnTo>
                  <a:pt x="1543" y="1459"/>
                </a:lnTo>
                <a:lnTo>
                  <a:pt x="1545" y="1462"/>
                </a:lnTo>
                <a:lnTo>
                  <a:pt x="1547" y="1467"/>
                </a:lnTo>
                <a:lnTo>
                  <a:pt x="1548" y="1475"/>
                </a:lnTo>
                <a:lnTo>
                  <a:pt x="1548" y="1487"/>
                </a:lnTo>
                <a:lnTo>
                  <a:pt x="1547" y="1509"/>
                </a:lnTo>
                <a:lnTo>
                  <a:pt x="1546" y="1529"/>
                </a:lnTo>
                <a:lnTo>
                  <a:pt x="1546" y="1546"/>
                </a:lnTo>
                <a:lnTo>
                  <a:pt x="1547" y="1562"/>
                </a:lnTo>
                <a:lnTo>
                  <a:pt x="1549" y="1576"/>
                </a:lnTo>
                <a:lnTo>
                  <a:pt x="1553" y="1590"/>
                </a:lnTo>
                <a:lnTo>
                  <a:pt x="1560" y="1602"/>
                </a:lnTo>
                <a:lnTo>
                  <a:pt x="1568" y="1617"/>
                </a:lnTo>
                <a:lnTo>
                  <a:pt x="1579" y="1633"/>
                </a:lnTo>
                <a:lnTo>
                  <a:pt x="1587" y="1650"/>
                </a:lnTo>
                <a:lnTo>
                  <a:pt x="1600" y="1682"/>
                </a:lnTo>
                <a:lnTo>
                  <a:pt x="1610" y="1711"/>
                </a:lnTo>
                <a:lnTo>
                  <a:pt x="1613" y="1725"/>
                </a:lnTo>
                <a:lnTo>
                  <a:pt x="1616" y="1736"/>
                </a:lnTo>
                <a:lnTo>
                  <a:pt x="1617" y="1752"/>
                </a:lnTo>
                <a:lnTo>
                  <a:pt x="1620" y="1773"/>
                </a:lnTo>
                <a:lnTo>
                  <a:pt x="1622" y="1798"/>
                </a:lnTo>
                <a:lnTo>
                  <a:pt x="1625" y="1827"/>
                </a:lnTo>
                <a:lnTo>
                  <a:pt x="1625" y="1824"/>
                </a:lnTo>
                <a:lnTo>
                  <a:pt x="1665" y="1790"/>
                </a:lnTo>
                <a:lnTo>
                  <a:pt x="1667" y="1790"/>
                </a:lnTo>
                <a:lnTo>
                  <a:pt x="1672" y="1805"/>
                </a:lnTo>
                <a:lnTo>
                  <a:pt x="1677" y="1817"/>
                </a:lnTo>
                <a:lnTo>
                  <a:pt x="1683" y="1828"/>
                </a:lnTo>
                <a:lnTo>
                  <a:pt x="1688" y="1836"/>
                </a:lnTo>
                <a:lnTo>
                  <a:pt x="1692" y="1840"/>
                </a:lnTo>
                <a:lnTo>
                  <a:pt x="1697" y="1843"/>
                </a:lnTo>
                <a:lnTo>
                  <a:pt x="1702" y="1843"/>
                </a:lnTo>
                <a:lnTo>
                  <a:pt x="1707" y="1840"/>
                </a:lnTo>
                <a:lnTo>
                  <a:pt x="1709" y="1837"/>
                </a:lnTo>
                <a:lnTo>
                  <a:pt x="1710" y="1833"/>
                </a:lnTo>
                <a:lnTo>
                  <a:pt x="1709" y="1822"/>
                </a:lnTo>
                <a:lnTo>
                  <a:pt x="1706" y="1809"/>
                </a:lnTo>
                <a:lnTo>
                  <a:pt x="1701" y="1793"/>
                </a:lnTo>
                <a:lnTo>
                  <a:pt x="1689" y="1762"/>
                </a:lnTo>
                <a:lnTo>
                  <a:pt x="1688" y="1749"/>
                </a:lnTo>
                <a:lnTo>
                  <a:pt x="1688" y="1736"/>
                </a:lnTo>
                <a:lnTo>
                  <a:pt x="1693" y="1727"/>
                </a:lnTo>
                <a:lnTo>
                  <a:pt x="1698" y="1720"/>
                </a:lnTo>
                <a:lnTo>
                  <a:pt x="1704" y="1717"/>
                </a:lnTo>
                <a:lnTo>
                  <a:pt x="1709" y="1714"/>
                </a:lnTo>
                <a:lnTo>
                  <a:pt x="1723" y="1713"/>
                </a:lnTo>
                <a:lnTo>
                  <a:pt x="1736" y="1714"/>
                </a:lnTo>
                <a:lnTo>
                  <a:pt x="1743" y="1713"/>
                </a:lnTo>
                <a:lnTo>
                  <a:pt x="1751" y="1710"/>
                </a:lnTo>
                <a:lnTo>
                  <a:pt x="1767" y="1698"/>
                </a:lnTo>
                <a:lnTo>
                  <a:pt x="1783" y="1684"/>
                </a:lnTo>
                <a:lnTo>
                  <a:pt x="1798" y="1667"/>
                </a:lnTo>
                <a:lnTo>
                  <a:pt x="1802" y="1659"/>
                </a:lnTo>
                <a:lnTo>
                  <a:pt x="1803" y="1651"/>
                </a:lnTo>
                <a:lnTo>
                  <a:pt x="1800" y="1643"/>
                </a:lnTo>
                <a:lnTo>
                  <a:pt x="1796" y="1635"/>
                </a:lnTo>
                <a:lnTo>
                  <a:pt x="1791" y="1628"/>
                </a:lnTo>
                <a:lnTo>
                  <a:pt x="1786" y="1620"/>
                </a:lnTo>
                <a:lnTo>
                  <a:pt x="1782" y="1612"/>
                </a:lnTo>
                <a:lnTo>
                  <a:pt x="1780" y="1606"/>
                </a:lnTo>
                <a:lnTo>
                  <a:pt x="1778" y="1598"/>
                </a:lnTo>
                <a:lnTo>
                  <a:pt x="1775" y="1591"/>
                </a:lnTo>
                <a:lnTo>
                  <a:pt x="1768" y="1584"/>
                </a:lnTo>
                <a:lnTo>
                  <a:pt x="1762" y="1577"/>
                </a:lnTo>
                <a:lnTo>
                  <a:pt x="1756" y="1570"/>
                </a:lnTo>
                <a:lnTo>
                  <a:pt x="1752" y="1563"/>
                </a:lnTo>
                <a:lnTo>
                  <a:pt x="1751" y="1556"/>
                </a:lnTo>
                <a:lnTo>
                  <a:pt x="1753" y="1548"/>
                </a:lnTo>
                <a:lnTo>
                  <a:pt x="1760" y="1539"/>
                </a:lnTo>
                <a:lnTo>
                  <a:pt x="1770" y="1530"/>
                </a:lnTo>
                <a:lnTo>
                  <a:pt x="1784" y="1521"/>
                </a:lnTo>
                <a:lnTo>
                  <a:pt x="1800" y="1511"/>
                </a:lnTo>
                <a:lnTo>
                  <a:pt x="1835" y="1493"/>
                </a:lnTo>
                <a:lnTo>
                  <a:pt x="1852" y="1485"/>
                </a:lnTo>
                <a:lnTo>
                  <a:pt x="1868" y="1480"/>
                </a:lnTo>
                <a:lnTo>
                  <a:pt x="1880" y="1473"/>
                </a:lnTo>
                <a:lnTo>
                  <a:pt x="1892" y="1465"/>
                </a:lnTo>
                <a:lnTo>
                  <a:pt x="1918" y="1443"/>
                </a:lnTo>
                <a:lnTo>
                  <a:pt x="1941" y="1419"/>
                </a:lnTo>
                <a:lnTo>
                  <a:pt x="1964" y="1396"/>
                </a:lnTo>
                <a:lnTo>
                  <a:pt x="1974" y="1385"/>
                </a:lnTo>
                <a:lnTo>
                  <a:pt x="1981" y="1372"/>
                </a:lnTo>
                <a:lnTo>
                  <a:pt x="1986" y="1356"/>
                </a:lnTo>
                <a:lnTo>
                  <a:pt x="1989" y="1340"/>
                </a:lnTo>
                <a:lnTo>
                  <a:pt x="1989" y="1324"/>
                </a:lnTo>
                <a:lnTo>
                  <a:pt x="1988" y="1307"/>
                </a:lnTo>
                <a:lnTo>
                  <a:pt x="1985" y="1292"/>
                </a:lnTo>
                <a:lnTo>
                  <a:pt x="1981" y="1277"/>
                </a:lnTo>
                <a:lnTo>
                  <a:pt x="1975" y="1253"/>
                </a:lnTo>
                <a:lnTo>
                  <a:pt x="1974" y="1241"/>
                </a:lnTo>
                <a:lnTo>
                  <a:pt x="1975" y="1230"/>
                </a:lnTo>
                <a:lnTo>
                  <a:pt x="1977" y="1217"/>
                </a:lnTo>
                <a:lnTo>
                  <a:pt x="1980" y="1206"/>
                </a:lnTo>
                <a:lnTo>
                  <a:pt x="1986" y="1195"/>
                </a:lnTo>
                <a:lnTo>
                  <a:pt x="1994" y="1182"/>
                </a:lnTo>
                <a:lnTo>
                  <a:pt x="2013" y="1152"/>
                </a:lnTo>
                <a:lnTo>
                  <a:pt x="2023" y="1138"/>
                </a:lnTo>
                <a:lnTo>
                  <a:pt x="2032" y="1126"/>
                </a:lnTo>
                <a:lnTo>
                  <a:pt x="2042" y="1118"/>
                </a:lnTo>
                <a:lnTo>
                  <a:pt x="2050" y="1114"/>
                </a:lnTo>
                <a:lnTo>
                  <a:pt x="2054" y="1116"/>
                </a:lnTo>
                <a:lnTo>
                  <a:pt x="2057" y="1119"/>
                </a:lnTo>
                <a:lnTo>
                  <a:pt x="2060" y="1124"/>
                </a:lnTo>
                <a:lnTo>
                  <a:pt x="2063" y="1132"/>
                </a:lnTo>
                <a:lnTo>
                  <a:pt x="2067" y="1159"/>
                </a:lnTo>
                <a:lnTo>
                  <a:pt x="2071" y="1189"/>
                </a:lnTo>
                <a:lnTo>
                  <a:pt x="2073" y="1222"/>
                </a:lnTo>
                <a:lnTo>
                  <a:pt x="2074" y="1259"/>
                </a:lnTo>
                <a:lnTo>
                  <a:pt x="2087" y="1246"/>
                </a:lnTo>
                <a:lnTo>
                  <a:pt x="2098" y="1230"/>
                </a:lnTo>
                <a:lnTo>
                  <a:pt x="2106" y="1212"/>
                </a:lnTo>
                <a:lnTo>
                  <a:pt x="2113" y="1192"/>
                </a:lnTo>
                <a:lnTo>
                  <a:pt x="2119" y="1174"/>
                </a:lnTo>
                <a:lnTo>
                  <a:pt x="2123" y="1157"/>
                </a:lnTo>
                <a:lnTo>
                  <a:pt x="2127" y="1142"/>
                </a:lnTo>
                <a:lnTo>
                  <a:pt x="2132" y="1132"/>
                </a:lnTo>
                <a:lnTo>
                  <a:pt x="2138" y="1121"/>
                </a:lnTo>
                <a:lnTo>
                  <a:pt x="2144" y="1108"/>
                </a:lnTo>
                <a:lnTo>
                  <a:pt x="2161" y="1075"/>
                </a:lnTo>
                <a:lnTo>
                  <a:pt x="2170" y="1058"/>
                </a:lnTo>
                <a:lnTo>
                  <a:pt x="2179" y="1043"/>
                </a:lnTo>
                <a:lnTo>
                  <a:pt x="2187" y="1031"/>
                </a:lnTo>
                <a:lnTo>
                  <a:pt x="2194" y="1024"/>
                </a:lnTo>
                <a:lnTo>
                  <a:pt x="2201" y="1017"/>
                </a:lnTo>
                <a:lnTo>
                  <a:pt x="2209" y="1006"/>
                </a:lnTo>
                <a:lnTo>
                  <a:pt x="2224" y="980"/>
                </a:lnTo>
                <a:lnTo>
                  <a:pt x="2239" y="953"/>
                </a:lnTo>
                <a:lnTo>
                  <a:pt x="2246" y="942"/>
                </a:lnTo>
                <a:lnTo>
                  <a:pt x="2252" y="932"/>
                </a:lnTo>
                <a:lnTo>
                  <a:pt x="2258" y="922"/>
                </a:lnTo>
                <a:lnTo>
                  <a:pt x="2265" y="906"/>
                </a:lnTo>
                <a:lnTo>
                  <a:pt x="2281" y="866"/>
                </a:lnTo>
                <a:lnTo>
                  <a:pt x="2287" y="845"/>
                </a:lnTo>
                <a:lnTo>
                  <a:pt x="2294" y="826"/>
                </a:lnTo>
                <a:lnTo>
                  <a:pt x="2300" y="810"/>
                </a:lnTo>
                <a:lnTo>
                  <a:pt x="2304" y="800"/>
                </a:lnTo>
                <a:lnTo>
                  <a:pt x="2307" y="790"/>
                </a:lnTo>
                <a:lnTo>
                  <a:pt x="2307" y="779"/>
                </a:lnTo>
                <a:lnTo>
                  <a:pt x="2304" y="766"/>
                </a:lnTo>
                <a:lnTo>
                  <a:pt x="2300" y="754"/>
                </a:lnTo>
                <a:lnTo>
                  <a:pt x="2293" y="742"/>
                </a:lnTo>
                <a:lnTo>
                  <a:pt x="2284" y="733"/>
                </a:lnTo>
                <a:lnTo>
                  <a:pt x="2271" y="726"/>
                </a:lnTo>
                <a:lnTo>
                  <a:pt x="2257" y="724"/>
                </a:lnTo>
                <a:lnTo>
                  <a:pt x="2251" y="724"/>
                </a:lnTo>
                <a:lnTo>
                  <a:pt x="2246" y="723"/>
                </a:lnTo>
                <a:lnTo>
                  <a:pt x="2238" y="718"/>
                </a:lnTo>
                <a:lnTo>
                  <a:pt x="2235" y="711"/>
                </a:lnTo>
                <a:lnTo>
                  <a:pt x="2235" y="703"/>
                </a:lnTo>
                <a:lnTo>
                  <a:pt x="2239" y="693"/>
                </a:lnTo>
                <a:lnTo>
                  <a:pt x="2246" y="680"/>
                </a:lnTo>
                <a:lnTo>
                  <a:pt x="2253" y="668"/>
                </a:lnTo>
                <a:lnTo>
                  <a:pt x="2263" y="655"/>
                </a:lnTo>
                <a:lnTo>
                  <a:pt x="2276" y="640"/>
                </a:lnTo>
                <a:lnTo>
                  <a:pt x="2292" y="626"/>
                </a:lnTo>
                <a:lnTo>
                  <a:pt x="2327" y="598"/>
                </a:lnTo>
                <a:lnTo>
                  <a:pt x="2344" y="589"/>
                </a:lnTo>
                <a:lnTo>
                  <a:pt x="2358" y="582"/>
                </a:lnTo>
                <a:lnTo>
                  <a:pt x="2364" y="581"/>
                </a:lnTo>
                <a:lnTo>
                  <a:pt x="2369" y="581"/>
                </a:lnTo>
                <a:lnTo>
                  <a:pt x="2372" y="582"/>
                </a:lnTo>
                <a:lnTo>
                  <a:pt x="2374" y="585"/>
                </a:lnTo>
                <a:lnTo>
                  <a:pt x="2375" y="593"/>
                </a:lnTo>
                <a:lnTo>
                  <a:pt x="2379" y="603"/>
                </a:lnTo>
                <a:lnTo>
                  <a:pt x="2391" y="619"/>
                </a:lnTo>
                <a:lnTo>
                  <a:pt x="2396" y="623"/>
                </a:lnTo>
                <a:lnTo>
                  <a:pt x="2403" y="626"/>
                </a:lnTo>
                <a:lnTo>
                  <a:pt x="2409" y="624"/>
                </a:lnTo>
                <a:lnTo>
                  <a:pt x="2419" y="612"/>
                </a:lnTo>
                <a:lnTo>
                  <a:pt x="2428" y="605"/>
                </a:lnTo>
                <a:lnTo>
                  <a:pt x="2438" y="599"/>
                </a:lnTo>
                <a:lnTo>
                  <a:pt x="2449" y="596"/>
                </a:lnTo>
                <a:lnTo>
                  <a:pt x="2459" y="593"/>
                </a:lnTo>
                <a:lnTo>
                  <a:pt x="2467" y="595"/>
                </a:lnTo>
                <a:lnTo>
                  <a:pt x="2474" y="599"/>
                </a:lnTo>
                <a:lnTo>
                  <a:pt x="2475" y="603"/>
                </a:lnTo>
                <a:lnTo>
                  <a:pt x="2476" y="607"/>
                </a:lnTo>
                <a:lnTo>
                  <a:pt x="2477" y="616"/>
                </a:lnTo>
                <a:lnTo>
                  <a:pt x="2478" y="626"/>
                </a:lnTo>
                <a:lnTo>
                  <a:pt x="2481" y="632"/>
                </a:lnTo>
                <a:lnTo>
                  <a:pt x="2485" y="638"/>
                </a:lnTo>
                <a:lnTo>
                  <a:pt x="2490" y="640"/>
                </a:lnTo>
                <a:lnTo>
                  <a:pt x="2497" y="639"/>
                </a:lnTo>
                <a:lnTo>
                  <a:pt x="2503" y="635"/>
                </a:lnTo>
                <a:lnTo>
                  <a:pt x="2512" y="627"/>
                </a:lnTo>
                <a:lnTo>
                  <a:pt x="2520" y="614"/>
                </a:lnTo>
                <a:lnTo>
                  <a:pt x="2531" y="599"/>
                </a:lnTo>
                <a:lnTo>
                  <a:pt x="2555" y="566"/>
                </a:lnTo>
                <a:lnTo>
                  <a:pt x="2566" y="552"/>
                </a:lnTo>
                <a:lnTo>
                  <a:pt x="2577" y="544"/>
                </a:lnTo>
                <a:lnTo>
                  <a:pt x="2582" y="542"/>
                </a:lnTo>
                <a:lnTo>
                  <a:pt x="2588" y="543"/>
                </a:lnTo>
                <a:lnTo>
                  <a:pt x="2591" y="545"/>
                </a:lnTo>
                <a:lnTo>
                  <a:pt x="2596" y="550"/>
                </a:lnTo>
                <a:lnTo>
                  <a:pt x="2603" y="561"/>
                </a:lnTo>
                <a:lnTo>
                  <a:pt x="2607" y="571"/>
                </a:lnTo>
                <a:lnTo>
                  <a:pt x="2608" y="579"/>
                </a:lnTo>
                <a:lnTo>
                  <a:pt x="2607" y="584"/>
                </a:lnTo>
                <a:lnTo>
                  <a:pt x="2603" y="590"/>
                </a:lnTo>
                <a:lnTo>
                  <a:pt x="2597" y="596"/>
                </a:lnTo>
                <a:lnTo>
                  <a:pt x="2591" y="603"/>
                </a:lnTo>
                <a:lnTo>
                  <a:pt x="2585" y="612"/>
                </a:lnTo>
                <a:lnTo>
                  <a:pt x="2577" y="622"/>
                </a:lnTo>
                <a:lnTo>
                  <a:pt x="2567" y="632"/>
                </a:lnTo>
                <a:lnTo>
                  <a:pt x="2555" y="642"/>
                </a:lnTo>
                <a:lnTo>
                  <a:pt x="2543" y="652"/>
                </a:lnTo>
                <a:lnTo>
                  <a:pt x="2533" y="661"/>
                </a:lnTo>
                <a:lnTo>
                  <a:pt x="2525" y="670"/>
                </a:lnTo>
                <a:lnTo>
                  <a:pt x="2520" y="680"/>
                </a:lnTo>
                <a:lnTo>
                  <a:pt x="2520" y="685"/>
                </a:lnTo>
                <a:lnTo>
                  <a:pt x="2521" y="691"/>
                </a:lnTo>
                <a:lnTo>
                  <a:pt x="2525" y="703"/>
                </a:lnTo>
                <a:lnTo>
                  <a:pt x="2528" y="721"/>
                </a:lnTo>
                <a:lnTo>
                  <a:pt x="2530" y="740"/>
                </a:lnTo>
                <a:lnTo>
                  <a:pt x="2532" y="759"/>
                </a:lnTo>
                <a:lnTo>
                  <a:pt x="2535" y="778"/>
                </a:lnTo>
                <a:lnTo>
                  <a:pt x="2537" y="795"/>
                </a:lnTo>
                <a:lnTo>
                  <a:pt x="2543" y="808"/>
                </a:lnTo>
                <a:lnTo>
                  <a:pt x="2547" y="811"/>
                </a:lnTo>
                <a:lnTo>
                  <a:pt x="2551" y="813"/>
                </a:lnTo>
                <a:lnTo>
                  <a:pt x="2560" y="813"/>
                </a:lnTo>
                <a:lnTo>
                  <a:pt x="2571" y="808"/>
                </a:lnTo>
                <a:lnTo>
                  <a:pt x="2582" y="798"/>
                </a:lnTo>
                <a:lnTo>
                  <a:pt x="2593" y="786"/>
                </a:lnTo>
                <a:lnTo>
                  <a:pt x="2615" y="761"/>
                </a:lnTo>
                <a:lnTo>
                  <a:pt x="2620" y="754"/>
                </a:lnTo>
                <a:lnTo>
                  <a:pt x="2632" y="739"/>
                </a:lnTo>
                <a:lnTo>
                  <a:pt x="2639" y="730"/>
                </a:lnTo>
                <a:lnTo>
                  <a:pt x="2645" y="718"/>
                </a:lnTo>
                <a:lnTo>
                  <a:pt x="2653" y="693"/>
                </a:lnTo>
                <a:lnTo>
                  <a:pt x="2658" y="668"/>
                </a:lnTo>
                <a:lnTo>
                  <a:pt x="2660" y="656"/>
                </a:lnTo>
                <a:lnTo>
                  <a:pt x="2660" y="647"/>
                </a:lnTo>
                <a:lnTo>
                  <a:pt x="2661" y="639"/>
                </a:lnTo>
                <a:lnTo>
                  <a:pt x="2664" y="632"/>
                </a:lnTo>
                <a:lnTo>
                  <a:pt x="2667" y="624"/>
                </a:lnTo>
                <a:lnTo>
                  <a:pt x="2674" y="618"/>
                </a:lnTo>
                <a:lnTo>
                  <a:pt x="2682" y="611"/>
                </a:lnTo>
                <a:lnTo>
                  <a:pt x="2693" y="604"/>
                </a:lnTo>
                <a:lnTo>
                  <a:pt x="2705" y="598"/>
                </a:lnTo>
                <a:lnTo>
                  <a:pt x="2719" y="592"/>
                </a:lnTo>
                <a:lnTo>
                  <a:pt x="2736" y="587"/>
                </a:lnTo>
                <a:lnTo>
                  <a:pt x="2754" y="581"/>
                </a:lnTo>
                <a:lnTo>
                  <a:pt x="2776" y="574"/>
                </a:lnTo>
                <a:lnTo>
                  <a:pt x="2797" y="566"/>
                </a:lnTo>
                <a:lnTo>
                  <a:pt x="2818" y="558"/>
                </a:lnTo>
                <a:lnTo>
                  <a:pt x="2835" y="549"/>
                </a:lnTo>
                <a:lnTo>
                  <a:pt x="2848" y="539"/>
                </a:lnTo>
                <a:lnTo>
                  <a:pt x="2853" y="534"/>
                </a:lnTo>
                <a:lnTo>
                  <a:pt x="2856" y="528"/>
                </a:lnTo>
                <a:lnTo>
                  <a:pt x="2862" y="513"/>
                </a:lnTo>
                <a:lnTo>
                  <a:pt x="2873" y="497"/>
                </a:lnTo>
                <a:lnTo>
                  <a:pt x="2885" y="480"/>
                </a:lnTo>
                <a:lnTo>
                  <a:pt x="2901" y="461"/>
                </a:lnTo>
                <a:lnTo>
                  <a:pt x="2899" y="461"/>
                </a:lnTo>
                <a:lnTo>
                  <a:pt x="2969" y="521"/>
                </a:lnTo>
                <a:lnTo>
                  <a:pt x="2970" y="524"/>
                </a:lnTo>
                <a:lnTo>
                  <a:pt x="2972" y="518"/>
                </a:lnTo>
                <a:lnTo>
                  <a:pt x="2974" y="510"/>
                </a:lnTo>
                <a:lnTo>
                  <a:pt x="2980" y="493"/>
                </a:lnTo>
                <a:lnTo>
                  <a:pt x="2987" y="472"/>
                </a:lnTo>
                <a:lnTo>
                  <a:pt x="2993" y="453"/>
                </a:lnTo>
                <a:lnTo>
                  <a:pt x="2999" y="432"/>
                </a:lnTo>
                <a:lnTo>
                  <a:pt x="3002" y="414"/>
                </a:lnTo>
                <a:lnTo>
                  <a:pt x="3002" y="400"/>
                </a:lnTo>
                <a:lnTo>
                  <a:pt x="3001" y="394"/>
                </a:lnTo>
                <a:lnTo>
                  <a:pt x="2998" y="391"/>
                </a:lnTo>
                <a:lnTo>
                  <a:pt x="2993" y="387"/>
                </a:lnTo>
                <a:lnTo>
                  <a:pt x="2988" y="386"/>
                </a:lnTo>
                <a:lnTo>
                  <a:pt x="2981" y="385"/>
                </a:lnTo>
                <a:lnTo>
                  <a:pt x="2973" y="386"/>
                </a:lnTo>
                <a:lnTo>
                  <a:pt x="2964" y="387"/>
                </a:lnTo>
                <a:lnTo>
                  <a:pt x="2953" y="390"/>
                </a:lnTo>
                <a:lnTo>
                  <a:pt x="2942" y="394"/>
                </a:lnTo>
                <a:lnTo>
                  <a:pt x="2929" y="399"/>
                </a:lnTo>
                <a:lnTo>
                  <a:pt x="2911" y="393"/>
                </a:lnTo>
                <a:lnTo>
                  <a:pt x="2895" y="386"/>
                </a:lnTo>
                <a:lnTo>
                  <a:pt x="2882" y="375"/>
                </a:lnTo>
                <a:lnTo>
                  <a:pt x="2863" y="352"/>
                </a:lnTo>
                <a:lnTo>
                  <a:pt x="2851" y="340"/>
                </a:lnTo>
                <a:lnTo>
                  <a:pt x="2836" y="330"/>
                </a:lnTo>
                <a:lnTo>
                  <a:pt x="2819" y="322"/>
                </a:lnTo>
                <a:lnTo>
                  <a:pt x="2803" y="315"/>
                </a:lnTo>
                <a:lnTo>
                  <a:pt x="2789" y="313"/>
                </a:lnTo>
                <a:lnTo>
                  <a:pt x="2782" y="313"/>
                </a:lnTo>
                <a:lnTo>
                  <a:pt x="2776" y="314"/>
                </a:lnTo>
                <a:lnTo>
                  <a:pt x="2772" y="318"/>
                </a:lnTo>
                <a:lnTo>
                  <a:pt x="2770" y="322"/>
                </a:lnTo>
                <a:lnTo>
                  <a:pt x="2767" y="327"/>
                </a:lnTo>
                <a:lnTo>
                  <a:pt x="2762" y="331"/>
                </a:lnTo>
                <a:lnTo>
                  <a:pt x="2756" y="335"/>
                </a:lnTo>
                <a:lnTo>
                  <a:pt x="2750" y="338"/>
                </a:lnTo>
                <a:lnTo>
                  <a:pt x="2733" y="343"/>
                </a:lnTo>
                <a:lnTo>
                  <a:pt x="2712" y="344"/>
                </a:lnTo>
                <a:lnTo>
                  <a:pt x="2688" y="343"/>
                </a:lnTo>
                <a:lnTo>
                  <a:pt x="2664" y="338"/>
                </a:lnTo>
                <a:lnTo>
                  <a:pt x="2639" y="331"/>
                </a:lnTo>
                <a:lnTo>
                  <a:pt x="2614" y="322"/>
                </a:lnTo>
                <a:lnTo>
                  <a:pt x="2589" y="310"/>
                </a:lnTo>
                <a:lnTo>
                  <a:pt x="2560" y="292"/>
                </a:lnTo>
                <a:lnTo>
                  <a:pt x="2530" y="274"/>
                </a:lnTo>
                <a:lnTo>
                  <a:pt x="2501" y="256"/>
                </a:lnTo>
                <a:lnTo>
                  <a:pt x="2471" y="240"/>
                </a:lnTo>
                <a:lnTo>
                  <a:pt x="2446" y="226"/>
                </a:lnTo>
                <a:lnTo>
                  <a:pt x="2434" y="221"/>
                </a:lnTo>
                <a:lnTo>
                  <a:pt x="2424" y="218"/>
                </a:lnTo>
                <a:lnTo>
                  <a:pt x="2414" y="217"/>
                </a:lnTo>
                <a:lnTo>
                  <a:pt x="2407" y="217"/>
                </a:lnTo>
                <a:lnTo>
                  <a:pt x="2401" y="218"/>
                </a:lnTo>
                <a:lnTo>
                  <a:pt x="2396" y="217"/>
                </a:lnTo>
                <a:lnTo>
                  <a:pt x="2388" y="211"/>
                </a:lnTo>
                <a:lnTo>
                  <a:pt x="2376" y="193"/>
                </a:lnTo>
                <a:lnTo>
                  <a:pt x="2369" y="184"/>
                </a:lnTo>
                <a:lnTo>
                  <a:pt x="2360" y="178"/>
                </a:lnTo>
                <a:lnTo>
                  <a:pt x="2355" y="177"/>
                </a:lnTo>
                <a:lnTo>
                  <a:pt x="2348" y="177"/>
                </a:lnTo>
                <a:lnTo>
                  <a:pt x="2340" y="179"/>
                </a:lnTo>
                <a:lnTo>
                  <a:pt x="2332" y="184"/>
                </a:lnTo>
                <a:lnTo>
                  <a:pt x="2312" y="195"/>
                </a:lnTo>
                <a:lnTo>
                  <a:pt x="2291" y="208"/>
                </a:lnTo>
                <a:lnTo>
                  <a:pt x="2269" y="220"/>
                </a:lnTo>
                <a:lnTo>
                  <a:pt x="2247" y="231"/>
                </a:lnTo>
                <a:lnTo>
                  <a:pt x="2221" y="239"/>
                </a:lnTo>
                <a:lnTo>
                  <a:pt x="2194" y="243"/>
                </a:lnTo>
                <a:lnTo>
                  <a:pt x="2181" y="243"/>
                </a:lnTo>
                <a:lnTo>
                  <a:pt x="2167" y="241"/>
                </a:lnTo>
                <a:lnTo>
                  <a:pt x="2153" y="237"/>
                </a:lnTo>
                <a:lnTo>
                  <a:pt x="2138" y="232"/>
                </a:lnTo>
                <a:lnTo>
                  <a:pt x="2076" y="205"/>
                </a:lnTo>
                <a:lnTo>
                  <a:pt x="2045" y="193"/>
                </a:lnTo>
                <a:lnTo>
                  <a:pt x="2015" y="183"/>
                </a:lnTo>
                <a:lnTo>
                  <a:pt x="1987" y="176"/>
                </a:lnTo>
                <a:lnTo>
                  <a:pt x="1960" y="171"/>
                </a:lnTo>
                <a:lnTo>
                  <a:pt x="1938" y="171"/>
                </a:lnTo>
                <a:lnTo>
                  <a:pt x="1928" y="173"/>
                </a:lnTo>
                <a:lnTo>
                  <a:pt x="1919" y="177"/>
                </a:lnTo>
                <a:lnTo>
                  <a:pt x="1906" y="181"/>
                </a:lnTo>
                <a:lnTo>
                  <a:pt x="1893" y="186"/>
                </a:lnTo>
                <a:lnTo>
                  <a:pt x="1879" y="189"/>
                </a:lnTo>
                <a:lnTo>
                  <a:pt x="1863" y="194"/>
                </a:lnTo>
                <a:lnTo>
                  <a:pt x="1846" y="196"/>
                </a:lnTo>
                <a:lnTo>
                  <a:pt x="1828" y="199"/>
                </a:lnTo>
                <a:lnTo>
                  <a:pt x="1808" y="201"/>
                </a:lnTo>
                <a:lnTo>
                  <a:pt x="1786" y="203"/>
                </a:lnTo>
                <a:lnTo>
                  <a:pt x="1795" y="196"/>
                </a:lnTo>
                <a:lnTo>
                  <a:pt x="1801" y="188"/>
                </a:lnTo>
                <a:lnTo>
                  <a:pt x="1806" y="180"/>
                </a:lnTo>
                <a:lnTo>
                  <a:pt x="1809" y="171"/>
                </a:lnTo>
                <a:lnTo>
                  <a:pt x="1811" y="161"/>
                </a:lnTo>
                <a:lnTo>
                  <a:pt x="1810" y="151"/>
                </a:lnTo>
                <a:lnTo>
                  <a:pt x="1808" y="140"/>
                </a:lnTo>
                <a:lnTo>
                  <a:pt x="1804" y="127"/>
                </a:lnTo>
                <a:lnTo>
                  <a:pt x="1802" y="127"/>
                </a:lnTo>
                <a:lnTo>
                  <a:pt x="1855" y="106"/>
                </a:lnTo>
                <a:lnTo>
                  <a:pt x="1855" y="108"/>
                </a:lnTo>
                <a:lnTo>
                  <a:pt x="1834" y="91"/>
                </a:lnTo>
                <a:lnTo>
                  <a:pt x="1814" y="71"/>
                </a:lnTo>
                <a:lnTo>
                  <a:pt x="1795" y="51"/>
                </a:lnTo>
                <a:lnTo>
                  <a:pt x="1776" y="32"/>
                </a:lnTo>
                <a:lnTo>
                  <a:pt x="1759" y="16"/>
                </a:lnTo>
                <a:lnTo>
                  <a:pt x="1743" y="5"/>
                </a:lnTo>
                <a:lnTo>
                  <a:pt x="1737" y="2"/>
                </a:lnTo>
                <a:lnTo>
                  <a:pt x="1730" y="0"/>
                </a:lnTo>
                <a:lnTo>
                  <a:pt x="1724" y="0"/>
                </a:lnTo>
                <a:lnTo>
                  <a:pt x="1718" y="4"/>
                </a:lnTo>
                <a:lnTo>
                  <a:pt x="1696" y="23"/>
                </a:lnTo>
                <a:lnTo>
                  <a:pt x="1686" y="34"/>
                </a:lnTo>
                <a:lnTo>
                  <a:pt x="1675" y="45"/>
                </a:lnTo>
                <a:lnTo>
                  <a:pt x="1655" y="65"/>
                </a:lnTo>
                <a:lnTo>
                  <a:pt x="1647" y="73"/>
                </a:lnTo>
                <a:lnTo>
                  <a:pt x="1637" y="79"/>
                </a:lnTo>
                <a:lnTo>
                  <a:pt x="1634" y="82"/>
                </a:lnTo>
                <a:lnTo>
                  <a:pt x="1630" y="82"/>
                </a:lnTo>
                <a:lnTo>
                  <a:pt x="1623" y="78"/>
                </a:lnTo>
                <a:lnTo>
                  <a:pt x="1617" y="71"/>
                </a:lnTo>
                <a:lnTo>
                  <a:pt x="1611" y="65"/>
                </a:lnTo>
                <a:lnTo>
                  <a:pt x="1604" y="57"/>
                </a:lnTo>
                <a:lnTo>
                  <a:pt x="1596" y="52"/>
                </a:lnTo>
                <a:lnTo>
                  <a:pt x="1586" y="52"/>
                </a:lnTo>
                <a:lnTo>
                  <a:pt x="1580" y="54"/>
                </a:lnTo>
                <a:lnTo>
                  <a:pt x="1574" y="59"/>
                </a:lnTo>
                <a:lnTo>
                  <a:pt x="1546" y="82"/>
                </a:lnTo>
                <a:lnTo>
                  <a:pt x="1515" y="105"/>
                </a:lnTo>
                <a:lnTo>
                  <a:pt x="1499" y="115"/>
                </a:lnTo>
                <a:lnTo>
                  <a:pt x="1482" y="124"/>
                </a:lnTo>
                <a:lnTo>
                  <a:pt x="1465" y="130"/>
                </a:lnTo>
                <a:lnTo>
                  <a:pt x="1448" y="134"/>
                </a:lnTo>
                <a:lnTo>
                  <a:pt x="1439" y="137"/>
                </a:lnTo>
                <a:lnTo>
                  <a:pt x="1433" y="140"/>
                </a:lnTo>
                <a:lnTo>
                  <a:pt x="1419" y="153"/>
                </a:lnTo>
                <a:lnTo>
                  <a:pt x="1408" y="168"/>
                </a:lnTo>
                <a:lnTo>
                  <a:pt x="1398" y="186"/>
                </a:lnTo>
                <a:lnTo>
                  <a:pt x="1388" y="205"/>
                </a:lnTo>
                <a:lnTo>
                  <a:pt x="1378" y="224"/>
                </a:lnTo>
                <a:lnTo>
                  <a:pt x="1367" y="241"/>
                </a:lnTo>
                <a:lnTo>
                  <a:pt x="1355" y="253"/>
                </a:lnTo>
                <a:lnTo>
                  <a:pt x="1347" y="257"/>
                </a:lnTo>
                <a:lnTo>
                  <a:pt x="1339" y="258"/>
                </a:lnTo>
                <a:lnTo>
                  <a:pt x="1327" y="257"/>
                </a:lnTo>
                <a:lnTo>
                  <a:pt x="1316" y="253"/>
                </a:lnTo>
                <a:lnTo>
                  <a:pt x="1303" y="250"/>
                </a:lnTo>
                <a:lnTo>
                  <a:pt x="1290" y="245"/>
                </a:lnTo>
                <a:lnTo>
                  <a:pt x="1264" y="239"/>
                </a:lnTo>
                <a:lnTo>
                  <a:pt x="1250" y="237"/>
                </a:lnTo>
                <a:lnTo>
                  <a:pt x="1232" y="239"/>
                </a:lnTo>
                <a:lnTo>
                  <a:pt x="1213" y="242"/>
                </a:lnTo>
                <a:lnTo>
                  <a:pt x="1193" y="249"/>
                </a:lnTo>
                <a:lnTo>
                  <a:pt x="1175" y="257"/>
                </a:lnTo>
                <a:lnTo>
                  <a:pt x="1159" y="267"/>
                </a:lnTo>
                <a:lnTo>
                  <a:pt x="1148" y="280"/>
                </a:lnTo>
                <a:lnTo>
                  <a:pt x="1145" y="287"/>
                </a:lnTo>
                <a:lnTo>
                  <a:pt x="1143" y="294"/>
                </a:lnTo>
                <a:lnTo>
                  <a:pt x="1141" y="302"/>
                </a:lnTo>
                <a:lnTo>
                  <a:pt x="1138" y="308"/>
                </a:lnTo>
                <a:lnTo>
                  <a:pt x="1128" y="320"/>
                </a:lnTo>
                <a:lnTo>
                  <a:pt x="1113" y="330"/>
                </a:lnTo>
                <a:lnTo>
                  <a:pt x="1097" y="338"/>
                </a:lnTo>
                <a:lnTo>
                  <a:pt x="1080" y="344"/>
                </a:lnTo>
                <a:lnTo>
                  <a:pt x="1063" y="347"/>
                </a:lnTo>
                <a:lnTo>
                  <a:pt x="1047" y="350"/>
                </a:lnTo>
                <a:lnTo>
                  <a:pt x="1034" y="351"/>
                </a:lnTo>
                <a:lnTo>
                  <a:pt x="1027" y="351"/>
                </a:lnTo>
                <a:lnTo>
                  <a:pt x="1020" y="350"/>
                </a:lnTo>
                <a:lnTo>
                  <a:pt x="1002" y="347"/>
                </a:lnTo>
                <a:lnTo>
                  <a:pt x="981" y="345"/>
                </a:lnTo>
                <a:lnTo>
                  <a:pt x="958" y="344"/>
                </a:lnTo>
                <a:lnTo>
                  <a:pt x="937" y="343"/>
                </a:lnTo>
                <a:lnTo>
                  <a:pt x="918" y="345"/>
                </a:lnTo>
                <a:lnTo>
                  <a:pt x="911" y="346"/>
                </a:lnTo>
                <a:lnTo>
                  <a:pt x="904" y="350"/>
                </a:lnTo>
                <a:lnTo>
                  <a:pt x="898" y="353"/>
                </a:lnTo>
                <a:lnTo>
                  <a:pt x="895" y="358"/>
                </a:lnTo>
                <a:lnTo>
                  <a:pt x="888" y="372"/>
                </a:lnTo>
                <a:lnTo>
                  <a:pt x="877" y="390"/>
                </a:lnTo>
                <a:lnTo>
                  <a:pt x="862" y="410"/>
                </a:lnTo>
                <a:lnTo>
                  <a:pt x="844" y="434"/>
                </a:lnTo>
                <a:lnTo>
                  <a:pt x="842" y="432"/>
                </a:lnTo>
                <a:lnTo>
                  <a:pt x="780" y="425"/>
                </a:lnTo>
                <a:lnTo>
                  <a:pt x="782" y="427"/>
                </a:lnTo>
                <a:lnTo>
                  <a:pt x="763" y="435"/>
                </a:lnTo>
                <a:lnTo>
                  <a:pt x="749" y="441"/>
                </a:lnTo>
                <a:lnTo>
                  <a:pt x="736" y="445"/>
                </a:lnTo>
                <a:lnTo>
                  <a:pt x="728" y="447"/>
                </a:lnTo>
                <a:lnTo>
                  <a:pt x="723" y="446"/>
                </a:lnTo>
                <a:lnTo>
                  <a:pt x="721" y="445"/>
                </a:lnTo>
                <a:lnTo>
                  <a:pt x="723" y="440"/>
                </a:lnTo>
                <a:lnTo>
                  <a:pt x="729" y="434"/>
                </a:lnTo>
                <a:lnTo>
                  <a:pt x="733" y="429"/>
                </a:lnTo>
                <a:lnTo>
                  <a:pt x="737" y="422"/>
                </a:lnTo>
                <a:lnTo>
                  <a:pt x="741" y="407"/>
                </a:lnTo>
                <a:lnTo>
                  <a:pt x="741" y="391"/>
                </a:lnTo>
                <a:lnTo>
                  <a:pt x="737" y="376"/>
                </a:lnTo>
                <a:lnTo>
                  <a:pt x="731" y="361"/>
                </a:lnTo>
                <a:lnTo>
                  <a:pt x="724" y="351"/>
                </a:lnTo>
                <a:lnTo>
                  <a:pt x="715" y="344"/>
                </a:lnTo>
                <a:lnTo>
                  <a:pt x="707" y="344"/>
                </a:lnTo>
                <a:lnTo>
                  <a:pt x="695" y="346"/>
                </a:lnTo>
                <a:lnTo>
                  <a:pt x="680" y="348"/>
                </a:lnTo>
                <a:lnTo>
                  <a:pt x="646" y="350"/>
                </a:lnTo>
                <a:lnTo>
                  <a:pt x="629" y="348"/>
                </a:lnTo>
                <a:lnTo>
                  <a:pt x="616" y="344"/>
                </a:lnTo>
                <a:lnTo>
                  <a:pt x="610" y="342"/>
                </a:lnTo>
                <a:lnTo>
                  <a:pt x="606" y="338"/>
                </a:lnTo>
                <a:lnTo>
                  <a:pt x="604" y="334"/>
                </a:lnTo>
                <a:lnTo>
                  <a:pt x="603" y="329"/>
                </a:lnTo>
                <a:lnTo>
                  <a:pt x="602" y="316"/>
                </a:lnTo>
                <a:lnTo>
                  <a:pt x="599" y="299"/>
                </a:lnTo>
                <a:lnTo>
                  <a:pt x="594" y="280"/>
                </a:lnTo>
                <a:lnTo>
                  <a:pt x="588" y="260"/>
                </a:lnTo>
                <a:lnTo>
                  <a:pt x="581" y="241"/>
                </a:lnTo>
                <a:lnTo>
                  <a:pt x="572" y="225"/>
                </a:lnTo>
                <a:lnTo>
                  <a:pt x="562" y="211"/>
                </a:lnTo>
                <a:lnTo>
                  <a:pt x="551" y="203"/>
                </a:lnTo>
                <a:lnTo>
                  <a:pt x="546" y="202"/>
                </a:lnTo>
                <a:lnTo>
                  <a:pt x="539" y="202"/>
                </a:lnTo>
                <a:lnTo>
                  <a:pt x="532" y="204"/>
                </a:lnTo>
                <a:lnTo>
                  <a:pt x="523" y="208"/>
                </a:lnTo>
                <a:lnTo>
                  <a:pt x="505" y="218"/>
                </a:lnTo>
                <a:lnTo>
                  <a:pt x="485" y="232"/>
                </a:lnTo>
                <a:lnTo>
                  <a:pt x="465" y="249"/>
                </a:lnTo>
                <a:lnTo>
                  <a:pt x="445" y="266"/>
                </a:lnTo>
                <a:lnTo>
                  <a:pt x="425" y="284"/>
                </a:lnTo>
                <a:lnTo>
                  <a:pt x="407" y="300"/>
                </a:lnTo>
                <a:lnTo>
                  <a:pt x="388" y="319"/>
                </a:lnTo>
                <a:lnTo>
                  <a:pt x="368" y="340"/>
                </a:lnTo>
                <a:lnTo>
                  <a:pt x="323" y="387"/>
                </a:lnTo>
                <a:lnTo>
                  <a:pt x="301" y="410"/>
                </a:lnTo>
                <a:lnTo>
                  <a:pt x="281" y="431"/>
                </a:lnTo>
                <a:lnTo>
                  <a:pt x="264" y="448"/>
                </a:lnTo>
                <a:lnTo>
                  <a:pt x="257" y="455"/>
                </a:lnTo>
                <a:lnTo>
                  <a:pt x="251" y="461"/>
                </a:lnTo>
                <a:lnTo>
                  <a:pt x="243" y="471"/>
                </a:lnTo>
                <a:lnTo>
                  <a:pt x="235" y="482"/>
                </a:lnTo>
                <a:lnTo>
                  <a:pt x="228" y="495"/>
                </a:lnTo>
                <a:lnTo>
                  <a:pt x="225" y="508"/>
                </a:lnTo>
                <a:lnTo>
                  <a:pt x="223" y="520"/>
                </a:lnTo>
                <a:lnTo>
                  <a:pt x="223" y="535"/>
                </a:lnTo>
                <a:lnTo>
                  <a:pt x="226" y="549"/>
                </a:lnTo>
                <a:lnTo>
                  <a:pt x="230" y="564"/>
                </a:lnTo>
                <a:lnTo>
                  <a:pt x="236" y="581"/>
                </a:lnTo>
                <a:lnTo>
                  <a:pt x="243" y="599"/>
                </a:lnTo>
                <a:lnTo>
                  <a:pt x="256" y="636"/>
                </a:lnTo>
                <a:lnTo>
                  <a:pt x="262" y="652"/>
                </a:lnTo>
                <a:lnTo>
                  <a:pt x="270" y="664"/>
                </a:lnTo>
                <a:lnTo>
                  <a:pt x="279" y="672"/>
                </a:lnTo>
                <a:lnTo>
                  <a:pt x="287" y="676"/>
                </a:lnTo>
                <a:lnTo>
                  <a:pt x="297" y="675"/>
                </a:lnTo>
                <a:lnTo>
                  <a:pt x="309" y="674"/>
                </a:lnTo>
                <a:lnTo>
                  <a:pt x="337" y="666"/>
                </a:lnTo>
                <a:lnTo>
                  <a:pt x="351" y="660"/>
                </a:lnTo>
                <a:lnTo>
                  <a:pt x="363" y="652"/>
                </a:lnTo>
                <a:lnTo>
                  <a:pt x="372" y="644"/>
                </a:lnTo>
                <a:lnTo>
                  <a:pt x="378" y="634"/>
                </a:lnTo>
                <a:lnTo>
                  <a:pt x="384" y="624"/>
                </a:lnTo>
                <a:lnTo>
                  <a:pt x="390" y="614"/>
                </a:lnTo>
                <a:lnTo>
                  <a:pt x="405" y="595"/>
                </a:lnTo>
                <a:lnTo>
                  <a:pt x="410" y="583"/>
                </a:lnTo>
                <a:lnTo>
                  <a:pt x="414" y="572"/>
                </a:lnTo>
                <a:lnTo>
                  <a:pt x="416" y="558"/>
                </a:lnTo>
                <a:lnTo>
                  <a:pt x="413" y="543"/>
                </a:lnTo>
                <a:lnTo>
                  <a:pt x="405" y="515"/>
                </a:lnTo>
                <a:lnTo>
                  <a:pt x="402" y="502"/>
                </a:lnTo>
                <a:lnTo>
                  <a:pt x="400" y="489"/>
                </a:lnTo>
                <a:lnTo>
                  <a:pt x="400" y="478"/>
                </a:lnTo>
                <a:lnTo>
                  <a:pt x="402" y="466"/>
                </a:lnTo>
                <a:lnTo>
                  <a:pt x="406" y="456"/>
                </a:lnTo>
                <a:lnTo>
                  <a:pt x="413" y="446"/>
                </a:lnTo>
                <a:lnTo>
                  <a:pt x="426" y="432"/>
                </a:lnTo>
                <a:lnTo>
                  <a:pt x="443" y="417"/>
                </a:lnTo>
                <a:lnTo>
                  <a:pt x="464" y="401"/>
                </a:lnTo>
                <a:lnTo>
                  <a:pt x="488" y="384"/>
                </a:lnTo>
                <a:lnTo>
                  <a:pt x="496" y="386"/>
                </a:lnTo>
                <a:lnTo>
                  <a:pt x="501" y="391"/>
                </a:lnTo>
                <a:lnTo>
                  <a:pt x="505" y="400"/>
                </a:lnTo>
                <a:lnTo>
                  <a:pt x="506" y="413"/>
                </a:lnTo>
                <a:lnTo>
                  <a:pt x="505" y="422"/>
                </a:lnTo>
                <a:lnTo>
                  <a:pt x="503" y="427"/>
                </a:lnTo>
                <a:lnTo>
                  <a:pt x="499" y="431"/>
                </a:lnTo>
                <a:lnTo>
                  <a:pt x="494" y="434"/>
                </a:lnTo>
                <a:lnTo>
                  <a:pt x="488" y="437"/>
                </a:lnTo>
                <a:lnTo>
                  <a:pt x="480" y="440"/>
                </a:lnTo>
                <a:lnTo>
                  <a:pt x="473" y="446"/>
                </a:lnTo>
                <a:lnTo>
                  <a:pt x="464" y="454"/>
                </a:lnTo>
                <a:lnTo>
                  <a:pt x="458" y="465"/>
                </a:lnTo>
                <a:lnTo>
                  <a:pt x="453" y="480"/>
                </a:lnTo>
                <a:lnTo>
                  <a:pt x="451" y="496"/>
                </a:lnTo>
                <a:lnTo>
                  <a:pt x="452" y="511"/>
                </a:lnTo>
                <a:lnTo>
                  <a:pt x="457" y="525"/>
                </a:lnTo>
                <a:lnTo>
                  <a:pt x="463" y="536"/>
                </a:lnTo>
                <a:lnTo>
                  <a:pt x="474" y="542"/>
                </a:lnTo>
                <a:lnTo>
                  <a:pt x="480" y="543"/>
                </a:lnTo>
                <a:lnTo>
                  <a:pt x="488" y="543"/>
                </a:lnTo>
                <a:lnTo>
                  <a:pt x="504" y="539"/>
                </a:lnTo>
                <a:lnTo>
                  <a:pt x="521" y="532"/>
                </a:lnTo>
                <a:lnTo>
                  <a:pt x="539" y="523"/>
                </a:lnTo>
                <a:lnTo>
                  <a:pt x="557" y="513"/>
                </a:lnTo>
                <a:lnTo>
                  <a:pt x="573" y="505"/>
                </a:lnTo>
                <a:lnTo>
                  <a:pt x="587" y="499"/>
                </a:lnTo>
                <a:lnTo>
                  <a:pt x="600" y="495"/>
                </a:lnTo>
                <a:lnTo>
                  <a:pt x="608" y="495"/>
                </a:lnTo>
                <a:lnTo>
                  <a:pt x="615" y="500"/>
                </a:lnTo>
                <a:lnTo>
                  <a:pt x="623" y="508"/>
                </a:lnTo>
                <a:lnTo>
                  <a:pt x="637" y="531"/>
                </a:lnTo>
                <a:lnTo>
                  <a:pt x="647" y="555"/>
                </a:lnTo>
                <a:lnTo>
                  <a:pt x="652" y="565"/>
                </a:lnTo>
                <a:lnTo>
                  <a:pt x="654" y="572"/>
                </a:lnTo>
                <a:lnTo>
                  <a:pt x="637" y="574"/>
                </a:lnTo>
                <a:lnTo>
                  <a:pt x="620" y="582"/>
                </a:lnTo>
                <a:lnTo>
                  <a:pt x="603" y="593"/>
                </a:lnTo>
                <a:lnTo>
                  <a:pt x="585" y="612"/>
                </a:lnTo>
                <a:lnTo>
                  <a:pt x="561" y="607"/>
                </a:lnTo>
                <a:lnTo>
                  <a:pt x="540" y="605"/>
                </a:lnTo>
                <a:lnTo>
                  <a:pt x="522" y="603"/>
                </a:lnTo>
                <a:lnTo>
                  <a:pt x="508" y="604"/>
                </a:lnTo>
                <a:lnTo>
                  <a:pt x="496" y="605"/>
                </a:lnTo>
                <a:lnTo>
                  <a:pt x="489" y="608"/>
                </a:lnTo>
                <a:lnTo>
                  <a:pt x="484" y="613"/>
                </a:lnTo>
                <a:lnTo>
                  <a:pt x="482" y="619"/>
                </a:lnTo>
                <a:lnTo>
                  <a:pt x="481" y="631"/>
                </a:lnTo>
                <a:lnTo>
                  <a:pt x="478" y="648"/>
                </a:lnTo>
                <a:lnTo>
                  <a:pt x="475" y="666"/>
                </a:lnTo>
                <a:lnTo>
                  <a:pt x="468" y="684"/>
                </a:lnTo>
                <a:lnTo>
                  <a:pt x="460" y="700"/>
                </a:lnTo>
                <a:lnTo>
                  <a:pt x="451" y="711"/>
                </a:lnTo>
                <a:lnTo>
                  <a:pt x="445" y="716"/>
                </a:lnTo>
                <a:lnTo>
                  <a:pt x="439" y="718"/>
                </a:lnTo>
                <a:lnTo>
                  <a:pt x="432" y="718"/>
                </a:lnTo>
                <a:lnTo>
                  <a:pt x="425" y="717"/>
                </a:lnTo>
                <a:lnTo>
                  <a:pt x="417" y="715"/>
                </a:lnTo>
                <a:lnTo>
                  <a:pt x="406" y="713"/>
                </a:lnTo>
                <a:lnTo>
                  <a:pt x="383" y="710"/>
                </a:lnTo>
                <a:lnTo>
                  <a:pt x="356" y="711"/>
                </a:lnTo>
                <a:lnTo>
                  <a:pt x="328" y="715"/>
                </a:lnTo>
                <a:lnTo>
                  <a:pt x="300" y="723"/>
                </a:lnTo>
                <a:lnTo>
                  <a:pt x="276" y="733"/>
                </a:lnTo>
                <a:lnTo>
                  <a:pt x="264" y="740"/>
                </a:lnTo>
                <a:lnTo>
                  <a:pt x="255" y="748"/>
                </a:lnTo>
                <a:lnTo>
                  <a:pt x="247" y="757"/>
                </a:lnTo>
                <a:lnTo>
                  <a:pt x="241" y="767"/>
                </a:lnTo>
                <a:lnTo>
                  <a:pt x="230" y="785"/>
                </a:lnTo>
                <a:lnTo>
                  <a:pt x="220" y="801"/>
                </a:lnTo>
                <a:lnTo>
                  <a:pt x="200" y="825"/>
                </a:lnTo>
                <a:lnTo>
                  <a:pt x="182" y="845"/>
                </a:lnTo>
                <a:lnTo>
                  <a:pt x="174" y="857"/>
                </a:lnTo>
                <a:lnTo>
                  <a:pt x="168" y="868"/>
                </a:lnTo>
                <a:lnTo>
                  <a:pt x="154" y="897"/>
                </a:lnTo>
                <a:lnTo>
                  <a:pt x="141" y="925"/>
                </a:lnTo>
                <a:lnTo>
                  <a:pt x="130" y="950"/>
                </a:lnTo>
                <a:lnTo>
                  <a:pt x="125" y="960"/>
                </a:lnTo>
                <a:lnTo>
                  <a:pt x="120" y="967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51280" y="2962440"/>
            <a:ext cx="1603440" cy="2259000"/>
          </a:xfrm>
          <a:custGeom>
            <a:avLst/>
            <a:gdLst/>
            <a:ahLst/>
            <a:rect l="l" t="t" r="r" b="b"/>
            <a:pathLst>
              <a:path w="1010" h="1423">
                <a:moveTo>
                  <a:pt x="734" y="144"/>
                </a:moveTo>
                <a:lnTo>
                  <a:pt x="720" y="146"/>
                </a:lnTo>
                <a:lnTo>
                  <a:pt x="705" y="143"/>
                </a:lnTo>
                <a:lnTo>
                  <a:pt x="691" y="140"/>
                </a:lnTo>
                <a:lnTo>
                  <a:pt x="677" y="134"/>
                </a:lnTo>
                <a:lnTo>
                  <a:pt x="664" y="128"/>
                </a:lnTo>
                <a:lnTo>
                  <a:pt x="653" y="122"/>
                </a:lnTo>
                <a:lnTo>
                  <a:pt x="643" y="116"/>
                </a:lnTo>
                <a:lnTo>
                  <a:pt x="636" y="110"/>
                </a:lnTo>
                <a:lnTo>
                  <a:pt x="628" y="108"/>
                </a:lnTo>
                <a:lnTo>
                  <a:pt x="620" y="109"/>
                </a:lnTo>
                <a:lnTo>
                  <a:pt x="612" y="113"/>
                </a:lnTo>
                <a:lnTo>
                  <a:pt x="602" y="119"/>
                </a:lnTo>
                <a:lnTo>
                  <a:pt x="593" y="127"/>
                </a:lnTo>
                <a:lnTo>
                  <a:pt x="584" y="134"/>
                </a:lnTo>
                <a:lnTo>
                  <a:pt x="573" y="140"/>
                </a:lnTo>
                <a:lnTo>
                  <a:pt x="562" y="144"/>
                </a:lnTo>
                <a:lnTo>
                  <a:pt x="549" y="146"/>
                </a:lnTo>
                <a:lnTo>
                  <a:pt x="536" y="143"/>
                </a:lnTo>
                <a:lnTo>
                  <a:pt x="520" y="139"/>
                </a:lnTo>
                <a:lnTo>
                  <a:pt x="505" y="131"/>
                </a:lnTo>
                <a:lnTo>
                  <a:pt x="490" y="122"/>
                </a:lnTo>
                <a:lnTo>
                  <a:pt x="475" y="111"/>
                </a:lnTo>
                <a:lnTo>
                  <a:pt x="462" y="99"/>
                </a:lnTo>
                <a:lnTo>
                  <a:pt x="453" y="84"/>
                </a:lnTo>
                <a:lnTo>
                  <a:pt x="441" y="66"/>
                </a:lnTo>
                <a:lnTo>
                  <a:pt x="426" y="49"/>
                </a:lnTo>
                <a:lnTo>
                  <a:pt x="409" y="33"/>
                </a:lnTo>
                <a:lnTo>
                  <a:pt x="390" y="18"/>
                </a:lnTo>
                <a:lnTo>
                  <a:pt x="371" y="7"/>
                </a:lnTo>
                <a:lnTo>
                  <a:pt x="353" y="1"/>
                </a:lnTo>
                <a:lnTo>
                  <a:pt x="346" y="0"/>
                </a:lnTo>
                <a:lnTo>
                  <a:pt x="338" y="0"/>
                </a:lnTo>
                <a:lnTo>
                  <a:pt x="332" y="2"/>
                </a:lnTo>
                <a:lnTo>
                  <a:pt x="328" y="7"/>
                </a:lnTo>
                <a:lnTo>
                  <a:pt x="317" y="15"/>
                </a:lnTo>
                <a:lnTo>
                  <a:pt x="303" y="21"/>
                </a:lnTo>
                <a:lnTo>
                  <a:pt x="286" y="24"/>
                </a:lnTo>
                <a:lnTo>
                  <a:pt x="269" y="26"/>
                </a:lnTo>
                <a:lnTo>
                  <a:pt x="234" y="33"/>
                </a:lnTo>
                <a:lnTo>
                  <a:pt x="219" y="39"/>
                </a:lnTo>
                <a:lnTo>
                  <a:pt x="206" y="48"/>
                </a:lnTo>
                <a:lnTo>
                  <a:pt x="194" y="61"/>
                </a:lnTo>
                <a:lnTo>
                  <a:pt x="182" y="76"/>
                </a:lnTo>
                <a:lnTo>
                  <a:pt x="153" y="112"/>
                </a:lnTo>
                <a:lnTo>
                  <a:pt x="128" y="148"/>
                </a:lnTo>
                <a:lnTo>
                  <a:pt x="117" y="165"/>
                </a:lnTo>
                <a:lnTo>
                  <a:pt x="109" y="180"/>
                </a:lnTo>
                <a:lnTo>
                  <a:pt x="100" y="192"/>
                </a:lnTo>
                <a:lnTo>
                  <a:pt x="88" y="204"/>
                </a:lnTo>
                <a:lnTo>
                  <a:pt x="75" y="217"/>
                </a:lnTo>
                <a:lnTo>
                  <a:pt x="61" y="228"/>
                </a:lnTo>
                <a:lnTo>
                  <a:pt x="46" y="241"/>
                </a:lnTo>
                <a:lnTo>
                  <a:pt x="35" y="254"/>
                </a:lnTo>
                <a:lnTo>
                  <a:pt x="26" y="268"/>
                </a:lnTo>
                <a:lnTo>
                  <a:pt x="25" y="275"/>
                </a:lnTo>
                <a:lnTo>
                  <a:pt x="24" y="283"/>
                </a:lnTo>
                <a:lnTo>
                  <a:pt x="22" y="305"/>
                </a:lnTo>
                <a:lnTo>
                  <a:pt x="18" y="329"/>
                </a:lnTo>
                <a:lnTo>
                  <a:pt x="10" y="354"/>
                </a:lnTo>
                <a:lnTo>
                  <a:pt x="0" y="379"/>
                </a:lnTo>
                <a:lnTo>
                  <a:pt x="2" y="404"/>
                </a:lnTo>
                <a:lnTo>
                  <a:pt x="4" y="427"/>
                </a:lnTo>
                <a:lnTo>
                  <a:pt x="6" y="447"/>
                </a:lnTo>
                <a:lnTo>
                  <a:pt x="8" y="464"/>
                </a:lnTo>
                <a:lnTo>
                  <a:pt x="11" y="479"/>
                </a:lnTo>
                <a:lnTo>
                  <a:pt x="15" y="490"/>
                </a:lnTo>
                <a:lnTo>
                  <a:pt x="19" y="499"/>
                </a:lnTo>
                <a:lnTo>
                  <a:pt x="24" y="506"/>
                </a:lnTo>
                <a:lnTo>
                  <a:pt x="29" y="515"/>
                </a:lnTo>
                <a:lnTo>
                  <a:pt x="32" y="529"/>
                </a:lnTo>
                <a:lnTo>
                  <a:pt x="35" y="545"/>
                </a:lnTo>
                <a:lnTo>
                  <a:pt x="39" y="562"/>
                </a:lnTo>
                <a:lnTo>
                  <a:pt x="44" y="579"/>
                </a:lnTo>
                <a:lnTo>
                  <a:pt x="50" y="593"/>
                </a:lnTo>
                <a:lnTo>
                  <a:pt x="61" y="606"/>
                </a:lnTo>
                <a:lnTo>
                  <a:pt x="67" y="610"/>
                </a:lnTo>
                <a:lnTo>
                  <a:pt x="75" y="614"/>
                </a:lnTo>
                <a:lnTo>
                  <a:pt x="84" y="616"/>
                </a:lnTo>
                <a:lnTo>
                  <a:pt x="95" y="620"/>
                </a:lnTo>
                <a:lnTo>
                  <a:pt x="120" y="624"/>
                </a:lnTo>
                <a:lnTo>
                  <a:pt x="150" y="629"/>
                </a:lnTo>
                <a:lnTo>
                  <a:pt x="181" y="633"/>
                </a:lnTo>
                <a:lnTo>
                  <a:pt x="210" y="636"/>
                </a:lnTo>
                <a:lnTo>
                  <a:pt x="239" y="637"/>
                </a:lnTo>
                <a:lnTo>
                  <a:pt x="272" y="637"/>
                </a:lnTo>
                <a:lnTo>
                  <a:pt x="280" y="636"/>
                </a:lnTo>
                <a:lnTo>
                  <a:pt x="310" y="633"/>
                </a:lnTo>
                <a:lnTo>
                  <a:pt x="323" y="633"/>
                </a:lnTo>
                <a:lnTo>
                  <a:pt x="336" y="636"/>
                </a:lnTo>
                <a:lnTo>
                  <a:pt x="348" y="639"/>
                </a:lnTo>
                <a:lnTo>
                  <a:pt x="359" y="644"/>
                </a:lnTo>
                <a:lnTo>
                  <a:pt x="369" y="649"/>
                </a:lnTo>
                <a:lnTo>
                  <a:pt x="379" y="657"/>
                </a:lnTo>
                <a:lnTo>
                  <a:pt x="394" y="675"/>
                </a:lnTo>
                <a:lnTo>
                  <a:pt x="400" y="684"/>
                </a:lnTo>
                <a:lnTo>
                  <a:pt x="405" y="694"/>
                </a:lnTo>
                <a:lnTo>
                  <a:pt x="408" y="704"/>
                </a:lnTo>
                <a:lnTo>
                  <a:pt x="410" y="716"/>
                </a:lnTo>
                <a:lnTo>
                  <a:pt x="409" y="728"/>
                </a:lnTo>
                <a:lnTo>
                  <a:pt x="406" y="741"/>
                </a:lnTo>
                <a:lnTo>
                  <a:pt x="404" y="752"/>
                </a:lnTo>
                <a:lnTo>
                  <a:pt x="402" y="763"/>
                </a:lnTo>
                <a:lnTo>
                  <a:pt x="402" y="772"/>
                </a:lnTo>
                <a:lnTo>
                  <a:pt x="403" y="779"/>
                </a:lnTo>
                <a:lnTo>
                  <a:pt x="407" y="786"/>
                </a:lnTo>
                <a:lnTo>
                  <a:pt x="413" y="792"/>
                </a:lnTo>
                <a:lnTo>
                  <a:pt x="421" y="797"/>
                </a:lnTo>
                <a:lnTo>
                  <a:pt x="435" y="803"/>
                </a:lnTo>
                <a:lnTo>
                  <a:pt x="441" y="806"/>
                </a:lnTo>
                <a:lnTo>
                  <a:pt x="447" y="810"/>
                </a:lnTo>
                <a:lnTo>
                  <a:pt x="455" y="818"/>
                </a:lnTo>
                <a:lnTo>
                  <a:pt x="458" y="827"/>
                </a:lnTo>
                <a:lnTo>
                  <a:pt x="459" y="836"/>
                </a:lnTo>
                <a:lnTo>
                  <a:pt x="457" y="859"/>
                </a:lnTo>
                <a:lnTo>
                  <a:pt x="455" y="885"/>
                </a:lnTo>
                <a:lnTo>
                  <a:pt x="456" y="916"/>
                </a:lnTo>
                <a:lnTo>
                  <a:pt x="453" y="946"/>
                </a:lnTo>
                <a:lnTo>
                  <a:pt x="450" y="978"/>
                </a:lnTo>
                <a:lnTo>
                  <a:pt x="448" y="996"/>
                </a:lnTo>
                <a:lnTo>
                  <a:pt x="447" y="1017"/>
                </a:lnTo>
                <a:lnTo>
                  <a:pt x="445" y="1027"/>
                </a:lnTo>
                <a:lnTo>
                  <a:pt x="443" y="1036"/>
                </a:lnTo>
                <a:lnTo>
                  <a:pt x="437" y="1051"/>
                </a:lnTo>
                <a:lnTo>
                  <a:pt x="435" y="1058"/>
                </a:lnTo>
                <a:lnTo>
                  <a:pt x="434" y="1067"/>
                </a:lnTo>
                <a:lnTo>
                  <a:pt x="436" y="1079"/>
                </a:lnTo>
                <a:lnTo>
                  <a:pt x="440" y="1094"/>
                </a:lnTo>
                <a:lnTo>
                  <a:pt x="443" y="1101"/>
                </a:lnTo>
                <a:lnTo>
                  <a:pt x="447" y="1110"/>
                </a:lnTo>
                <a:lnTo>
                  <a:pt x="456" y="1135"/>
                </a:lnTo>
                <a:lnTo>
                  <a:pt x="465" y="1161"/>
                </a:lnTo>
                <a:lnTo>
                  <a:pt x="469" y="1171"/>
                </a:lnTo>
                <a:lnTo>
                  <a:pt x="473" y="1179"/>
                </a:lnTo>
                <a:lnTo>
                  <a:pt x="476" y="1188"/>
                </a:lnTo>
                <a:lnTo>
                  <a:pt x="482" y="1200"/>
                </a:lnTo>
                <a:lnTo>
                  <a:pt x="494" y="1230"/>
                </a:lnTo>
                <a:lnTo>
                  <a:pt x="508" y="1261"/>
                </a:lnTo>
                <a:lnTo>
                  <a:pt x="512" y="1274"/>
                </a:lnTo>
                <a:lnTo>
                  <a:pt x="516" y="1285"/>
                </a:lnTo>
                <a:lnTo>
                  <a:pt x="519" y="1296"/>
                </a:lnTo>
                <a:lnTo>
                  <a:pt x="521" y="1304"/>
                </a:lnTo>
                <a:lnTo>
                  <a:pt x="523" y="1312"/>
                </a:lnTo>
                <a:lnTo>
                  <a:pt x="533" y="1352"/>
                </a:lnTo>
                <a:lnTo>
                  <a:pt x="539" y="1373"/>
                </a:lnTo>
                <a:lnTo>
                  <a:pt x="546" y="1390"/>
                </a:lnTo>
                <a:lnTo>
                  <a:pt x="552" y="1404"/>
                </a:lnTo>
                <a:lnTo>
                  <a:pt x="559" y="1412"/>
                </a:lnTo>
                <a:lnTo>
                  <a:pt x="567" y="1415"/>
                </a:lnTo>
                <a:lnTo>
                  <a:pt x="582" y="1419"/>
                </a:lnTo>
                <a:lnTo>
                  <a:pt x="597" y="1422"/>
                </a:lnTo>
                <a:lnTo>
                  <a:pt x="615" y="1422"/>
                </a:lnTo>
                <a:lnTo>
                  <a:pt x="634" y="1420"/>
                </a:lnTo>
                <a:lnTo>
                  <a:pt x="651" y="1415"/>
                </a:lnTo>
                <a:lnTo>
                  <a:pt x="665" y="1405"/>
                </a:lnTo>
                <a:lnTo>
                  <a:pt x="671" y="1399"/>
                </a:lnTo>
                <a:lnTo>
                  <a:pt x="674" y="1391"/>
                </a:lnTo>
                <a:lnTo>
                  <a:pt x="684" y="1375"/>
                </a:lnTo>
                <a:lnTo>
                  <a:pt x="695" y="1360"/>
                </a:lnTo>
                <a:lnTo>
                  <a:pt x="722" y="1335"/>
                </a:lnTo>
                <a:lnTo>
                  <a:pt x="735" y="1325"/>
                </a:lnTo>
                <a:lnTo>
                  <a:pt x="746" y="1314"/>
                </a:lnTo>
                <a:lnTo>
                  <a:pt x="756" y="1304"/>
                </a:lnTo>
                <a:lnTo>
                  <a:pt x="761" y="1294"/>
                </a:lnTo>
                <a:lnTo>
                  <a:pt x="763" y="1282"/>
                </a:lnTo>
                <a:lnTo>
                  <a:pt x="765" y="1271"/>
                </a:lnTo>
                <a:lnTo>
                  <a:pt x="763" y="1246"/>
                </a:lnTo>
                <a:lnTo>
                  <a:pt x="758" y="1223"/>
                </a:lnTo>
                <a:lnTo>
                  <a:pt x="757" y="1213"/>
                </a:lnTo>
                <a:lnTo>
                  <a:pt x="756" y="1204"/>
                </a:lnTo>
                <a:lnTo>
                  <a:pt x="757" y="1198"/>
                </a:lnTo>
                <a:lnTo>
                  <a:pt x="762" y="1194"/>
                </a:lnTo>
                <a:lnTo>
                  <a:pt x="769" y="1193"/>
                </a:lnTo>
                <a:lnTo>
                  <a:pt x="778" y="1194"/>
                </a:lnTo>
                <a:lnTo>
                  <a:pt x="781" y="1196"/>
                </a:lnTo>
                <a:lnTo>
                  <a:pt x="786" y="1197"/>
                </a:lnTo>
                <a:lnTo>
                  <a:pt x="795" y="1198"/>
                </a:lnTo>
                <a:lnTo>
                  <a:pt x="802" y="1198"/>
                </a:lnTo>
                <a:lnTo>
                  <a:pt x="808" y="1197"/>
                </a:lnTo>
                <a:lnTo>
                  <a:pt x="810" y="1192"/>
                </a:lnTo>
                <a:lnTo>
                  <a:pt x="811" y="1186"/>
                </a:lnTo>
                <a:lnTo>
                  <a:pt x="809" y="1177"/>
                </a:lnTo>
                <a:lnTo>
                  <a:pt x="807" y="1167"/>
                </a:lnTo>
                <a:lnTo>
                  <a:pt x="804" y="1143"/>
                </a:lnTo>
                <a:lnTo>
                  <a:pt x="805" y="1131"/>
                </a:lnTo>
                <a:lnTo>
                  <a:pt x="808" y="1120"/>
                </a:lnTo>
                <a:lnTo>
                  <a:pt x="813" y="1111"/>
                </a:lnTo>
                <a:lnTo>
                  <a:pt x="819" y="1103"/>
                </a:lnTo>
                <a:lnTo>
                  <a:pt x="835" y="1090"/>
                </a:lnTo>
                <a:lnTo>
                  <a:pt x="853" y="1077"/>
                </a:lnTo>
                <a:lnTo>
                  <a:pt x="859" y="1068"/>
                </a:lnTo>
                <a:lnTo>
                  <a:pt x="865" y="1059"/>
                </a:lnTo>
                <a:lnTo>
                  <a:pt x="869" y="1047"/>
                </a:lnTo>
                <a:lnTo>
                  <a:pt x="871" y="1029"/>
                </a:lnTo>
                <a:lnTo>
                  <a:pt x="872" y="1009"/>
                </a:lnTo>
                <a:lnTo>
                  <a:pt x="872" y="947"/>
                </a:lnTo>
                <a:lnTo>
                  <a:pt x="871" y="929"/>
                </a:lnTo>
                <a:lnTo>
                  <a:pt x="871" y="914"/>
                </a:lnTo>
                <a:lnTo>
                  <a:pt x="870" y="902"/>
                </a:lnTo>
                <a:lnTo>
                  <a:pt x="865" y="893"/>
                </a:lnTo>
                <a:lnTo>
                  <a:pt x="852" y="878"/>
                </a:lnTo>
                <a:lnTo>
                  <a:pt x="844" y="873"/>
                </a:lnTo>
                <a:lnTo>
                  <a:pt x="838" y="865"/>
                </a:lnTo>
                <a:lnTo>
                  <a:pt x="835" y="857"/>
                </a:lnTo>
                <a:lnTo>
                  <a:pt x="835" y="845"/>
                </a:lnTo>
                <a:lnTo>
                  <a:pt x="839" y="833"/>
                </a:lnTo>
                <a:lnTo>
                  <a:pt x="845" y="821"/>
                </a:lnTo>
                <a:lnTo>
                  <a:pt x="861" y="798"/>
                </a:lnTo>
                <a:lnTo>
                  <a:pt x="881" y="773"/>
                </a:lnTo>
                <a:lnTo>
                  <a:pt x="890" y="758"/>
                </a:lnTo>
                <a:lnTo>
                  <a:pt x="899" y="741"/>
                </a:lnTo>
                <a:lnTo>
                  <a:pt x="906" y="727"/>
                </a:lnTo>
                <a:lnTo>
                  <a:pt x="915" y="710"/>
                </a:lnTo>
                <a:lnTo>
                  <a:pt x="925" y="689"/>
                </a:lnTo>
                <a:lnTo>
                  <a:pt x="938" y="667"/>
                </a:lnTo>
                <a:lnTo>
                  <a:pt x="952" y="641"/>
                </a:lnTo>
                <a:lnTo>
                  <a:pt x="969" y="612"/>
                </a:lnTo>
                <a:lnTo>
                  <a:pt x="988" y="582"/>
                </a:lnTo>
                <a:lnTo>
                  <a:pt x="1009" y="546"/>
                </a:lnTo>
                <a:lnTo>
                  <a:pt x="1003" y="543"/>
                </a:lnTo>
                <a:lnTo>
                  <a:pt x="997" y="542"/>
                </a:lnTo>
                <a:lnTo>
                  <a:pt x="981" y="544"/>
                </a:lnTo>
                <a:lnTo>
                  <a:pt x="964" y="547"/>
                </a:lnTo>
                <a:lnTo>
                  <a:pt x="957" y="547"/>
                </a:lnTo>
                <a:lnTo>
                  <a:pt x="949" y="546"/>
                </a:lnTo>
                <a:lnTo>
                  <a:pt x="942" y="542"/>
                </a:lnTo>
                <a:lnTo>
                  <a:pt x="929" y="533"/>
                </a:lnTo>
                <a:lnTo>
                  <a:pt x="917" y="520"/>
                </a:lnTo>
                <a:lnTo>
                  <a:pt x="902" y="505"/>
                </a:lnTo>
                <a:lnTo>
                  <a:pt x="871" y="472"/>
                </a:lnTo>
                <a:lnTo>
                  <a:pt x="858" y="456"/>
                </a:lnTo>
                <a:lnTo>
                  <a:pt x="848" y="441"/>
                </a:lnTo>
                <a:lnTo>
                  <a:pt x="839" y="427"/>
                </a:lnTo>
                <a:lnTo>
                  <a:pt x="831" y="412"/>
                </a:lnTo>
                <a:lnTo>
                  <a:pt x="816" y="378"/>
                </a:lnTo>
                <a:lnTo>
                  <a:pt x="803" y="345"/>
                </a:lnTo>
                <a:lnTo>
                  <a:pt x="799" y="328"/>
                </a:lnTo>
                <a:lnTo>
                  <a:pt x="797" y="312"/>
                </a:lnTo>
                <a:lnTo>
                  <a:pt x="794" y="287"/>
                </a:lnTo>
                <a:lnTo>
                  <a:pt x="792" y="258"/>
                </a:lnTo>
                <a:lnTo>
                  <a:pt x="790" y="223"/>
                </a:lnTo>
                <a:lnTo>
                  <a:pt x="790" y="184"/>
                </a:lnTo>
                <a:lnTo>
                  <a:pt x="785" y="178"/>
                </a:lnTo>
                <a:lnTo>
                  <a:pt x="780" y="171"/>
                </a:lnTo>
                <a:lnTo>
                  <a:pt x="765" y="157"/>
                </a:lnTo>
                <a:lnTo>
                  <a:pt x="750" y="147"/>
                </a:lnTo>
                <a:lnTo>
                  <a:pt x="742" y="144"/>
                </a:lnTo>
                <a:lnTo>
                  <a:pt x="734" y="144"/>
                </a:lnTo>
                <a:lnTo>
                  <a:pt x="732" y="142"/>
                </a:lnTo>
                <a:lnTo>
                  <a:pt x="734" y="144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8080" y="1154160"/>
            <a:ext cx="318960" cy="241200"/>
          </a:xfrm>
          <a:custGeom>
            <a:avLst/>
            <a:gdLst/>
            <a:ahLst/>
            <a:rect l="l" t="t" r="r" b="b"/>
            <a:pathLst>
              <a:path w="201" h="152">
                <a:moveTo>
                  <a:pt x="35" y="78"/>
                </a:moveTo>
                <a:lnTo>
                  <a:pt x="50" y="73"/>
                </a:lnTo>
                <a:lnTo>
                  <a:pt x="63" y="65"/>
                </a:lnTo>
                <a:lnTo>
                  <a:pt x="75" y="56"/>
                </a:lnTo>
                <a:lnTo>
                  <a:pt x="85" y="45"/>
                </a:lnTo>
                <a:lnTo>
                  <a:pt x="105" y="27"/>
                </a:lnTo>
                <a:lnTo>
                  <a:pt x="115" y="20"/>
                </a:lnTo>
                <a:lnTo>
                  <a:pt x="124" y="18"/>
                </a:lnTo>
                <a:lnTo>
                  <a:pt x="135" y="17"/>
                </a:lnTo>
                <a:lnTo>
                  <a:pt x="146" y="13"/>
                </a:lnTo>
                <a:lnTo>
                  <a:pt x="167" y="4"/>
                </a:lnTo>
                <a:lnTo>
                  <a:pt x="176" y="0"/>
                </a:lnTo>
                <a:lnTo>
                  <a:pt x="184" y="2"/>
                </a:lnTo>
                <a:lnTo>
                  <a:pt x="192" y="7"/>
                </a:lnTo>
                <a:lnTo>
                  <a:pt x="194" y="12"/>
                </a:lnTo>
                <a:lnTo>
                  <a:pt x="197" y="18"/>
                </a:lnTo>
                <a:lnTo>
                  <a:pt x="200" y="33"/>
                </a:lnTo>
                <a:lnTo>
                  <a:pt x="200" y="45"/>
                </a:lnTo>
                <a:lnTo>
                  <a:pt x="198" y="57"/>
                </a:lnTo>
                <a:lnTo>
                  <a:pt x="193" y="66"/>
                </a:lnTo>
                <a:lnTo>
                  <a:pt x="185" y="74"/>
                </a:lnTo>
                <a:lnTo>
                  <a:pt x="176" y="80"/>
                </a:lnTo>
                <a:lnTo>
                  <a:pt x="161" y="83"/>
                </a:lnTo>
                <a:lnTo>
                  <a:pt x="146" y="84"/>
                </a:lnTo>
                <a:lnTo>
                  <a:pt x="130" y="84"/>
                </a:lnTo>
                <a:lnTo>
                  <a:pt x="117" y="86"/>
                </a:lnTo>
                <a:lnTo>
                  <a:pt x="106" y="88"/>
                </a:lnTo>
                <a:lnTo>
                  <a:pt x="95" y="89"/>
                </a:lnTo>
                <a:lnTo>
                  <a:pt x="87" y="94"/>
                </a:lnTo>
                <a:lnTo>
                  <a:pt x="82" y="98"/>
                </a:lnTo>
                <a:lnTo>
                  <a:pt x="77" y="104"/>
                </a:lnTo>
                <a:lnTo>
                  <a:pt x="74" y="112"/>
                </a:lnTo>
                <a:lnTo>
                  <a:pt x="71" y="119"/>
                </a:lnTo>
                <a:lnTo>
                  <a:pt x="65" y="128"/>
                </a:lnTo>
                <a:lnTo>
                  <a:pt x="57" y="137"/>
                </a:lnTo>
                <a:lnTo>
                  <a:pt x="50" y="143"/>
                </a:lnTo>
                <a:lnTo>
                  <a:pt x="40" y="149"/>
                </a:lnTo>
                <a:lnTo>
                  <a:pt x="30" y="151"/>
                </a:lnTo>
                <a:lnTo>
                  <a:pt x="20" y="150"/>
                </a:lnTo>
                <a:lnTo>
                  <a:pt x="12" y="146"/>
                </a:lnTo>
                <a:lnTo>
                  <a:pt x="5" y="137"/>
                </a:lnTo>
                <a:lnTo>
                  <a:pt x="0" y="128"/>
                </a:lnTo>
                <a:lnTo>
                  <a:pt x="0" y="117"/>
                </a:lnTo>
                <a:lnTo>
                  <a:pt x="0" y="107"/>
                </a:lnTo>
                <a:lnTo>
                  <a:pt x="5" y="97"/>
                </a:lnTo>
                <a:lnTo>
                  <a:pt x="12" y="88"/>
                </a:lnTo>
                <a:lnTo>
                  <a:pt x="21" y="82"/>
                </a:lnTo>
                <a:lnTo>
                  <a:pt x="35" y="78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436760"/>
            <a:ext cx="96840" cy="154080"/>
          </a:xfrm>
          <a:custGeom>
            <a:avLst/>
            <a:gdLst/>
            <a:ahLst/>
            <a:rect l="l" t="t" r="r" b="b"/>
            <a:pathLst>
              <a:path w="61" h="97">
                <a:moveTo>
                  <a:pt x="50" y="0"/>
                </a:moveTo>
                <a:lnTo>
                  <a:pt x="35" y="8"/>
                </a:lnTo>
                <a:lnTo>
                  <a:pt x="23" y="16"/>
                </a:lnTo>
                <a:lnTo>
                  <a:pt x="14" y="23"/>
                </a:lnTo>
                <a:lnTo>
                  <a:pt x="6" y="29"/>
                </a:lnTo>
                <a:lnTo>
                  <a:pt x="2" y="34"/>
                </a:lnTo>
                <a:lnTo>
                  <a:pt x="0" y="40"/>
                </a:lnTo>
                <a:lnTo>
                  <a:pt x="0" y="44"/>
                </a:lnTo>
                <a:lnTo>
                  <a:pt x="3" y="47"/>
                </a:lnTo>
                <a:lnTo>
                  <a:pt x="9" y="54"/>
                </a:lnTo>
                <a:lnTo>
                  <a:pt x="18" y="62"/>
                </a:lnTo>
                <a:lnTo>
                  <a:pt x="28" y="73"/>
                </a:lnTo>
                <a:lnTo>
                  <a:pt x="37" y="83"/>
                </a:lnTo>
                <a:lnTo>
                  <a:pt x="46" y="91"/>
                </a:lnTo>
                <a:lnTo>
                  <a:pt x="53" y="95"/>
                </a:lnTo>
                <a:lnTo>
                  <a:pt x="55" y="96"/>
                </a:lnTo>
                <a:lnTo>
                  <a:pt x="58" y="93"/>
                </a:lnTo>
                <a:lnTo>
                  <a:pt x="59" y="90"/>
                </a:lnTo>
                <a:lnTo>
                  <a:pt x="60" y="85"/>
                </a:lnTo>
                <a:lnTo>
                  <a:pt x="59" y="68"/>
                </a:lnTo>
                <a:lnTo>
                  <a:pt x="57" y="48"/>
                </a:lnTo>
                <a:lnTo>
                  <a:pt x="54" y="25"/>
                </a:lnTo>
                <a:lnTo>
                  <a:pt x="50" y="0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67280" y="2046240"/>
            <a:ext cx="276120" cy="406440"/>
          </a:xfrm>
          <a:custGeom>
            <a:avLst/>
            <a:gdLst/>
            <a:ahLst/>
            <a:rect l="l" t="t" r="r" b="b"/>
            <a:pathLst>
              <a:path w="174" h="256">
                <a:moveTo>
                  <a:pt x="2" y="136"/>
                </a:moveTo>
                <a:lnTo>
                  <a:pt x="1" y="128"/>
                </a:lnTo>
                <a:lnTo>
                  <a:pt x="0" y="121"/>
                </a:lnTo>
                <a:lnTo>
                  <a:pt x="4" y="112"/>
                </a:lnTo>
                <a:lnTo>
                  <a:pt x="10" y="106"/>
                </a:lnTo>
                <a:lnTo>
                  <a:pt x="18" y="100"/>
                </a:lnTo>
                <a:lnTo>
                  <a:pt x="23" y="98"/>
                </a:lnTo>
                <a:lnTo>
                  <a:pt x="28" y="96"/>
                </a:lnTo>
                <a:lnTo>
                  <a:pt x="39" y="89"/>
                </a:lnTo>
                <a:lnTo>
                  <a:pt x="50" y="80"/>
                </a:lnTo>
                <a:lnTo>
                  <a:pt x="59" y="67"/>
                </a:lnTo>
                <a:lnTo>
                  <a:pt x="68" y="52"/>
                </a:lnTo>
                <a:lnTo>
                  <a:pt x="75" y="37"/>
                </a:lnTo>
                <a:lnTo>
                  <a:pt x="85" y="22"/>
                </a:lnTo>
                <a:lnTo>
                  <a:pt x="94" y="12"/>
                </a:lnTo>
                <a:lnTo>
                  <a:pt x="103" y="4"/>
                </a:lnTo>
                <a:lnTo>
                  <a:pt x="115" y="0"/>
                </a:lnTo>
                <a:lnTo>
                  <a:pt x="128" y="3"/>
                </a:lnTo>
                <a:lnTo>
                  <a:pt x="134" y="6"/>
                </a:lnTo>
                <a:lnTo>
                  <a:pt x="141" y="12"/>
                </a:lnTo>
                <a:lnTo>
                  <a:pt x="154" y="25"/>
                </a:lnTo>
                <a:lnTo>
                  <a:pt x="161" y="37"/>
                </a:lnTo>
                <a:lnTo>
                  <a:pt x="166" y="51"/>
                </a:lnTo>
                <a:lnTo>
                  <a:pt x="169" y="65"/>
                </a:lnTo>
                <a:lnTo>
                  <a:pt x="170" y="92"/>
                </a:lnTo>
                <a:lnTo>
                  <a:pt x="170" y="106"/>
                </a:lnTo>
                <a:lnTo>
                  <a:pt x="172" y="121"/>
                </a:lnTo>
                <a:lnTo>
                  <a:pt x="173" y="132"/>
                </a:lnTo>
                <a:lnTo>
                  <a:pt x="173" y="143"/>
                </a:lnTo>
                <a:lnTo>
                  <a:pt x="169" y="161"/>
                </a:lnTo>
                <a:lnTo>
                  <a:pt x="163" y="181"/>
                </a:lnTo>
                <a:lnTo>
                  <a:pt x="158" y="200"/>
                </a:lnTo>
                <a:lnTo>
                  <a:pt x="155" y="212"/>
                </a:lnTo>
                <a:lnTo>
                  <a:pt x="147" y="224"/>
                </a:lnTo>
                <a:lnTo>
                  <a:pt x="138" y="236"/>
                </a:lnTo>
                <a:lnTo>
                  <a:pt x="127" y="246"/>
                </a:lnTo>
                <a:lnTo>
                  <a:pt x="116" y="253"/>
                </a:lnTo>
                <a:lnTo>
                  <a:pt x="105" y="255"/>
                </a:lnTo>
                <a:lnTo>
                  <a:pt x="101" y="254"/>
                </a:lnTo>
                <a:lnTo>
                  <a:pt x="98" y="251"/>
                </a:lnTo>
                <a:lnTo>
                  <a:pt x="94" y="245"/>
                </a:lnTo>
                <a:lnTo>
                  <a:pt x="91" y="237"/>
                </a:lnTo>
                <a:lnTo>
                  <a:pt x="86" y="221"/>
                </a:lnTo>
                <a:lnTo>
                  <a:pt x="83" y="207"/>
                </a:lnTo>
                <a:lnTo>
                  <a:pt x="79" y="194"/>
                </a:lnTo>
                <a:lnTo>
                  <a:pt x="77" y="186"/>
                </a:lnTo>
                <a:lnTo>
                  <a:pt x="77" y="179"/>
                </a:lnTo>
                <a:lnTo>
                  <a:pt x="80" y="173"/>
                </a:lnTo>
                <a:lnTo>
                  <a:pt x="86" y="168"/>
                </a:lnTo>
                <a:lnTo>
                  <a:pt x="98" y="163"/>
                </a:lnTo>
                <a:lnTo>
                  <a:pt x="108" y="157"/>
                </a:lnTo>
                <a:lnTo>
                  <a:pt x="118" y="147"/>
                </a:lnTo>
                <a:lnTo>
                  <a:pt x="124" y="135"/>
                </a:lnTo>
                <a:lnTo>
                  <a:pt x="129" y="122"/>
                </a:lnTo>
                <a:lnTo>
                  <a:pt x="130" y="111"/>
                </a:lnTo>
                <a:lnTo>
                  <a:pt x="130" y="100"/>
                </a:lnTo>
                <a:lnTo>
                  <a:pt x="127" y="92"/>
                </a:lnTo>
                <a:lnTo>
                  <a:pt x="121" y="89"/>
                </a:lnTo>
                <a:lnTo>
                  <a:pt x="101" y="85"/>
                </a:lnTo>
                <a:lnTo>
                  <a:pt x="80" y="86"/>
                </a:lnTo>
                <a:lnTo>
                  <a:pt x="71" y="90"/>
                </a:lnTo>
                <a:lnTo>
                  <a:pt x="63" y="96"/>
                </a:lnTo>
                <a:lnTo>
                  <a:pt x="57" y="104"/>
                </a:lnTo>
                <a:lnTo>
                  <a:pt x="53" y="114"/>
                </a:lnTo>
                <a:lnTo>
                  <a:pt x="50" y="127"/>
                </a:lnTo>
                <a:lnTo>
                  <a:pt x="44" y="139"/>
                </a:lnTo>
                <a:lnTo>
                  <a:pt x="38" y="148"/>
                </a:lnTo>
                <a:lnTo>
                  <a:pt x="30" y="155"/>
                </a:lnTo>
                <a:lnTo>
                  <a:pt x="21" y="158"/>
                </a:lnTo>
                <a:lnTo>
                  <a:pt x="14" y="157"/>
                </a:lnTo>
                <a:lnTo>
                  <a:pt x="8" y="149"/>
                </a:lnTo>
                <a:lnTo>
                  <a:pt x="5" y="144"/>
                </a:lnTo>
                <a:lnTo>
                  <a:pt x="2" y="136"/>
                </a:lnTo>
                <a:lnTo>
                  <a:pt x="2" y="132"/>
                </a:lnTo>
                <a:lnTo>
                  <a:pt x="2" y="13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69040" y="4467240"/>
            <a:ext cx="966960" cy="912960"/>
          </a:xfrm>
          <a:custGeom>
            <a:avLst/>
            <a:gdLst/>
            <a:ahLst/>
            <a:rect l="l" t="t" r="r" b="b"/>
            <a:pathLst>
              <a:path w="609" h="575">
                <a:moveTo>
                  <a:pt x="429" y="114"/>
                </a:moveTo>
                <a:lnTo>
                  <a:pt x="408" y="111"/>
                </a:lnTo>
                <a:lnTo>
                  <a:pt x="396" y="110"/>
                </a:lnTo>
                <a:lnTo>
                  <a:pt x="384" y="107"/>
                </a:lnTo>
                <a:lnTo>
                  <a:pt x="363" y="104"/>
                </a:lnTo>
                <a:lnTo>
                  <a:pt x="355" y="103"/>
                </a:lnTo>
                <a:lnTo>
                  <a:pt x="349" y="100"/>
                </a:lnTo>
                <a:lnTo>
                  <a:pt x="345" y="98"/>
                </a:lnTo>
                <a:lnTo>
                  <a:pt x="343" y="95"/>
                </a:lnTo>
                <a:lnTo>
                  <a:pt x="343" y="90"/>
                </a:lnTo>
                <a:lnTo>
                  <a:pt x="344" y="86"/>
                </a:lnTo>
                <a:lnTo>
                  <a:pt x="351" y="73"/>
                </a:lnTo>
                <a:lnTo>
                  <a:pt x="359" y="62"/>
                </a:lnTo>
                <a:lnTo>
                  <a:pt x="362" y="56"/>
                </a:lnTo>
                <a:lnTo>
                  <a:pt x="361" y="50"/>
                </a:lnTo>
                <a:lnTo>
                  <a:pt x="357" y="44"/>
                </a:lnTo>
                <a:lnTo>
                  <a:pt x="352" y="39"/>
                </a:lnTo>
                <a:lnTo>
                  <a:pt x="344" y="33"/>
                </a:lnTo>
                <a:lnTo>
                  <a:pt x="337" y="27"/>
                </a:lnTo>
                <a:lnTo>
                  <a:pt x="330" y="21"/>
                </a:lnTo>
                <a:lnTo>
                  <a:pt x="325" y="18"/>
                </a:lnTo>
                <a:lnTo>
                  <a:pt x="312" y="2"/>
                </a:lnTo>
                <a:lnTo>
                  <a:pt x="309" y="0"/>
                </a:lnTo>
                <a:lnTo>
                  <a:pt x="306" y="0"/>
                </a:lnTo>
                <a:lnTo>
                  <a:pt x="304" y="2"/>
                </a:lnTo>
                <a:lnTo>
                  <a:pt x="303" y="8"/>
                </a:lnTo>
                <a:lnTo>
                  <a:pt x="301" y="13"/>
                </a:lnTo>
                <a:lnTo>
                  <a:pt x="294" y="20"/>
                </a:lnTo>
                <a:lnTo>
                  <a:pt x="286" y="26"/>
                </a:lnTo>
                <a:lnTo>
                  <a:pt x="276" y="32"/>
                </a:lnTo>
                <a:lnTo>
                  <a:pt x="256" y="42"/>
                </a:lnTo>
                <a:lnTo>
                  <a:pt x="249" y="48"/>
                </a:lnTo>
                <a:lnTo>
                  <a:pt x="241" y="52"/>
                </a:lnTo>
                <a:lnTo>
                  <a:pt x="235" y="57"/>
                </a:lnTo>
                <a:lnTo>
                  <a:pt x="231" y="62"/>
                </a:lnTo>
                <a:lnTo>
                  <a:pt x="222" y="67"/>
                </a:lnTo>
                <a:lnTo>
                  <a:pt x="214" y="71"/>
                </a:lnTo>
                <a:lnTo>
                  <a:pt x="207" y="72"/>
                </a:lnTo>
                <a:lnTo>
                  <a:pt x="199" y="72"/>
                </a:lnTo>
                <a:lnTo>
                  <a:pt x="190" y="73"/>
                </a:lnTo>
                <a:lnTo>
                  <a:pt x="178" y="78"/>
                </a:lnTo>
                <a:lnTo>
                  <a:pt x="166" y="84"/>
                </a:lnTo>
                <a:lnTo>
                  <a:pt x="154" y="94"/>
                </a:lnTo>
                <a:lnTo>
                  <a:pt x="132" y="116"/>
                </a:lnTo>
                <a:lnTo>
                  <a:pt x="122" y="129"/>
                </a:lnTo>
                <a:lnTo>
                  <a:pt x="114" y="143"/>
                </a:lnTo>
                <a:lnTo>
                  <a:pt x="107" y="153"/>
                </a:lnTo>
                <a:lnTo>
                  <a:pt x="101" y="164"/>
                </a:lnTo>
                <a:lnTo>
                  <a:pt x="85" y="181"/>
                </a:lnTo>
                <a:lnTo>
                  <a:pt x="64" y="198"/>
                </a:lnTo>
                <a:lnTo>
                  <a:pt x="52" y="208"/>
                </a:lnTo>
                <a:lnTo>
                  <a:pt x="40" y="218"/>
                </a:lnTo>
                <a:lnTo>
                  <a:pt x="31" y="222"/>
                </a:lnTo>
                <a:lnTo>
                  <a:pt x="19" y="222"/>
                </a:lnTo>
                <a:lnTo>
                  <a:pt x="17" y="221"/>
                </a:lnTo>
                <a:lnTo>
                  <a:pt x="11" y="222"/>
                </a:lnTo>
                <a:lnTo>
                  <a:pt x="6" y="226"/>
                </a:lnTo>
                <a:lnTo>
                  <a:pt x="4" y="231"/>
                </a:lnTo>
                <a:lnTo>
                  <a:pt x="3" y="238"/>
                </a:lnTo>
                <a:lnTo>
                  <a:pt x="2" y="247"/>
                </a:lnTo>
                <a:lnTo>
                  <a:pt x="1" y="260"/>
                </a:lnTo>
                <a:lnTo>
                  <a:pt x="0" y="276"/>
                </a:lnTo>
                <a:lnTo>
                  <a:pt x="0" y="318"/>
                </a:lnTo>
                <a:lnTo>
                  <a:pt x="2" y="333"/>
                </a:lnTo>
                <a:lnTo>
                  <a:pt x="5" y="343"/>
                </a:lnTo>
                <a:lnTo>
                  <a:pt x="12" y="355"/>
                </a:lnTo>
                <a:lnTo>
                  <a:pt x="22" y="365"/>
                </a:lnTo>
                <a:lnTo>
                  <a:pt x="28" y="370"/>
                </a:lnTo>
                <a:lnTo>
                  <a:pt x="33" y="374"/>
                </a:lnTo>
                <a:lnTo>
                  <a:pt x="35" y="379"/>
                </a:lnTo>
                <a:lnTo>
                  <a:pt x="38" y="385"/>
                </a:lnTo>
                <a:lnTo>
                  <a:pt x="38" y="392"/>
                </a:lnTo>
                <a:lnTo>
                  <a:pt x="35" y="400"/>
                </a:lnTo>
                <a:lnTo>
                  <a:pt x="28" y="416"/>
                </a:lnTo>
                <a:lnTo>
                  <a:pt x="21" y="428"/>
                </a:lnTo>
                <a:lnTo>
                  <a:pt x="17" y="443"/>
                </a:lnTo>
                <a:lnTo>
                  <a:pt x="17" y="452"/>
                </a:lnTo>
                <a:lnTo>
                  <a:pt x="18" y="465"/>
                </a:lnTo>
                <a:lnTo>
                  <a:pt x="19" y="471"/>
                </a:lnTo>
                <a:lnTo>
                  <a:pt x="22" y="476"/>
                </a:lnTo>
                <a:lnTo>
                  <a:pt x="30" y="484"/>
                </a:lnTo>
                <a:lnTo>
                  <a:pt x="41" y="490"/>
                </a:lnTo>
                <a:lnTo>
                  <a:pt x="53" y="494"/>
                </a:lnTo>
                <a:lnTo>
                  <a:pt x="68" y="494"/>
                </a:lnTo>
                <a:lnTo>
                  <a:pt x="82" y="492"/>
                </a:lnTo>
                <a:lnTo>
                  <a:pt x="95" y="489"/>
                </a:lnTo>
                <a:lnTo>
                  <a:pt x="106" y="484"/>
                </a:lnTo>
                <a:lnTo>
                  <a:pt x="125" y="475"/>
                </a:lnTo>
                <a:lnTo>
                  <a:pt x="149" y="465"/>
                </a:lnTo>
                <a:lnTo>
                  <a:pt x="174" y="455"/>
                </a:lnTo>
                <a:lnTo>
                  <a:pt x="199" y="444"/>
                </a:lnTo>
                <a:lnTo>
                  <a:pt x="214" y="440"/>
                </a:lnTo>
                <a:lnTo>
                  <a:pt x="232" y="435"/>
                </a:lnTo>
                <a:lnTo>
                  <a:pt x="252" y="433"/>
                </a:lnTo>
                <a:lnTo>
                  <a:pt x="271" y="432"/>
                </a:lnTo>
                <a:lnTo>
                  <a:pt x="292" y="433"/>
                </a:lnTo>
                <a:lnTo>
                  <a:pt x="311" y="436"/>
                </a:lnTo>
                <a:lnTo>
                  <a:pt x="329" y="442"/>
                </a:lnTo>
                <a:lnTo>
                  <a:pt x="343" y="451"/>
                </a:lnTo>
                <a:lnTo>
                  <a:pt x="356" y="463"/>
                </a:lnTo>
                <a:lnTo>
                  <a:pt x="368" y="476"/>
                </a:lnTo>
                <a:lnTo>
                  <a:pt x="391" y="505"/>
                </a:lnTo>
                <a:lnTo>
                  <a:pt x="410" y="533"/>
                </a:lnTo>
                <a:lnTo>
                  <a:pt x="417" y="546"/>
                </a:lnTo>
                <a:lnTo>
                  <a:pt x="423" y="558"/>
                </a:lnTo>
                <a:lnTo>
                  <a:pt x="427" y="562"/>
                </a:lnTo>
                <a:lnTo>
                  <a:pt x="431" y="567"/>
                </a:lnTo>
                <a:lnTo>
                  <a:pt x="444" y="572"/>
                </a:lnTo>
                <a:lnTo>
                  <a:pt x="459" y="574"/>
                </a:lnTo>
                <a:lnTo>
                  <a:pt x="476" y="574"/>
                </a:lnTo>
                <a:lnTo>
                  <a:pt x="493" y="570"/>
                </a:lnTo>
                <a:lnTo>
                  <a:pt x="507" y="567"/>
                </a:lnTo>
                <a:lnTo>
                  <a:pt x="518" y="561"/>
                </a:lnTo>
                <a:lnTo>
                  <a:pt x="520" y="559"/>
                </a:lnTo>
                <a:lnTo>
                  <a:pt x="522" y="555"/>
                </a:lnTo>
                <a:lnTo>
                  <a:pt x="524" y="547"/>
                </a:lnTo>
                <a:lnTo>
                  <a:pt x="527" y="536"/>
                </a:lnTo>
                <a:lnTo>
                  <a:pt x="536" y="513"/>
                </a:lnTo>
                <a:lnTo>
                  <a:pt x="543" y="490"/>
                </a:lnTo>
                <a:lnTo>
                  <a:pt x="546" y="480"/>
                </a:lnTo>
                <a:lnTo>
                  <a:pt x="548" y="473"/>
                </a:lnTo>
                <a:lnTo>
                  <a:pt x="551" y="465"/>
                </a:lnTo>
                <a:lnTo>
                  <a:pt x="555" y="457"/>
                </a:lnTo>
                <a:lnTo>
                  <a:pt x="569" y="437"/>
                </a:lnTo>
                <a:lnTo>
                  <a:pt x="581" y="419"/>
                </a:lnTo>
                <a:lnTo>
                  <a:pt x="585" y="410"/>
                </a:lnTo>
                <a:lnTo>
                  <a:pt x="587" y="402"/>
                </a:lnTo>
                <a:lnTo>
                  <a:pt x="588" y="394"/>
                </a:lnTo>
                <a:lnTo>
                  <a:pt x="590" y="385"/>
                </a:lnTo>
                <a:lnTo>
                  <a:pt x="592" y="374"/>
                </a:lnTo>
                <a:lnTo>
                  <a:pt x="596" y="364"/>
                </a:lnTo>
                <a:lnTo>
                  <a:pt x="604" y="341"/>
                </a:lnTo>
                <a:lnTo>
                  <a:pt x="608" y="319"/>
                </a:lnTo>
                <a:lnTo>
                  <a:pt x="607" y="309"/>
                </a:lnTo>
                <a:lnTo>
                  <a:pt x="602" y="299"/>
                </a:lnTo>
                <a:lnTo>
                  <a:pt x="593" y="287"/>
                </a:lnTo>
                <a:lnTo>
                  <a:pt x="584" y="276"/>
                </a:lnTo>
                <a:lnTo>
                  <a:pt x="562" y="253"/>
                </a:lnTo>
                <a:lnTo>
                  <a:pt x="554" y="243"/>
                </a:lnTo>
                <a:lnTo>
                  <a:pt x="546" y="234"/>
                </a:lnTo>
                <a:lnTo>
                  <a:pt x="536" y="221"/>
                </a:lnTo>
                <a:lnTo>
                  <a:pt x="527" y="209"/>
                </a:lnTo>
                <a:lnTo>
                  <a:pt x="510" y="189"/>
                </a:lnTo>
                <a:lnTo>
                  <a:pt x="499" y="169"/>
                </a:lnTo>
                <a:lnTo>
                  <a:pt x="494" y="160"/>
                </a:lnTo>
                <a:lnTo>
                  <a:pt x="491" y="149"/>
                </a:lnTo>
                <a:lnTo>
                  <a:pt x="488" y="123"/>
                </a:lnTo>
                <a:lnTo>
                  <a:pt x="485" y="98"/>
                </a:lnTo>
                <a:lnTo>
                  <a:pt x="482" y="73"/>
                </a:lnTo>
                <a:lnTo>
                  <a:pt x="481" y="62"/>
                </a:lnTo>
                <a:lnTo>
                  <a:pt x="477" y="52"/>
                </a:lnTo>
                <a:lnTo>
                  <a:pt x="467" y="35"/>
                </a:lnTo>
                <a:lnTo>
                  <a:pt x="457" y="20"/>
                </a:lnTo>
                <a:lnTo>
                  <a:pt x="447" y="8"/>
                </a:lnTo>
                <a:lnTo>
                  <a:pt x="437" y="1"/>
                </a:lnTo>
                <a:lnTo>
                  <a:pt x="443" y="27"/>
                </a:lnTo>
                <a:lnTo>
                  <a:pt x="446" y="52"/>
                </a:lnTo>
                <a:lnTo>
                  <a:pt x="447" y="76"/>
                </a:lnTo>
                <a:lnTo>
                  <a:pt x="447" y="92"/>
                </a:lnTo>
                <a:lnTo>
                  <a:pt x="446" y="104"/>
                </a:lnTo>
                <a:lnTo>
                  <a:pt x="443" y="111"/>
                </a:lnTo>
                <a:lnTo>
                  <a:pt x="437" y="114"/>
                </a:lnTo>
                <a:lnTo>
                  <a:pt x="429" y="114"/>
                </a:lnTo>
                <a:lnTo>
                  <a:pt x="427" y="112"/>
                </a:lnTo>
                <a:lnTo>
                  <a:pt x="429" y="114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078680" y="3919680"/>
            <a:ext cx="190440" cy="317520"/>
          </a:xfrm>
          <a:custGeom>
            <a:avLst/>
            <a:gdLst/>
            <a:ahLst/>
            <a:rect l="l" t="t" r="r" b="b"/>
            <a:pathLst>
              <a:path w="120" h="200">
                <a:moveTo>
                  <a:pt x="36" y="73"/>
                </a:moveTo>
                <a:lnTo>
                  <a:pt x="44" y="68"/>
                </a:lnTo>
                <a:lnTo>
                  <a:pt x="51" y="63"/>
                </a:lnTo>
                <a:lnTo>
                  <a:pt x="62" y="50"/>
                </a:lnTo>
                <a:lnTo>
                  <a:pt x="70" y="37"/>
                </a:lnTo>
                <a:lnTo>
                  <a:pt x="74" y="29"/>
                </a:lnTo>
                <a:lnTo>
                  <a:pt x="79" y="21"/>
                </a:lnTo>
                <a:lnTo>
                  <a:pt x="90" y="7"/>
                </a:lnTo>
                <a:lnTo>
                  <a:pt x="96" y="2"/>
                </a:lnTo>
                <a:lnTo>
                  <a:pt x="103" y="0"/>
                </a:lnTo>
                <a:lnTo>
                  <a:pt x="108" y="0"/>
                </a:lnTo>
                <a:lnTo>
                  <a:pt x="113" y="5"/>
                </a:lnTo>
                <a:lnTo>
                  <a:pt x="117" y="13"/>
                </a:lnTo>
                <a:lnTo>
                  <a:pt x="119" y="25"/>
                </a:lnTo>
                <a:lnTo>
                  <a:pt x="119" y="39"/>
                </a:lnTo>
                <a:lnTo>
                  <a:pt x="118" y="51"/>
                </a:lnTo>
                <a:lnTo>
                  <a:pt x="114" y="71"/>
                </a:lnTo>
                <a:lnTo>
                  <a:pt x="111" y="89"/>
                </a:lnTo>
                <a:lnTo>
                  <a:pt x="111" y="98"/>
                </a:lnTo>
                <a:lnTo>
                  <a:pt x="113" y="107"/>
                </a:lnTo>
                <a:lnTo>
                  <a:pt x="114" y="116"/>
                </a:lnTo>
                <a:lnTo>
                  <a:pt x="114" y="125"/>
                </a:lnTo>
                <a:lnTo>
                  <a:pt x="111" y="135"/>
                </a:lnTo>
                <a:lnTo>
                  <a:pt x="109" y="144"/>
                </a:lnTo>
                <a:lnTo>
                  <a:pt x="105" y="152"/>
                </a:lnTo>
                <a:lnTo>
                  <a:pt x="99" y="159"/>
                </a:lnTo>
                <a:lnTo>
                  <a:pt x="93" y="163"/>
                </a:lnTo>
                <a:lnTo>
                  <a:pt x="88" y="167"/>
                </a:lnTo>
                <a:lnTo>
                  <a:pt x="75" y="170"/>
                </a:lnTo>
                <a:lnTo>
                  <a:pt x="64" y="178"/>
                </a:lnTo>
                <a:lnTo>
                  <a:pt x="53" y="185"/>
                </a:lnTo>
                <a:lnTo>
                  <a:pt x="48" y="194"/>
                </a:lnTo>
                <a:lnTo>
                  <a:pt x="45" y="197"/>
                </a:lnTo>
                <a:lnTo>
                  <a:pt x="41" y="199"/>
                </a:lnTo>
                <a:lnTo>
                  <a:pt x="36" y="199"/>
                </a:lnTo>
                <a:lnTo>
                  <a:pt x="31" y="197"/>
                </a:lnTo>
                <a:lnTo>
                  <a:pt x="26" y="194"/>
                </a:lnTo>
                <a:lnTo>
                  <a:pt x="19" y="190"/>
                </a:lnTo>
                <a:lnTo>
                  <a:pt x="13" y="183"/>
                </a:lnTo>
                <a:lnTo>
                  <a:pt x="8" y="176"/>
                </a:lnTo>
                <a:lnTo>
                  <a:pt x="3" y="166"/>
                </a:lnTo>
                <a:lnTo>
                  <a:pt x="1" y="152"/>
                </a:lnTo>
                <a:lnTo>
                  <a:pt x="0" y="137"/>
                </a:lnTo>
                <a:lnTo>
                  <a:pt x="1" y="121"/>
                </a:lnTo>
                <a:lnTo>
                  <a:pt x="4" y="106"/>
                </a:lnTo>
                <a:lnTo>
                  <a:pt x="11" y="91"/>
                </a:lnTo>
                <a:lnTo>
                  <a:pt x="21" y="81"/>
                </a:lnTo>
                <a:lnTo>
                  <a:pt x="29" y="76"/>
                </a:lnTo>
                <a:lnTo>
                  <a:pt x="36" y="73"/>
                </a:lnTo>
                <a:lnTo>
                  <a:pt x="34" y="73"/>
                </a:lnTo>
                <a:lnTo>
                  <a:pt x="36" y="73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96000" y="4086360"/>
            <a:ext cx="282600" cy="325440"/>
          </a:xfrm>
          <a:custGeom>
            <a:avLst/>
            <a:gdLst/>
            <a:ahLst/>
            <a:rect l="l" t="t" r="r" b="b"/>
            <a:pathLst>
              <a:path w="178" h="205">
                <a:moveTo>
                  <a:pt x="2" y="5"/>
                </a:moveTo>
                <a:lnTo>
                  <a:pt x="2" y="12"/>
                </a:lnTo>
                <a:lnTo>
                  <a:pt x="5" y="17"/>
                </a:lnTo>
                <a:lnTo>
                  <a:pt x="11" y="22"/>
                </a:lnTo>
                <a:lnTo>
                  <a:pt x="20" y="28"/>
                </a:lnTo>
                <a:lnTo>
                  <a:pt x="39" y="41"/>
                </a:lnTo>
                <a:lnTo>
                  <a:pt x="46" y="49"/>
                </a:lnTo>
                <a:lnTo>
                  <a:pt x="52" y="58"/>
                </a:lnTo>
                <a:lnTo>
                  <a:pt x="56" y="68"/>
                </a:lnTo>
                <a:lnTo>
                  <a:pt x="59" y="76"/>
                </a:lnTo>
                <a:lnTo>
                  <a:pt x="67" y="89"/>
                </a:lnTo>
                <a:lnTo>
                  <a:pt x="74" y="102"/>
                </a:lnTo>
                <a:lnTo>
                  <a:pt x="80" y="116"/>
                </a:lnTo>
                <a:lnTo>
                  <a:pt x="89" y="134"/>
                </a:lnTo>
                <a:lnTo>
                  <a:pt x="100" y="153"/>
                </a:lnTo>
                <a:lnTo>
                  <a:pt x="112" y="175"/>
                </a:lnTo>
                <a:lnTo>
                  <a:pt x="127" y="197"/>
                </a:lnTo>
                <a:lnTo>
                  <a:pt x="131" y="202"/>
                </a:lnTo>
                <a:lnTo>
                  <a:pt x="136" y="204"/>
                </a:lnTo>
                <a:lnTo>
                  <a:pt x="151" y="204"/>
                </a:lnTo>
                <a:lnTo>
                  <a:pt x="164" y="200"/>
                </a:lnTo>
                <a:lnTo>
                  <a:pt x="170" y="197"/>
                </a:lnTo>
                <a:lnTo>
                  <a:pt x="174" y="192"/>
                </a:lnTo>
                <a:lnTo>
                  <a:pt x="177" y="188"/>
                </a:lnTo>
                <a:lnTo>
                  <a:pt x="177" y="181"/>
                </a:lnTo>
                <a:lnTo>
                  <a:pt x="176" y="173"/>
                </a:lnTo>
                <a:lnTo>
                  <a:pt x="173" y="164"/>
                </a:lnTo>
                <a:lnTo>
                  <a:pt x="164" y="146"/>
                </a:lnTo>
                <a:lnTo>
                  <a:pt x="159" y="138"/>
                </a:lnTo>
                <a:lnTo>
                  <a:pt x="153" y="131"/>
                </a:lnTo>
                <a:lnTo>
                  <a:pt x="130" y="114"/>
                </a:lnTo>
                <a:lnTo>
                  <a:pt x="118" y="104"/>
                </a:lnTo>
                <a:lnTo>
                  <a:pt x="107" y="92"/>
                </a:lnTo>
                <a:lnTo>
                  <a:pt x="98" y="81"/>
                </a:lnTo>
                <a:lnTo>
                  <a:pt x="91" y="71"/>
                </a:lnTo>
                <a:lnTo>
                  <a:pt x="83" y="61"/>
                </a:lnTo>
                <a:lnTo>
                  <a:pt x="77" y="51"/>
                </a:lnTo>
                <a:lnTo>
                  <a:pt x="71" y="40"/>
                </a:lnTo>
                <a:lnTo>
                  <a:pt x="62" y="29"/>
                </a:lnTo>
                <a:lnTo>
                  <a:pt x="54" y="21"/>
                </a:lnTo>
                <a:lnTo>
                  <a:pt x="44" y="16"/>
                </a:lnTo>
                <a:lnTo>
                  <a:pt x="39" y="14"/>
                </a:lnTo>
                <a:lnTo>
                  <a:pt x="32" y="12"/>
                </a:lnTo>
                <a:lnTo>
                  <a:pt x="20" y="4"/>
                </a:lnTo>
                <a:lnTo>
                  <a:pt x="14" y="2"/>
                </a:lnTo>
                <a:lnTo>
                  <a:pt x="9" y="0"/>
                </a:lnTo>
                <a:lnTo>
                  <a:pt x="5" y="2"/>
                </a:lnTo>
                <a:lnTo>
                  <a:pt x="2" y="5"/>
                </a:lnTo>
                <a:lnTo>
                  <a:pt x="0" y="3"/>
                </a:lnTo>
                <a:lnTo>
                  <a:pt x="2" y="5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626240" y="2725560"/>
            <a:ext cx="301680" cy="368640"/>
          </a:xfrm>
          <a:custGeom>
            <a:avLst/>
            <a:gdLst/>
            <a:ahLst/>
            <a:rect l="l" t="t" r="r" b="b"/>
            <a:pathLst>
              <a:path w="190" h="232">
                <a:moveTo>
                  <a:pt x="117" y="206"/>
                </a:moveTo>
                <a:lnTo>
                  <a:pt x="127" y="193"/>
                </a:lnTo>
                <a:lnTo>
                  <a:pt x="138" y="180"/>
                </a:lnTo>
                <a:lnTo>
                  <a:pt x="145" y="165"/>
                </a:lnTo>
                <a:lnTo>
                  <a:pt x="153" y="147"/>
                </a:lnTo>
                <a:lnTo>
                  <a:pt x="158" y="131"/>
                </a:lnTo>
                <a:lnTo>
                  <a:pt x="163" y="115"/>
                </a:lnTo>
                <a:lnTo>
                  <a:pt x="166" y="101"/>
                </a:lnTo>
                <a:lnTo>
                  <a:pt x="167" y="90"/>
                </a:lnTo>
                <a:lnTo>
                  <a:pt x="169" y="80"/>
                </a:lnTo>
                <a:lnTo>
                  <a:pt x="173" y="69"/>
                </a:lnTo>
                <a:lnTo>
                  <a:pt x="177" y="58"/>
                </a:lnTo>
                <a:lnTo>
                  <a:pt x="183" y="47"/>
                </a:lnTo>
                <a:lnTo>
                  <a:pt x="188" y="36"/>
                </a:lnTo>
                <a:lnTo>
                  <a:pt x="189" y="26"/>
                </a:lnTo>
                <a:lnTo>
                  <a:pt x="186" y="18"/>
                </a:lnTo>
                <a:lnTo>
                  <a:pt x="183" y="13"/>
                </a:lnTo>
                <a:lnTo>
                  <a:pt x="178" y="8"/>
                </a:lnTo>
                <a:lnTo>
                  <a:pt x="170" y="3"/>
                </a:lnTo>
                <a:lnTo>
                  <a:pt x="163" y="0"/>
                </a:lnTo>
                <a:lnTo>
                  <a:pt x="158" y="1"/>
                </a:lnTo>
                <a:lnTo>
                  <a:pt x="155" y="5"/>
                </a:lnTo>
                <a:lnTo>
                  <a:pt x="152" y="11"/>
                </a:lnTo>
                <a:lnTo>
                  <a:pt x="150" y="18"/>
                </a:lnTo>
                <a:lnTo>
                  <a:pt x="147" y="26"/>
                </a:lnTo>
                <a:lnTo>
                  <a:pt x="145" y="36"/>
                </a:lnTo>
                <a:lnTo>
                  <a:pt x="142" y="47"/>
                </a:lnTo>
                <a:lnTo>
                  <a:pt x="139" y="60"/>
                </a:lnTo>
                <a:lnTo>
                  <a:pt x="126" y="90"/>
                </a:lnTo>
                <a:lnTo>
                  <a:pt x="112" y="116"/>
                </a:lnTo>
                <a:lnTo>
                  <a:pt x="106" y="129"/>
                </a:lnTo>
                <a:lnTo>
                  <a:pt x="100" y="138"/>
                </a:lnTo>
                <a:lnTo>
                  <a:pt x="95" y="145"/>
                </a:lnTo>
                <a:lnTo>
                  <a:pt x="88" y="152"/>
                </a:lnTo>
                <a:lnTo>
                  <a:pt x="79" y="160"/>
                </a:lnTo>
                <a:lnTo>
                  <a:pt x="68" y="167"/>
                </a:lnTo>
                <a:lnTo>
                  <a:pt x="54" y="174"/>
                </a:lnTo>
                <a:lnTo>
                  <a:pt x="38" y="182"/>
                </a:lnTo>
                <a:lnTo>
                  <a:pt x="20" y="190"/>
                </a:lnTo>
                <a:lnTo>
                  <a:pt x="0" y="199"/>
                </a:lnTo>
                <a:lnTo>
                  <a:pt x="12" y="212"/>
                </a:lnTo>
                <a:lnTo>
                  <a:pt x="25" y="222"/>
                </a:lnTo>
                <a:lnTo>
                  <a:pt x="41" y="228"/>
                </a:lnTo>
                <a:lnTo>
                  <a:pt x="56" y="231"/>
                </a:lnTo>
                <a:lnTo>
                  <a:pt x="73" y="229"/>
                </a:lnTo>
                <a:lnTo>
                  <a:pt x="88" y="224"/>
                </a:lnTo>
                <a:lnTo>
                  <a:pt x="105" y="216"/>
                </a:lnTo>
                <a:lnTo>
                  <a:pt x="117" y="206"/>
                </a:lnTo>
                <a:lnTo>
                  <a:pt x="117" y="204"/>
                </a:lnTo>
                <a:lnTo>
                  <a:pt x="117" y="206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40640" y="4195800"/>
            <a:ext cx="398520" cy="245880"/>
          </a:xfrm>
          <a:custGeom>
            <a:avLst/>
            <a:gdLst/>
            <a:ahLst/>
            <a:rect l="l" t="t" r="r" b="b"/>
            <a:pathLst>
              <a:path w="251" h="155">
                <a:moveTo>
                  <a:pt x="42" y="7"/>
                </a:moveTo>
                <a:lnTo>
                  <a:pt x="63" y="4"/>
                </a:lnTo>
                <a:lnTo>
                  <a:pt x="81" y="0"/>
                </a:lnTo>
                <a:lnTo>
                  <a:pt x="91" y="0"/>
                </a:lnTo>
                <a:lnTo>
                  <a:pt x="101" y="2"/>
                </a:lnTo>
                <a:lnTo>
                  <a:pt x="110" y="7"/>
                </a:lnTo>
                <a:lnTo>
                  <a:pt x="121" y="14"/>
                </a:lnTo>
                <a:lnTo>
                  <a:pt x="142" y="37"/>
                </a:lnTo>
                <a:lnTo>
                  <a:pt x="161" y="60"/>
                </a:lnTo>
                <a:lnTo>
                  <a:pt x="180" y="80"/>
                </a:lnTo>
                <a:lnTo>
                  <a:pt x="189" y="88"/>
                </a:lnTo>
                <a:lnTo>
                  <a:pt x="200" y="93"/>
                </a:lnTo>
                <a:lnTo>
                  <a:pt x="213" y="103"/>
                </a:lnTo>
                <a:lnTo>
                  <a:pt x="226" y="116"/>
                </a:lnTo>
                <a:lnTo>
                  <a:pt x="238" y="134"/>
                </a:lnTo>
                <a:lnTo>
                  <a:pt x="250" y="154"/>
                </a:lnTo>
                <a:lnTo>
                  <a:pt x="177" y="134"/>
                </a:lnTo>
                <a:lnTo>
                  <a:pt x="131" y="140"/>
                </a:lnTo>
                <a:lnTo>
                  <a:pt x="133" y="142"/>
                </a:lnTo>
                <a:lnTo>
                  <a:pt x="114" y="140"/>
                </a:lnTo>
                <a:lnTo>
                  <a:pt x="98" y="137"/>
                </a:lnTo>
                <a:lnTo>
                  <a:pt x="81" y="132"/>
                </a:lnTo>
                <a:lnTo>
                  <a:pt x="69" y="126"/>
                </a:lnTo>
                <a:lnTo>
                  <a:pt x="59" y="116"/>
                </a:lnTo>
                <a:lnTo>
                  <a:pt x="49" y="107"/>
                </a:lnTo>
                <a:lnTo>
                  <a:pt x="42" y="95"/>
                </a:lnTo>
                <a:lnTo>
                  <a:pt x="36" y="81"/>
                </a:lnTo>
                <a:lnTo>
                  <a:pt x="29" y="67"/>
                </a:lnTo>
                <a:lnTo>
                  <a:pt x="21" y="58"/>
                </a:lnTo>
                <a:lnTo>
                  <a:pt x="11" y="46"/>
                </a:lnTo>
                <a:lnTo>
                  <a:pt x="4" y="37"/>
                </a:lnTo>
                <a:lnTo>
                  <a:pt x="1" y="32"/>
                </a:lnTo>
                <a:lnTo>
                  <a:pt x="0" y="28"/>
                </a:lnTo>
                <a:lnTo>
                  <a:pt x="2" y="23"/>
                </a:lnTo>
                <a:lnTo>
                  <a:pt x="6" y="19"/>
                </a:lnTo>
                <a:lnTo>
                  <a:pt x="11" y="15"/>
                </a:lnTo>
                <a:lnTo>
                  <a:pt x="20" y="13"/>
                </a:lnTo>
                <a:lnTo>
                  <a:pt x="29" y="9"/>
                </a:lnTo>
                <a:lnTo>
                  <a:pt x="42" y="7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408880" y="5400720"/>
            <a:ext cx="181080" cy="270000"/>
          </a:xfrm>
          <a:custGeom>
            <a:avLst/>
            <a:gdLst/>
            <a:ahLst/>
            <a:rect l="l" t="t" r="r" b="b"/>
            <a:pathLst>
              <a:path w="114" h="170">
                <a:moveTo>
                  <a:pt x="29" y="92"/>
                </a:moveTo>
                <a:lnTo>
                  <a:pt x="38" y="87"/>
                </a:lnTo>
                <a:lnTo>
                  <a:pt x="48" y="78"/>
                </a:lnTo>
                <a:lnTo>
                  <a:pt x="61" y="65"/>
                </a:lnTo>
                <a:lnTo>
                  <a:pt x="72" y="52"/>
                </a:lnTo>
                <a:lnTo>
                  <a:pt x="84" y="37"/>
                </a:lnTo>
                <a:lnTo>
                  <a:pt x="94" y="23"/>
                </a:lnTo>
                <a:lnTo>
                  <a:pt x="102" y="12"/>
                </a:lnTo>
                <a:lnTo>
                  <a:pt x="106" y="4"/>
                </a:lnTo>
                <a:lnTo>
                  <a:pt x="109" y="1"/>
                </a:lnTo>
                <a:lnTo>
                  <a:pt x="111" y="0"/>
                </a:lnTo>
                <a:lnTo>
                  <a:pt x="112" y="2"/>
                </a:lnTo>
                <a:lnTo>
                  <a:pt x="113" y="7"/>
                </a:lnTo>
                <a:lnTo>
                  <a:pt x="112" y="14"/>
                </a:lnTo>
                <a:lnTo>
                  <a:pt x="112" y="21"/>
                </a:lnTo>
                <a:lnTo>
                  <a:pt x="111" y="32"/>
                </a:lnTo>
                <a:lnTo>
                  <a:pt x="110" y="42"/>
                </a:lnTo>
                <a:lnTo>
                  <a:pt x="108" y="55"/>
                </a:lnTo>
                <a:lnTo>
                  <a:pt x="104" y="66"/>
                </a:lnTo>
                <a:lnTo>
                  <a:pt x="99" y="76"/>
                </a:lnTo>
                <a:lnTo>
                  <a:pt x="94" y="85"/>
                </a:lnTo>
                <a:lnTo>
                  <a:pt x="87" y="92"/>
                </a:lnTo>
                <a:lnTo>
                  <a:pt x="82" y="98"/>
                </a:lnTo>
                <a:lnTo>
                  <a:pt x="76" y="100"/>
                </a:lnTo>
                <a:lnTo>
                  <a:pt x="70" y="102"/>
                </a:lnTo>
                <a:lnTo>
                  <a:pt x="66" y="106"/>
                </a:lnTo>
                <a:lnTo>
                  <a:pt x="64" y="111"/>
                </a:lnTo>
                <a:lnTo>
                  <a:pt x="60" y="127"/>
                </a:lnTo>
                <a:lnTo>
                  <a:pt x="60" y="157"/>
                </a:lnTo>
                <a:lnTo>
                  <a:pt x="58" y="162"/>
                </a:lnTo>
                <a:lnTo>
                  <a:pt x="51" y="167"/>
                </a:lnTo>
                <a:lnTo>
                  <a:pt x="44" y="168"/>
                </a:lnTo>
                <a:lnTo>
                  <a:pt x="34" y="169"/>
                </a:lnTo>
                <a:lnTo>
                  <a:pt x="24" y="168"/>
                </a:lnTo>
                <a:lnTo>
                  <a:pt x="14" y="164"/>
                </a:lnTo>
                <a:lnTo>
                  <a:pt x="8" y="159"/>
                </a:lnTo>
                <a:lnTo>
                  <a:pt x="3" y="152"/>
                </a:lnTo>
                <a:lnTo>
                  <a:pt x="0" y="142"/>
                </a:lnTo>
                <a:lnTo>
                  <a:pt x="0" y="132"/>
                </a:lnTo>
                <a:lnTo>
                  <a:pt x="1" y="123"/>
                </a:lnTo>
                <a:lnTo>
                  <a:pt x="4" y="114"/>
                </a:lnTo>
                <a:lnTo>
                  <a:pt x="8" y="105"/>
                </a:lnTo>
                <a:lnTo>
                  <a:pt x="13" y="99"/>
                </a:lnTo>
                <a:lnTo>
                  <a:pt x="21" y="94"/>
                </a:lnTo>
                <a:lnTo>
                  <a:pt x="29" y="92"/>
                </a:lnTo>
                <a:lnTo>
                  <a:pt x="29" y="90"/>
                </a:lnTo>
                <a:lnTo>
                  <a:pt x="29" y="92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602560" y="5199120"/>
            <a:ext cx="146160" cy="2206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7" y="2"/>
                </a:moveTo>
                <a:lnTo>
                  <a:pt x="12" y="6"/>
                </a:lnTo>
                <a:lnTo>
                  <a:pt x="18" y="12"/>
                </a:lnTo>
                <a:lnTo>
                  <a:pt x="31" y="32"/>
                </a:lnTo>
                <a:lnTo>
                  <a:pt x="36" y="42"/>
                </a:lnTo>
                <a:lnTo>
                  <a:pt x="41" y="52"/>
                </a:lnTo>
                <a:lnTo>
                  <a:pt x="44" y="55"/>
                </a:lnTo>
                <a:lnTo>
                  <a:pt x="46" y="58"/>
                </a:lnTo>
                <a:lnTo>
                  <a:pt x="50" y="61"/>
                </a:lnTo>
                <a:lnTo>
                  <a:pt x="59" y="62"/>
                </a:lnTo>
                <a:lnTo>
                  <a:pt x="71" y="62"/>
                </a:lnTo>
                <a:lnTo>
                  <a:pt x="83" y="64"/>
                </a:lnTo>
                <a:lnTo>
                  <a:pt x="87" y="68"/>
                </a:lnTo>
                <a:lnTo>
                  <a:pt x="90" y="71"/>
                </a:lnTo>
                <a:lnTo>
                  <a:pt x="91" y="77"/>
                </a:lnTo>
                <a:lnTo>
                  <a:pt x="90" y="83"/>
                </a:lnTo>
                <a:lnTo>
                  <a:pt x="85" y="99"/>
                </a:lnTo>
                <a:lnTo>
                  <a:pt x="76" y="113"/>
                </a:lnTo>
                <a:lnTo>
                  <a:pt x="68" y="126"/>
                </a:lnTo>
                <a:lnTo>
                  <a:pt x="61" y="133"/>
                </a:lnTo>
                <a:lnTo>
                  <a:pt x="52" y="138"/>
                </a:lnTo>
                <a:lnTo>
                  <a:pt x="47" y="137"/>
                </a:lnTo>
                <a:lnTo>
                  <a:pt x="41" y="135"/>
                </a:lnTo>
                <a:lnTo>
                  <a:pt x="37" y="131"/>
                </a:lnTo>
                <a:lnTo>
                  <a:pt x="34" y="126"/>
                </a:lnTo>
                <a:lnTo>
                  <a:pt x="28" y="110"/>
                </a:lnTo>
                <a:lnTo>
                  <a:pt x="24" y="94"/>
                </a:lnTo>
                <a:lnTo>
                  <a:pt x="23" y="81"/>
                </a:lnTo>
                <a:lnTo>
                  <a:pt x="23" y="69"/>
                </a:lnTo>
                <a:lnTo>
                  <a:pt x="23" y="60"/>
                </a:lnTo>
                <a:lnTo>
                  <a:pt x="19" y="50"/>
                </a:lnTo>
                <a:lnTo>
                  <a:pt x="12" y="39"/>
                </a:lnTo>
                <a:lnTo>
                  <a:pt x="1" y="25"/>
                </a:lnTo>
                <a:lnTo>
                  <a:pt x="0" y="23"/>
                </a:lnTo>
                <a:lnTo>
                  <a:pt x="5" y="0"/>
                </a:lnTo>
                <a:lnTo>
                  <a:pt x="7" y="2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43160" y="3568680"/>
            <a:ext cx="258840" cy="154080"/>
          </a:xfrm>
          <a:custGeom>
            <a:avLst/>
            <a:gdLst/>
            <a:ahLst/>
            <a:rect l="l" t="t" r="r" b="b"/>
            <a:pathLst>
              <a:path w="163" h="97">
                <a:moveTo>
                  <a:pt x="2" y="11"/>
                </a:moveTo>
                <a:lnTo>
                  <a:pt x="4" y="5"/>
                </a:lnTo>
                <a:lnTo>
                  <a:pt x="7" y="1"/>
                </a:lnTo>
                <a:lnTo>
                  <a:pt x="13" y="0"/>
                </a:lnTo>
                <a:lnTo>
                  <a:pt x="19" y="0"/>
                </a:lnTo>
                <a:lnTo>
                  <a:pt x="26" y="3"/>
                </a:lnTo>
                <a:lnTo>
                  <a:pt x="35" y="6"/>
                </a:lnTo>
                <a:lnTo>
                  <a:pt x="52" y="15"/>
                </a:lnTo>
                <a:lnTo>
                  <a:pt x="70" y="27"/>
                </a:lnTo>
                <a:lnTo>
                  <a:pt x="89" y="40"/>
                </a:lnTo>
                <a:lnTo>
                  <a:pt x="96" y="44"/>
                </a:lnTo>
                <a:lnTo>
                  <a:pt x="105" y="50"/>
                </a:lnTo>
                <a:lnTo>
                  <a:pt x="112" y="55"/>
                </a:lnTo>
                <a:lnTo>
                  <a:pt x="118" y="57"/>
                </a:lnTo>
                <a:lnTo>
                  <a:pt x="138" y="70"/>
                </a:lnTo>
                <a:lnTo>
                  <a:pt x="147" y="75"/>
                </a:lnTo>
                <a:lnTo>
                  <a:pt x="155" y="82"/>
                </a:lnTo>
                <a:lnTo>
                  <a:pt x="160" y="88"/>
                </a:lnTo>
                <a:lnTo>
                  <a:pt x="162" y="92"/>
                </a:lnTo>
                <a:lnTo>
                  <a:pt x="159" y="95"/>
                </a:lnTo>
                <a:lnTo>
                  <a:pt x="155" y="96"/>
                </a:lnTo>
                <a:lnTo>
                  <a:pt x="150" y="96"/>
                </a:lnTo>
                <a:lnTo>
                  <a:pt x="136" y="95"/>
                </a:lnTo>
                <a:lnTo>
                  <a:pt x="119" y="93"/>
                </a:lnTo>
                <a:lnTo>
                  <a:pt x="99" y="88"/>
                </a:lnTo>
                <a:lnTo>
                  <a:pt x="77" y="82"/>
                </a:lnTo>
                <a:lnTo>
                  <a:pt x="59" y="72"/>
                </a:lnTo>
                <a:lnTo>
                  <a:pt x="42" y="60"/>
                </a:lnTo>
                <a:lnTo>
                  <a:pt x="28" y="51"/>
                </a:lnTo>
                <a:lnTo>
                  <a:pt x="18" y="42"/>
                </a:lnTo>
                <a:lnTo>
                  <a:pt x="10" y="34"/>
                </a:lnTo>
                <a:lnTo>
                  <a:pt x="5" y="26"/>
                </a:lnTo>
                <a:lnTo>
                  <a:pt x="2" y="19"/>
                </a:lnTo>
                <a:lnTo>
                  <a:pt x="2" y="11"/>
                </a:lnTo>
                <a:lnTo>
                  <a:pt x="0" y="11"/>
                </a:lnTo>
                <a:lnTo>
                  <a:pt x="2" y="11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21160" y="4505400"/>
            <a:ext cx="177840" cy="457200"/>
          </a:xfrm>
          <a:custGeom>
            <a:avLst/>
            <a:gdLst/>
            <a:ahLst/>
            <a:rect l="l" t="t" r="r" b="b"/>
            <a:pathLst>
              <a:path w="112" h="288">
                <a:moveTo>
                  <a:pt x="74" y="3"/>
                </a:moveTo>
                <a:lnTo>
                  <a:pt x="85" y="0"/>
                </a:lnTo>
                <a:lnTo>
                  <a:pt x="94" y="0"/>
                </a:lnTo>
                <a:lnTo>
                  <a:pt x="102" y="1"/>
                </a:lnTo>
                <a:lnTo>
                  <a:pt x="106" y="5"/>
                </a:lnTo>
                <a:lnTo>
                  <a:pt x="109" y="12"/>
                </a:lnTo>
                <a:lnTo>
                  <a:pt x="111" y="20"/>
                </a:lnTo>
                <a:lnTo>
                  <a:pt x="111" y="40"/>
                </a:lnTo>
                <a:lnTo>
                  <a:pt x="108" y="65"/>
                </a:lnTo>
                <a:lnTo>
                  <a:pt x="104" y="89"/>
                </a:lnTo>
                <a:lnTo>
                  <a:pt x="101" y="113"/>
                </a:lnTo>
                <a:lnTo>
                  <a:pt x="99" y="124"/>
                </a:lnTo>
                <a:lnTo>
                  <a:pt x="99" y="152"/>
                </a:lnTo>
                <a:lnTo>
                  <a:pt x="98" y="172"/>
                </a:lnTo>
                <a:lnTo>
                  <a:pt x="96" y="213"/>
                </a:lnTo>
                <a:lnTo>
                  <a:pt x="94" y="230"/>
                </a:lnTo>
                <a:lnTo>
                  <a:pt x="92" y="246"/>
                </a:lnTo>
                <a:lnTo>
                  <a:pt x="91" y="259"/>
                </a:lnTo>
                <a:lnTo>
                  <a:pt x="90" y="266"/>
                </a:lnTo>
                <a:lnTo>
                  <a:pt x="86" y="272"/>
                </a:lnTo>
                <a:lnTo>
                  <a:pt x="78" y="277"/>
                </a:lnTo>
                <a:lnTo>
                  <a:pt x="69" y="283"/>
                </a:lnTo>
                <a:lnTo>
                  <a:pt x="57" y="287"/>
                </a:lnTo>
                <a:lnTo>
                  <a:pt x="46" y="287"/>
                </a:lnTo>
                <a:lnTo>
                  <a:pt x="35" y="282"/>
                </a:lnTo>
                <a:lnTo>
                  <a:pt x="26" y="274"/>
                </a:lnTo>
                <a:lnTo>
                  <a:pt x="22" y="267"/>
                </a:lnTo>
                <a:lnTo>
                  <a:pt x="19" y="260"/>
                </a:lnTo>
                <a:lnTo>
                  <a:pt x="12" y="242"/>
                </a:lnTo>
                <a:lnTo>
                  <a:pt x="8" y="225"/>
                </a:lnTo>
                <a:lnTo>
                  <a:pt x="5" y="210"/>
                </a:lnTo>
                <a:lnTo>
                  <a:pt x="2" y="195"/>
                </a:lnTo>
                <a:lnTo>
                  <a:pt x="0" y="181"/>
                </a:lnTo>
                <a:lnTo>
                  <a:pt x="0" y="159"/>
                </a:lnTo>
                <a:lnTo>
                  <a:pt x="2" y="150"/>
                </a:lnTo>
                <a:lnTo>
                  <a:pt x="5" y="141"/>
                </a:lnTo>
                <a:lnTo>
                  <a:pt x="8" y="132"/>
                </a:lnTo>
                <a:lnTo>
                  <a:pt x="19" y="112"/>
                </a:lnTo>
                <a:lnTo>
                  <a:pt x="25" y="103"/>
                </a:lnTo>
                <a:lnTo>
                  <a:pt x="31" y="96"/>
                </a:lnTo>
                <a:lnTo>
                  <a:pt x="39" y="91"/>
                </a:lnTo>
                <a:lnTo>
                  <a:pt x="45" y="89"/>
                </a:lnTo>
                <a:lnTo>
                  <a:pt x="47" y="88"/>
                </a:lnTo>
                <a:lnTo>
                  <a:pt x="50" y="86"/>
                </a:lnTo>
                <a:lnTo>
                  <a:pt x="55" y="77"/>
                </a:lnTo>
                <a:lnTo>
                  <a:pt x="57" y="64"/>
                </a:lnTo>
                <a:lnTo>
                  <a:pt x="60" y="49"/>
                </a:lnTo>
                <a:lnTo>
                  <a:pt x="65" y="20"/>
                </a:lnTo>
                <a:lnTo>
                  <a:pt x="69" y="9"/>
                </a:lnTo>
                <a:lnTo>
                  <a:pt x="72" y="5"/>
                </a:lnTo>
                <a:lnTo>
                  <a:pt x="74" y="3"/>
                </a:lnTo>
              </a:path>
            </a:pathLst>
          </a:custGeom>
          <a:gradFill rotWithShape="0">
            <a:gsLst>
              <a:gs pos="0">
                <a:srgbClr val="114ffb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76320" y="2514240"/>
            <a:ext cx="8991360" cy="3886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Matura MT Script Capitals"/>
              </a:rPr>
              <a:t>BENCHMARK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Matura MT Script Capitals"/>
              </a:rPr>
              <a:t>Autorias de</a:t>
            </a:r>
            <a:r>
              <a:rPr b="1" i="1" lang="en-US" sz="3600" spc="-1" strike="noStrike">
                <a:solidFill>
                  <a:srgbClr val="000000"/>
                </a:solidFill>
                <a:latin typeface="Matura MT Script Capital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ng. A. CASTRO MARTÍN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colaboración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de Lic. Jaime G.Sanch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ebrero 2006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1440" y="-360"/>
            <a:ext cx="914256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s-MX" sz="5400" spc="-1" strike="noStrike">
                <a:solidFill>
                  <a:srgbClr val="000000"/>
                </a:solidFill>
                <a:latin typeface="Helvetica-Narrow"/>
              </a:rPr>
              <a:t>U.N.A.M.</a:t>
            </a:r>
            <a:br>
              <a:rPr sz="5400"/>
            </a:br>
            <a:r>
              <a:rPr b="1" i="1" lang="es-MX" sz="6000" spc="-1" strike="noStrike">
                <a:solidFill>
                  <a:srgbClr val="000000"/>
                </a:solidFill>
                <a:latin typeface="Helvetica-Narrow"/>
              </a:rPr>
              <a:t> </a:t>
            </a:r>
            <a:r>
              <a:rPr b="1" i="1" lang="es-MX" sz="4000" spc="-1" strike="noStrike">
                <a:solidFill>
                  <a:srgbClr val="000000"/>
                </a:solidFill>
                <a:latin typeface="Helvetica-Narrow"/>
              </a:rPr>
              <a:t>Facultad de contaduría y Administració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36" dur="2000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88920"/>
            <a:ext cx="9055080" cy="6769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922400" y="1943280"/>
          <a:ext cx="5291280" cy="2968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2400" y="1943280"/>
                    <a:ext cx="529128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1682640" y="920880"/>
            <a:ext cx="2959200" cy="265428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82640" y="3511440"/>
            <a:ext cx="2959200" cy="2578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54440" y="920880"/>
            <a:ext cx="2959200" cy="25779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54440" y="3511440"/>
            <a:ext cx="2959200" cy="257832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1c2a4b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922400" y="1943280"/>
          <a:ext cx="5291280" cy="296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2400" y="1943280"/>
                    <a:ext cx="5291280" cy="296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>
            <a:off x="108000" y="330120"/>
            <a:ext cx="8763120" cy="575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. ¿QUÉ TIPOS DE BENCHMARKING SE CONOCE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4.1 Interno: Empieza en casa encontrando los mejores procesos, funciones, Políticas y procedimient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4.2. Competitivo: competidores directos como I&amp;D.; Innovación; creadores de productos, bienes, servicios y proce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723924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114ffb"/>
                </a:solidFill>
                <a:latin typeface="Times New Roman"/>
              </a:rPr>
              <a:t>4.3.- Funcional o genérico </a:t>
            </a:r>
            <a:r>
              <a:rPr b="1" lang="es-MX" sz="2400" spc="-1" strike="noStrike">
                <a:solidFill>
                  <a:srgbClr val="114ffb"/>
                </a:solidFill>
                <a:latin typeface="Times New Roman"/>
              </a:rPr>
              <a:t>[externo]:</a:t>
            </a:r>
            <a:br>
              <a:rPr sz="2400"/>
            </a:br>
            <a:r>
              <a:rPr b="1" lang="es-MX" sz="4000" spc="-1" strike="noStrike">
                <a:solidFill>
                  <a:srgbClr val="114ffb"/>
                </a:solidFill>
                <a:latin typeface="Times New Roman"/>
              </a:rPr>
              <a:t>Identificar las mejores prácticas de cualquier organización en cualquier área funcional, descubriendo algo diferente para tu Empre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2903400" y="0"/>
            <a:ext cx="62406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b760f9"/>
              </a:gs>
              <a:gs pos="50000">
                <a:srgbClr val="d8acfa"/>
              </a:gs>
              <a:gs pos="100000">
                <a:srgbClr val="b760f9"/>
              </a:gs>
            </a:gsLst>
            <a:lin ang="8100000"/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39680" y="3846600"/>
          <a:ext cx="3352680" cy="28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680" y="3846600"/>
                    <a:ext cx="335268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3505320" y="2895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74880" y="447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9640" y="115920"/>
            <a:ext cx="78454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5. CLASIFICACIÓN DEL BENCHMAR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1273320"/>
            <a:ext cx="813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5.1.- Por su Desempeño.  Análisis documental (normas), (performance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5.2.- Por su  Estrategia.  Análisis de otros negocios diferentes al suy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3600" spc="-1" strike="noStrike">
                <a:solidFill>
                  <a:srgbClr val="000000"/>
                </a:solidFill>
                <a:latin typeface="Arial"/>
              </a:rPr>
              <a:t>5.3.- por su  Proceso, entrevistas y observaciones de métodos y procesos claves</a:t>
            </a:r>
            <a:r>
              <a:rPr b="1" i="1" lang="es-ES_tradnl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solidFill>
            <a:srgbClr val="3399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911240" y="1301760"/>
            <a:ext cx="5397480" cy="440676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003300"/>
              </a:gs>
              <a:gs pos="100000">
                <a:srgbClr val="00ae00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1676520" y="847800"/>
          <a:ext cx="5867280" cy="52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847800"/>
                    <a:ext cx="5867280" cy="5248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cf0e30"/>
                    </a:outerShdw>
                  </a:effectLst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187280" y="44280"/>
            <a:ext cx="601992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6. PROCESO DE BENCHMA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5280" y="2276640"/>
            <a:ext cx="737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XEROX         --  10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General Motors.- 8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LCWA        ----  6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ATYT            --   12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Bookshelf Symbol 5" charset="2"/>
              <a:buChar char="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Times New Roman"/>
              </a:rPr>
              <a:t>GENÉRICO  ----   4 </a:t>
            </a: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as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50960" y="1413000"/>
            <a:ext cx="33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Metodología:</a:t>
            </a:r>
            <a:r>
              <a:rPr b="0" lang="es-MX" sz="2400" spc="-1" strike="noStrike" u="sng">
                <a:solidFill>
                  <a:srgbClr val="60c9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772400" cy="63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114ffb"/>
                </a:solidFill>
                <a:latin typeface="Times New Roman"/>
              </a:rPr>
              <a:t>MÉTODO GENÉR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1197000"/>
            <a:ext cx="882000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1. Instrumentación del pl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2. Conducción del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3. Diagnóstico de la inform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4. Integración de los resultad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*  Hipótesis, Escenarios posibles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    </a:t>
            </a: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* “Toma de decision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5.- Acción” [aterrizar el proyect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cc0066"/>
                </a:solidFill>
                <a:latin typeface="Times New Roman"/>
              </a:rPr>
              <a:t>6.- Monitoreo evaluación de resultados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[Establecer Indicadores de medición BSC- no financieros]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6156360" y="1125360"/>
            <a:ext cx="2987640" cy="34182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869080" y="1484280"/>
            <a:ext cx="1655640" cy="10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4920" y="115920"/>
            <a:ext cx="9055080" cy="52578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60c900"/>
                </a:solidFill>
                <a:latin typeface="Times New Roman"/>
              </a:rPr>
              <a:t>7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6300720" y="1197000"/>
          <a:ext cx="2611440" cy="23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1197000"/>
                    <a:ext cx="2611440" cy="23702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cf0e30"/>
                    </a:outerShdw>
                  </a:effectLst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150840" y="692280"/>
            <a:ext cx="3844800" cy="3240000"/>
          </a:xfrm>
          <a:custGeom>
            <a:avLst/>
            <a:gdLst>
              <a:gd name="textAreaLeft" fmla="*/ 877680 w 3844800"/>
              <a:gd name="textAreaRight" fmla="*/ 2967120 w 3844800"/>
              <a:gd name="textAreaTop" fmla="*/ 739440 h 3240000"/>
              <a:gd name="textAreaBottom" fmla="*/ 2500560 h 32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e8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995400" y="1052640"/>
          <a:ext cx="3505320" cy="3395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5400" y="1052640"/>
                    <a:ext cx="3505320" cy="33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201600" y="189000"/>
            <a:ext cx="876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7. INSTRUMENTACIÓN DEL PL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41300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dbef49"/>
                </a:solidFill>
                <a:latin typeface="Times New Roman"/>
              </a:rPr>
              <a:t>7.1 ORGANIZAR  EL  PROGRAM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2579760"/>
            <a:ext cx="820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1.1 ¿Qué función?                                   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1.2 ¿Cuáles son las mejoras ?                  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1.3 Métodos de atención de información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00ae00"/>
              </a:gs>
              <a:gs pos="50000">
                <a:srgbClr val="007800"/>
              </a:gs>
              <a:gs pos="100000">
                <a:srgbClr val="00ae00"/>
              </a:gs>
            </a:gsLst>
            <a:lin ang="5400000"/>
          </a:gradFill>
          <a:ln w="12600">
            <a:solidFill>
              <a:srgbClr val="60c900"/>
            </a:solidFill>
            <a:miter/>
          </a:ln>
          <a:effectLst>
            <a:outerShdw dist="107932" dir="2700000" blurRad="0" rotWithShape="0">
              <a:srgbClr val="60c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143000" y="1219320"/>
          <a:ext cx="716292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19320"/>
                    <a:ext cx="71629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495680" y="182520"/>
          <a:ext cx="1670040" cy="118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182520"/>
                    <a:ext cx="167004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95280" y="633240"/>
            <a:ext cx="8321760" cy="52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7.2 FORMACIÓN de EQUIPOS de - TRABAJO, [ de 6 a 8] PERSONAS INCLUIDAS  C/U  de las  ÁRE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7.3 DEFINIR PROPÓSITO de MEJOR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7.4 MEDIDAS  de  REFERENCIA (Normas de referencia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f35b1b"/>
              </a:gs>
              <a:gs pos="50000">
                <a:srgbClr val="d95118"/>
              </a:gs>
              <a:gs pos="100000">
                <a:srgbClr val="f35b1b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011400" y="2427120"/>
          <a:ext cx="3265560" cy="34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1400" y="2427120"/>
                    <a:ext cx="326556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250920" y="1890720"/>
          <a:ext cx="152388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1890720"/>
                    <a:ext cx="152388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7020000" y="1557360"/>
          <a:ext cx="1751040" cy="1066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20000" y="1557360"/>
                    <a:ext cx="17510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4344840" y="1144440"/>
            <a:ext cx="682920" cy="10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230040"/>
            <a:ext cx="8533080" cy="60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7.5.- ALCANCE y METODOLOG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[FOD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agramas de flujo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aíz-Causa efect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6 Aplicar los RECURSOS NECESAR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7 SELECCIÓN DE SOCIOS ASOCIAD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7.8 ENTREVISTAS Y ANÁLI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0"/>
            <a:ext cx="9055080" cy="6769080"/>
          </a:xfrm>
          <a:prstGeom prst="rect">
            <a:avLst/>
          </a:prstGeom>
          <a:gradFill rotWithShape="0">
            <a:gsLst>
              <a:gs pos="0">
                <a:srgbClr val="de50a3"/>
              </a:gs>
              <a:gs pos="50000">
                <a:srgbClr val="f95ab7"/>
              </a:gs>
              <a:gs pos="100000">
                <a:srgbClr val="de50a3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5943600" y="1981080"/>
          <a:ext cx="28162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3600" y="1981080"/>
                    <a:ext cx="28162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3636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60c900"/>
                </a:solidFill>
                <a:latin typeface="Times New Roman"/>
              </a:rPr>
              <a:t>8. CONDUCCIÓN DEL ESTUD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60c900"/>
                </a:solidFill>
                <a:latin typeface="Times New Roman"/>
              </a:rPr>
              <a:t>[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mpowerment.- facultar- Empoderar co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quipos de trabaj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50560" y="1700280"/>
            <a:ext cx="663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8.1 ¿Quién conducirá el estud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2631960"/>
            <a:ext cx="78055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8.2 ¿Cómo conducir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      </a:t>
            </a: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visita a la Empresa y/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      </a:t>
            </a:r>
            <a:r>
              <a:rPr b="0" lang="es-ES_tradnl" sz="4000" spc="-1" strike="noStrike">
                <a:solidFill>
                  <a:srgbClr val="0341dd"/>
                </a:solidFill>
                <a:latin typeface="Times New Roman"/>
              </a:rPr>
              <a:t>a la plant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Visita en grupo [equipo]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Realizar contactos del mism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ive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669960" y="-27000"/>
            <a:ext cx="74311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Metodología del </a:t>
            </a:r>
            <a:r>
              <a:rPr b="1" lang="es-MX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nch mark: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Defin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a) Objetiv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b) Alcanc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c) Inteligencia Corporativ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) Usua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) Cliente. [Que percibe ;Que necesita   y  que  (+)  Quiere.]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144960" y="3537000"/>
            <a:ext cx="373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BENCHMARK DE CLIENTES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63760" y="3789360"/>
            <a:ext cx="3252960" cy="30481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oduct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-Servicio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-Proce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- Calida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s.   COMPETI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927080" y="49449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003400" y="479268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21360" y="4076640"/>
            <a:ext cx="1211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ercad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501336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708360" y="60958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2720" y="4502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o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43000" y="5295960"/>
            <a:ext cx="2135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osició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ventajos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y/o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Competitiva con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6080" y="623736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U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00000" y="2241720"/>
            <a:ext cx="6691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5   Posibles elementos  A MEDI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PRODUCCION /  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SERVICIO  / C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VENTAJAS COMPETITIVAS / diferenciación /Personaliz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* RECURSOS HUMANOS Y 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995640" y="6093000"/>
            <a:ext cx="0" cy="69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590920" y="6186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348000" y="6230880"/>
            <a:ext cx="75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Y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00720" y="6308640"/>
            <a:ext cx="100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“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441680"/>
            <a:ext cx="304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28800" y="5410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6095880"/>
            <a:ext cx="18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6880" y="4800600"/>
            <a:ext cx="220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MPETENCIA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BI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8290080" y="366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06768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22400" y="4292640"/>
          <a:ext cx="2433600" cy="24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4292640"/>
                    <a:ext cx="2433600" cy="24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5970600" y="4437000"/>
          <a:ext cx="2922480" cy="2305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70600" y="4437000"/>
                    <a:ext cx="29224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380880" y="206280"/>
            <a:ext cx="830592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BENCHMARKING EN EL DESARROLLO DE NUEVOS PRODUCTOS, BIENES Y SERVICIO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* Modelo para EMPRESAS de Clase Mundial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17680" y="166680"/>
            <a:ext cx="664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BENCHMARK.- comparativo de competitiv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0560" y="692280"/>
            <a:ext cx="55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DICADOR / NORMA ESTÁNDAR O INTERNACION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6880" y="153504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 ACUER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48640" y="1484280"/>
            <a:ext cx="10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 E D I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123800" y="148428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ACUER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31800" y="2354400"/>
            <a:ext cx="18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3800" y="1981080"/>
            <a:ext cx="1038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_      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        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24600" y="1967040"/>
            <a:ext cx="1195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_    __    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       4  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89400" y="220176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177080" y="1967040"/>
            <a:ext cx="1145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___       __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             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7200" y="1371600"/>
            <a:ext cx="5486400" cy="1447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98108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13372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86200" y="13716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72200" y="2666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369120" y="1981080"/>
            <a:ext cx="2306520" cy="584280"/>
          </a:xfrm>
          <a:custGeom>
            <a:avLst/>
            <a:gdLst>
              <a:gd name="textAreaLeft" fmla="*/ 403560 w 2306520"/>
              <a:gd name="textAreaRight" fmla="*/ 1672200 w 2306520"/>
              <a:gd name="textAreaTop" fmla="*/ 78120 h 584280"/>
              <a:gd name="textAreaBottom" fmla="*/ 506160 h 584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4331189"/>
                <a:lnTo>
                  <a:pt x="21553" y="19186"/>
                </a:lnTo>
                <a:lnTo>
                  <a:pt x="17280" y="21600"/>
                </a:lnTo>
                <a:lnTo>
                  <a:pt x="12913" y="19186"/>
                </a:lnTo>
                <a:lnTo>
                  <a:pt x="15073" y="19186"/>
                </a:lnTo>
                <a:arcTo wR="7560" hR="21600" stAng="-1068811" swAng="-3973754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10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46440" y="907920"/>
            <a:ext cx="218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CAMPANA DE GA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391520" y="17524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780240" y="1235160"/>
            <a:ext cx="1209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Media  O-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Promedi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78920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989840" y="1828800"/>
            <a:ext cx="115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0000" y="2565360"/>
            <a:ext cx="138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 (+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11640" y="2577960"/>
            <a:ext cx="15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SVIACION 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39720" y="24922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442360" y="214200"/>
            <a:ext cx="183960" cy="336600"/>
          </a:xfrm>
          <a:prstGeom prst="rect">
            <a:avLst/>
          </a:prstGeom>
          <a:noFill/>
          <a:ln w="0">
            <a:noFill/>
          </a:ln>
          <a:effectLst>
            <a:outerShdw dist="40186" dir="43036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3429000"/>
            <a:ext cx="9144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90520" y="346536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320" y="3505320"/>
            <a:ext cx="6080040" cy="195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)  CUESTIONARIO  MI, COMPAÑÍ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)  ESTUDIO DE VENTAJAS COMPETITIVAS VS. MI COMPETENC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)  LA PLANEACION ESTRATEGICA UTILIZA COMO-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HERRAMIENTA el  BENCHMARK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)  PARA GRAFICAR 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las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NORMAS  de  ALTO  DESEMPEÑ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S IDEAL un CALCULO de  %   de  DIFERENCIAC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JEMPLO;    NORMA O STANDAR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TICIPANTES =                                           70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sos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5486400"/>
            <a:ext cx="2476440" cy="302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5734080"/>
            <a:ext cx="19000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447920" y="5950080"/>
            <a:ext cx="110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76360" y="6165720"/>
            <a:ext cx="14684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76360" y="6381720"/>
            <a:ext cx="93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1080" y="551340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384280" y="5715000"/>
            <a:ext cx="18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97840" y="57880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47640" y="5589720"/>
            <a:ext cx="4069800" cy="94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72   ]   ESTA SI TIENE UNA DIFERENCIAC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UPERIOR  AL   12 %. = 50 - 70 = 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FERENCIA  = 1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ETO  MINIMO 8 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32720" y="602136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282360" y="3933720"/>
            <a:ext cx="2462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SVIACION =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%  DE  DIFERENCIAC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JEMPLO +/- 12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49880" y="3809880"/>
            <a:ext cx="2743200" cy="1143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66680" y="5486400"/>
            <a:ext cx="1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74880" y="5365800"/>
            <a:ext cx="3855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b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300720" y="2708280"/>
            <a:ext cx="4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(+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173080" y="27082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(-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340360" y="621972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055080" cy="6769080"/>
          </a:xfrm>
          <a:prstGeom prst="rect">
            <a:avLst/>
          </a:prstGeom>
          <a:gradFill rotWithShape="0">
            <a:gsLst>
              <a:gs pos="0">
                <a:srgbClr val="f95ab7"/>
              </a:gs>
              <a:gs pos="50000">
                <a:srgbClr val="f86abd"/>
              </a:gs>
              <a:gs pos="100000">
                <a:srgbClr val="f95ab7"/>
              </a:gs>
            </a:gsLst>
            <a:lin ang="108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739152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5927760" y="12096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1195000">
            <a:off x="1382400" y="990360"/>
            <a:ext cx="5986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Use el lenguaje de la industria visitad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ticipe en Sesiones de segui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rot="21165600">
            <a:off x="1461600" y="3297240"/>
            <a:ext cx="642168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esente Carta de agradecimient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Bookshelf Symbol 5" charset="2"/>
              <a:buChar char="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8.3 Actué con Ética en e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“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Benchmarking “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65760" y="149400"/>
            <a:ext cx="790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MX" sz="3000" spc="-1" strike="noStrike">
                <a:solidFill>
                  <a:srgbClr val="000000"/>
                </a:solidFill>
                <a:latin typeface="Times New Roman"/>
              </a:rPr>
              <a:t>RECOMENDACIONES IMPORTANTE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14400" y="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177840" y="2997360"/>
          <a:ext cx="2881440" cy="37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840" y="2997360"/>
                    <a:ext cx="2881440" cy="37447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0" y="1159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9. DIAGNÓSTICO DE 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INFORMA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5688000" y="3716280"/>
          <a:ext cx="3276720" cy="2376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88000" y="3716280"/>
                    <a:ext cx="3276720" cy="23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"/>
          <p:cNvSpPr/>
          <p:nvPr/>
        </p:nvSpPr>
        <p:spPr>
          <a:xfrm>
            <a:off x="6232680" y="5248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882720" y="1405080"/>
            <a:ext cx="81532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9.1 ¿Qué le dice la información obteni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9.2 ¿Qué tanto es mejor que ust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3333cc"/>
                </a:solidFill>
                <a:latin typeface="Times New Roman"/>
              </a:rPr>
              <a:t>9.3 ¿Por qué son ellos mejor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24000" y="189000"/>
            <a:ext cx="8569080" cy="6192720"/>
          </a:xfrm>
          <a:prstGeom prst="rect">
            <a:avLst/>
          </a:prstGeom>
          <a:solidFill>
            <a:srgbClr val="bf8dc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9. DIAGNÓSTICO DE 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INFORMACIÓN.(continu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9.4 ¿Qué puedo aprender de ellos pa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mejorar  mi operaci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9.5 Brechas entre los parámetro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Comparación.-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0" lang="es-ES_tradnl" sz="4000" spc="-1" strike="noStrike">
                <a:solidFill>
                  <a:srgbClr val="3333cc"/>
                </a:solidFill>
                <a:latin typeface="Times New Roman"/>
              </a:rPr>
              <a:t>parálisis de información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5410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94040" y="22766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659640" y="4797360"/>
          <a:ext cx="1987560" cy="1440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9640" y="4797360"/>
                    <a:ext cx="1987560" cy="14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5435640" y="5013360"/>
            <a:ext cx="3384360" cy="18003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/>
          <p:nvPr/>
        </p:nvSpPr>
        <p:spPr>
          <a:xfrm>
            <a:off x="6080040" y="50958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44280"/>
            <a:ext cx="9144000" cy="5823720"/>
          </a:xfrm>
          <a:prstGeom prst="rect">
            <a:avLst/>
          </a:prstGeom>
          <a:solidFill>
            <a:srgbClr val="ffadb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9.6.- Factores a comparar :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            -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1.- Estilo  o tipo de negoc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2.- Procesos de trabajo.[Funcione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3.- Estándare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cesos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roducción,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Calidad; Control 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e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Inventari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4.- Mercado, producto, servicio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5.- Ámbito de relaciones Human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6.- Cultura Empresari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9.6.7.- Economía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[precio: costos; gastos, etc.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6186600"/>
            <a:ext cx="7564320" cy="558720"/>
          </a:xfrm>
          <a:prstGeom prst="rect">
            <a:avLst/>
          </a:prstGeom>
          <a:solidFill>
            <a:srgbClr val="84f4c7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9280" y="44280"/>
            <a:ext cx="864252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9900"/>
                </a:solidFill>
                <a:latin typeface="Arial"/>
              </a:rPr>
              <a:t>DEFINICIÓN ESTADÍSTICA de  Sixs  Sig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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110280"/>
            <a:ext cx="763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is Sigma =  3,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fectos por Millón de Oportun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895320" y="1095480"/>
            <a:ext cx="8292960" cy="5076720"/>
            <a:chOff x="895320" y="1095480"/>
            <a:chExt cx="8292960" cy="5076720"/>
          </a:xfrm>
        </p:grpSpPr>
        <p:sp>
          <p:nvSpPr>
            <p:cNvPr id="293" name=""/>
            <p:cNvSpPr/>
            <p:nvPr/>
          </p:nvSpPr>
          <p:spPr>
            <a:xfrm>
              <a:off x="7175520" y="5570640"/>
              <a:ext cx="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755800" y="5533920"/>
              <a:ext cx="30319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ff"/>
                  </a:solidFill>
                  <a:latin typeface="Arial Narrow"/>
                </a:rPr>
                <a:t>99,99966% Probabilida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200480" y="1351080"/>
              <a:ext cx="119160" cy="37940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067280" y="1469880"/>
              <a:ext cx="123840" cy="36752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46680" y="2031840"/>
              <a:ext cx="122040" cy="3113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795840" y="2611440"/>
              <a:ext cx="125280" cy="25336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662280" y="3095640"/>
              <a:ext cx="122400" cy="2049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525840" y="3776760"/>
              <a:ext cx="125280" cy="1368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92640" y="4264200"/>
              <a:ext cx="123840" cy="880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60880" y="4538520"/>
              <a:ext cx="118800" cy="606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124080" y="4811760"/>
              <a:ext cx="125640" cy="3333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90880" y="4951440"/>
              <a:ext cx="123840" cy="1936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330800" y="1469880"/>
              <a:ext cx="122040" cy="367524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65800" y="2031840"/>
              <a:ext cx="123840" cy="31132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602240" y="2611440"/>
              <a:ext cx="125280" cy="2533680"/>
            </a:xfrm>
            <a:prstGeom prst="rect">
              <a:avLst/>
            </a:prstGeom>
            <a:solidFill>
              <a:srgbClr val="c8fec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32200" y="3095640"/>
              <a:ext cx="128880" cy="20494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875120" y="3776760"/>
              <a:ext cx="119160" cy="136836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005440" y="4264200"/>
              <a:ext cx="122040" cy="88092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140440" y="4538520"/>
              <a:ext cx="122040" cy="60660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70400" y="4811760"/>
              <a:ext cx="122400" cy="3333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407200" y="4951440"/>
              <a:ext cx="122040" cy="1936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41840" y="5018040"/>
              <a:ext cx="123840" cy="1270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855880" y="5018040"/>
              <a:ext cx="122400" cy="12708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606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9974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324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595680" y="50673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6560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8020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94172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53240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403880" y="50673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70600" y="5070600"/>
              <a:ext cx="0" cy="18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05604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19248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32568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1636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793960" y="5070600"/>
              <a:ext cx="0" cy="188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57440" y="507204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46876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59908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3876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329080" y="5097600"/>
              <a:ext cx="0" cy="179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197320" y="5079960"/>
              <a:ext cx="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89280" y="5140440"/>
              <a:ext cx="4602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200240" y="5146560"/>
              <a:ext cx="15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262400" y="1266840"/>
              <a:ext cx="0" cy="406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38752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52252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65896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247840" y="5076720"/>
              <a:ext cx="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120760" y="50673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7644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71288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852560" y="507672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984320" y="507204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67548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81192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94836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539040" y="5092560"/>
              <a:ext cx="0" cy="18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413400" y="507996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70520" y="5097600"/>
              <a:ext cx="0" cy="18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006960" y="5097600"/>
              <a:ext cx="0" cy="18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73720" y="50832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7" name=""/>
            <p:cNvGrpSpPr/>
            <p:nvPr/>
          </p:nvGrpSpPr>
          <p:grpSpPr>
            <a:xfrm>
              <a:off x="895320" y="2054160"/>
              <a:ext cx="2343960" cy="1007280"/>
              <a:chOff x="895320" y="2054160"/>
              <a:chExt cx="2343960" cy="1007280"/>
            </a:xfrm>
          </p:grpSpPr>
          <p:sp>
            <p:nvSpPr>
              <p:cNvPr id="358" name=""/>
              <p:cNvSpPr/>
              <p:nvPr/>
            </p:nvSpPr>
            <p:spPr>
              <a:xfrm>
                <a:off x="932760" y="2054160"/>
                <a:ext cx="23065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Lími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inferior 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de espec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936000" y="2366640"/>
                <a:ext cx="18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895320" y="2685240"/>
                <a:ext cx="18576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"/>
            <p:cNvGrpSpPr/>
            <p:nvPr/>
          </p:nvGrpSpPr>
          <p:grpSpPr>
            <a:xfrm>
              <a:off x="6707160" y="2033640"/>
              <a:ext cx="1946880" cy="1007280"/>
              <a:chOff x="6707160" y="2033640"/>
              <a:chExt cx="1946880" cy="1007280"/>
            </a:xfrm>
          </p:grpSpPr>
          <p:sp>
            <p:nvSpPr>
              <p:cNvPr id="362" name=""/>
              <p:cNvSpPr/>
              <p:nvPr/>
            </p:nvSpPr>
            <p:spPr>
              <a:xfrm>
                <a:off x="6714720" y="2033640"/>
                <a:ext cx="1939320" cy="100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Límit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superior d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especificació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718320" y="2346120"/>
                <a:ext cx="183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07160" y="2664720"/>
                <a:ext cx="182520" cy="24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5" name=""/>
            <p:cNvSpPr/>
            <p:nvPr/>
          </p:nvSpPr>
          <p:spPr>
            <a:xfrm>
              <a:off x="2728800" y="5045040"/>
              <a:ext cx="112680" cy="795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78640" y="5045040"/>
              <a:ext cx="122040" cy="79560"/>
            </a:xfrm>
            <a:prstGeom prst="rect">
              <a:avLst/>
            </a:prstGeom>
            <a:solidFill>
              <a:srgbClr val="fda4b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983880" y="5210280"/>
              <a:ext cx="6429600" cy="505440"/>
              <a:chOff x="983880" y="5210280"/>
              <a:chExt cx="6429600" cy="505440"/>
            </a:xfrm>
          </p:grpSpPr>
          <p:grpSp>
            <p:nvGrpSpPr>
              <p:cNvPr id="368" name=""/>
              <p:cNvGrpSpPr/>
              <p:nvPr/>
            </p:nvGrpSpPr>
            <p:grpSpPr>
              <a:xfrm>
                <a:off x="3497760" y="5218200"/>
                <a:ext cx="478080" cy="397440"/>
                <a:chOff x="3497760" y="5218200"/>
                <a:chExt cx="478080" cy="397440"/>
              </a:xfrm>
            </p:grpSpPr>
            <p:sp>
              <p:nvSpPr>
                <p:cNvPr id="369" name=""/>
                <p:cNvSpPr/>
                <p:nvPr/>
              </p:nvSpPr>
              <p:spPr>
                <a:xfrm>
                  <a:off x="349776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363672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3013560" y="5218200"/>
                <a:ext cx="478080" cy="397440"/>
                <a:chOff x="3013560" y="5218200"/>
                <a:chExt cx="478080" cy="39744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301356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315252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4" name=""/>
              <p:cNvGrpSpPr/>
              <p:nvPr/>
            </p:nvGrpSpPr>
            <p:grpSpPr>
              <a:xfrm>
                <a:off x="2456640" y="5218200"/>
                <a:ext cx="488880" cy="397440"/>
                <a:chOff x="2456640" y="5218200"/>
                <a:chExt cx="488880" cy="397440"/>
              </a:xfrm>
            </p:grpSpPr>
            <p:sp>
              <p:nvSpPr>
                <p:cNvPr id="375" name=""/>
                <p:cNvSpPr/>
                <p:nvPr/>
              </p:nvSpPr>
              <p:spPr>
                <a:xfrm>
                  <a:off x="245664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260640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4979520" y="5218200"/>
                <a:ext cx="518760" cy="397440"/>
                <a:chOff x="4979520" y="5218200"/>
                <a:chExt cx="518760" cy="39744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4979520" y="5218200"/>
                  <a:ext cx="422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515916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5453640" y="5218200"/>
                <a:ext cx="545760" cy="397440"/>
                <a:chOff x="5453640" y="5218200"/>
                <a:chExt cx="545760" cy="397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5453640" y="5218200"/>
                  <a:ext cx="4352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566028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3" name=""/>
              <p:cNvSpPr/>
              <p:nvPr/>
            </p:nvSpPr>
            <p:spPr>
              <a:xfrm>
                <a:off x="4084560" y="5318280"/>
                <a:ext cx="32364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 Narrow"/>
                  </a:rPr>
                  <a:t>X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214880" y="5370480"/>
                <a:ext cx="11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85" name=""/>
              <p:cNvGrpSpPr/>
              <p:nvPr/>
            </p:nvGrpSpPr>
            <p:grpSpPr>
              <a:xfrm>
                <a:off x="4478760" y="5210280"/>
                <a:ext cx="516240" cy="397440"/>
                <a:chOff x="4478760" y="5210280"/>
                <a:chExt cx="516240" cy="39744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4478760" y="5210280"/>
                  <a:ext cx="307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4574880" y="5210280"/>
                  <a:ext cx="300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4655880" y="521028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9" name=""/>
              <p:cNvGrpSpPr/>
              <p:nvPr/>
            </p:nvGrpSpPr>
            <p:grpSpPr>
              <a:xfrm>
                <a:off x="1914480" y="5218200"/>
                <a:ext cx="492840" cy="397440"/>
                <a:chOff x="1914480" y="5218200"/>
                <a:chExt cx="492840" cy="397440"/>
              </a:xfrm>
            </p:grpSpPr>
            <p:sp>
              <p:nvSpPr>
                <p:cNvPr id="390" name=""/>
                <p:cNvSpPr/>
                <p:nvPr/>
              </p:nvSpPr>
              <p:spPr>
                <a:xfrm>
                  <a:off x="191448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206820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1500840" y="5218200"/>
                <a:ext cx="480960" cy="397440"/>
                <a:chOff x="1500840" y="5218200"/>
                <a:chExt cx="480960" cy="39744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1500840" y="5218200"/>
                  <a:ext cx="37080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-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164268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5" name=""/>
              <p:cNvGrpSpPr/>
              <p:nvPr/>
            </p:nvGrpSpPr>
            <p:grpSpPr>
              <a:xfrm>
                <a:off x="983880" y="5218200"/>
                <a:ext cx="523440" cy="397440"/>
                <a:chOff x="983880" y="5218200"/>
                <a:chExt cx="523440" cy="397440"/>
              </a:xfrm>
            </p:grpSpPr>
            <p:sp>
              <p:nvSpPr>
                <p:cNvPr id="396" name=""/>
                <p:cNvSpPr/>
                <p:nvPr/>
              </p:nvSpPr>
              <p:spPr>
                <a:xfrm>
                  <a:off x="983880" y="5218200"/>
                  <a:ext cx="3862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7" name=""/>
                <p:cNvSpPr/>
                <p:nvPr/>
              </p:nvSpPr>
              <p:spPr>
                <a:xfrm>
                  <a:off x="116820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8" name=""/>
              <p:cNvGrpSpPr/>
              <p:nvPr/>
            </p:nvGrpSpPr>
            <p:grpSpPr>
              <a:xfrm>
                <a:off x="6419160" y="5218200"/>
                <a:ext cx="520200" cy="397440"/>
                <a:chOff x="6419160" y="5218200"/>
                <a:chExt cx="520200" cy="397440"/>
              </a:xfrm>
            </p:grpSpPr>
            <p:sp>
              <p:nvSpPr>
                <p:cNvPr id="399" name=""/>
                <p:cNvSpPr/>
                <p:nvPr/>
              </p:nvSpPr>
              <p:spPr>
                <a:xfrm>
                  <a:off x="6419160" y="5218200"/>
                  <a:ext cx="422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0" name=""/>
                <p:cNvSpPr/>
                <p:nvPr/>
              </p:nvSpPr>
              <p:spPr>
                <a:xfrm>
                  <a:off x="660024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1" name=""/>
              <p:cNvGrpSpPr/>
              <p:nvPr/>
            </p:nvGrpSpPr>
            <p:grpSpPr>
              <a:xfrm>
                <a:off x="6873480" y="5218200"/>
                <a:ext cx="540000" cy="397440"/>
                <a:chOff x="6873480" y="5218200"/>
                <a:chExt cx="540000" cy="397440"/>
              </a:xfrm>
            </p:grpSpPr>
            <p:sp>
              <p:nvSpPr>
                <p:cNvPr id="402" name=""/>
                <p:cNvSpPr/>
                <p:nvPr/>
              </p:nvSpPr>
              <p:spPr>
                <a:xfrm>
                  <a:off x="6873480" y="5218200"/>
                  <a:ext cx="42264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3" name=""/>
                <p:cNvSpPr/>
                <p:nvPr/>
              </p:nvSpPr>
              <p:spPr>
                <a:xfrm>
                  <a:off x="7074360" y="521820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4" name=""/>
              <p:cNvGrpSpPr/>
              <p:nvPr/>
            </p:nvGrpSpPr>
            <p:grpSpPr>
              <a:xfrm>
                <a:off x="5982480" y="5210280"/>
                <a:ext cx="511920" cy="397440"/>
                <a:chOff x="5982480" y="5210280"/>
                <a:chExt cx="511920" cy="397440"/>
              </a:xfrm>
            </p:grpSpPr>
            <p:sp>
              <p:nvSpPr>
                <p:cNvPr id="405" name=""/>
                <p:cNvSpPr/>
                <p:nvPr/>
              </p:nvSpPr>
              <p:spPr>
                <a:xfrm>
                  <a:off x="5982480" y="5210280"/>
                  <a:ext cx="307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6075720" y="5210280"/>
                  <a:ext cx="30096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000" spc="-1" strike="noStrike">
                      <a:solidFill>
                        <a:srgbClr val="000000"/>
                      </a:solidFill>
                      <a:latin typeface="Arial Narrow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6155280" y="5210280"/>
                  <a:ext cx="33912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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8" name=""/>
            <p:cNvSpPr/>
            <p:nvPr/>
          </p:nvSpPr>
          <p:spPr>
            <a:xfrm>
              <a:off x="1341360" y="3103560"/>
              <a:ext cx="0" cy="2200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167600" y="3108240"/>
              <a:ext cx="0" cy="219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366920" y="5796000"/>
              <a:ext cx="5772960" cy="218520"/>
              <a:chOff x="1366920" y="5796000"/>
              <a:chExt cx="5772960" cy="218520"/>
            </a:xfrm>
          </p:grpSpPr>
          <p:sp>
            <p:nvSpPr>
              <p:cNvPr id="411" name=""/>
              <p:cNvSpPr/>
              <p:nvPr/>
            </p:nvSpPr>
            <p:spPr>
              <a:xfrm>
                <a:off x="1497960" y="5915160"/>
                <a:ext cx="5522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01200" y="5796000"/>
                <a:ext cx="238680" cy="21852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81" y="44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81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1366920" y="5796000"/>
                <a:ext cx="238680" cy="218520"/>
              </a:xfrm>
              <a:custGeom>
                <a:avLst/>
                <a:gdLst/>
                <a:ahLst/>
                <a:rect l="l" t="t" r="r" b="b"/>
                <a:pathLst>
                  <a:path w="82" h="88">
                    <a:moveTo>
                      <a:pt x="0" y="44"/>
                    </a:moveTo>
                    <a:lnTo>
                      <a:pt x="81" y="87"/>
                    </a:lnTo>
                    <a:lnTo>
                      <a:pt x="81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3931200" y="2611440"/>
              <a:ext cx="694080" cy="475560"/>
              <a:chOff x="3931200" y="2611440"/>
              <a:chExt cx="694080" cy="475560"/>
            </a:xfrm>
          </p:grpSpPr>
          <p:sp>
            <p:nvSpPr>
              <p:cNvPr id="415" name=""/>
              <p:cNvSpPr/>
              <p:nvPr/>
            </p:nvSpPr>
            <p:spPr>
              <a:xfrm>
                <a:off x="3996000" y="2700000"/>
                <a:ext cx="514440" cy="387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3931200" y="261144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68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3826800" y="3316320"/>
              <a:ext cx="905760" cy="499680"/>
              <a:chOff x="3826800" y="3316320"/>
              <a:chExt cx="905760" cy="499680"/>
            </a:xfrm>
          </p:grpSpPr>
          <p:sp>
            <p:nvSpPr>
              <p:cNvPr id="418" name=""/>
              <p:cNvSpPr/>
              <p:nvPr/>
            </p:nvSpPr>
            <p:spPr>
              <a:xfrm>
                <a:off x="3913920" y="3405960"/>
                <a:ext cx="706680" cy="4100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3826800" y="331632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95,4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3795840" y="4272120"/>
              <a:ext cx="905760" cy="504000"/>
              <a:chOff x="3795840" y="4272120"/>
              <a:chExt cx="905760" cy="504000"/>
            </a:xfrm>
          </p:grpSpPr>
          <p:sp>
            <p:nvSpPr>
              <p:cNvPr id="421" name=""/>
              <p:cNvSpPr/>
              <p:nvPr/>
            </p:nvSpPr>
            <p:spPr>
              <a:xfrm>
                <a:off x="3888000" y="4361400"/>
                <a:ext cx="736920" cy="414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95840" y="427212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0000"/>
                    </a:solidFill>
                    <a:latin typeface="Arial"/>
                  </a:rPr>
                  <a:t>99,7%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270240" y="3505320"/>
              <a:ext cx="671040" cy="218520"/>
              <a:chOff x="3270240" y="3505320"/>
              <a:chExt cx="671040" cy="218520"/>
            </a:xfrm>
          </p:grpSpPr>
          <p:sp>
            <p:nvSpPr>
              <p:cNvPr id="424" name=""/>
              <p:cNvSpPr/>
              <p:nvPr/>
            </p:nvSpPr>
            <p:spPr>
              <a:xfrm>
                <a:off x="3401280" y="3624480"/>
                <a:ext cx="540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270240" y="3505320"/>
                <a:ext cx="250200" cy="21852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0" y="44"/>
                    </a:moveTo>
                    <a:lnTo>
                      <a:pt x="85" y="87"/>
                    </a:lnTo>
                    <a:lnTo>
                      <a:pt x="85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4589640" y="3505320"/>
              <a:ext cx="686520" cy="218520"/>
              <a:chOff x="4589640" y="3505320"/>
              <a:chExt cx="686520" cy="218520"/>
            </a:xfrm>
          </p:grpSpPr>
          <p:sp>
            <p:nvSpPr>
              <p:cNvPr id="427" name=""/>
              <p:cNvSpPr/>
              <p:nvPr/>
            </p:nvSpPr>
            <p:spPr>
              <a:xfrm>
                <a:off x="4589640" y="3624480"/>
                <a:ext cx="567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023080" y="3505320"/>
                <a:ext cx="253080" cy="218520"/>
              </a:xfrm>
              <a:custGeom>
                <a:avLst/>
                <a:gdLst/>
                <a:ahLst/>
                <a:rect l="l" t="t" r="r" b="b"/>
                <a:pathLst>
                  <a:path w="87" h="88">
                    <a:moveTo>
                      <a:pt x="86" y="44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86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9" name=""/>
            <p:cNvSpPr/>
            <p:nvPr/>
          </p:nvSpPr>
          <p:spPr>
            <a:xfrm flipV="1">
              <a:off x="5259240" y="3476520"/>
              <a:ext cx="0" cy="1633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2716200" y="4003200"/>
              <a:ext cx="0" cy="1141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5805360" y="3978360"/>
              <a:ext cx="0" cy="114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2708280" y="4468680"/>
              <a:ext cx="1226520" cy="212400"/>
              <a:chOff x="2708280" y="4468680"/>
              <a:chExt cx="1226520" cy="212400"/>
            </a:xfrm>
          </p:grpSpPr>
          <p:sp>
            <p:nvSpPr>
              <p:cNvPr id="433" name=""/>
              <p:cNvSpPr/>
              <p:nvPr/>
            </p:nvSpPr>
            <p:spPr>
              <a:xfrm>
                <a:off x="2836080" y="4582440"/>
                <a:ext cx="10987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2708280" y="4468680"/>
                <a:ext cx="246960" cy="212400"/>
              </a:xfrm>
              <a:custGeom>
                <a:avLst/>
                <a:gdLst/>
                <a:ahLst/>
                <a:rect l="l" t="t" r="r" b="b"/>
                <a:pathLst>
                  <a:path w="85" h="86">
                    <a:moveTo>
                      <a:pt x="0" y="42"/>
                    </a:moveTo>
                    <a:lnTo>
                      <a:pt x="84" y="85"/>
                    </a:lnTo>
                    <a:lnTo>
                      <a:pt x="84" y="0"/>
                    </a:lnTo>
                    <a:lnTo>
                      <a:pt x="0" y="4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"/>
            <p:cNvGrpSpPr/>
            <p:nvPr/>
          </p:nvGrpSpPr>
          <p:grpSpPr>
            <a:xfrm>
              <a:off x="4589640" y="4443480"/>
              <a:ext cx="1194480" cy="215640"/>
              <a:chOff x="4589640" y="4443480"/>
              <a:chExt cx="1194480" cy="215640"/>
            </a:xfrm>
          </p:grpSpPr>
          <p:sp>
            <p:nvSpPr>
              <p:cNvPr id="436" name=""/>
              <p:cNvSpPr/>
              <p:nvPr/>
            </p:nvSpPr>
            <p:spPr>
              <a:xfrm>
                <a:off x="4589640" y="4559760"/>
                <a:ext cx="1075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534640" y="4443480"/>
                <a:ext cx="249480" cy="215640"/>
              </a:xfrm>
              <a:custGeom>
                <a:avLst/>
                <a:gdLst/>
                <a:ahLst/>
                <a:rect l="l" t="t" r="r" b="b"/>
                <a:pathLst>
                  <a:path w="86" h="87">
                    <a:moveTo>
                      <a:pt x="85" y="43"/>
                    </a:moveTo>
                    <a:lnTo>
                      <a:pt x="0" y="0"/>
                    </a:lnTo>
                    <a:lnTo>
                      <a:pt x="0" y="86"/>
                    </a:lnTo>
                    <a:lnTo>
                      <a:pt x="85" y="4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519440" y="2782800"/>
              <a:ext cx="271080" cy="217080"/>
              <a:chOff x="4519440" y="2782800"/>
              <a:chExt cx="271080" cy="217080"/>
            </a:xfrm>
          </p:grpSpPr>
          <p:sp>
            <p:nvSpPr>
              <p:cNvPr id="439" name=""/>
              <p:cNvSpPr/>
              <p:nvPr/>
            </p:nvSpPr>
            <p:spPr>
              <a:xfrm>
                <a:off x="4519440" y="2901240"/>
                <a:ext cx="151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4539240" y="2782800"/>
                <a:ext cx="251280" cy="2170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85" y="44"/>
                    </a:moveTo>
                    <a:lnTo>
                      <a:pt x="0" y="0"/>
                    </a:lnTo>
                    <a:lnTo>
                      <a:pt x="0" y="87"/>
                    </a:lnTo>
                    <a:lnTo>
                      <a:pt x="85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"/>
            <p:cNvGrpSpPr/>
            <p:nvPr/>
          </p:nvGrpSpPr>
          <p:grpSpPr>
            <a:xfrm>
              <a:off x="3700440" y="2782800"/>
              <a:ext cx="307440" cy="217080"/>
              <a:chOff x="3700440" y="2782800"/>
              <a:chExt cx="307440" cy="217080"/>
            </a:xfrm>
          </p:grpSpPr>
          <p:sp>
            <p:nvSpPr>
              <p:cNvPr id="442" name=""/>
              <p:cNvSpPr/>
              <p:nvPr/>
            </p:nvSpPr>
            <p:spPr>
              <a:xfrm>
                <a:off x="3830760" y="2901240"/>
                <a:ext cx="1771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700440" y="2782800"/>
                <a:ext cx="249840" cy="217080"/>
              </a:xfrm>
              <a:custGeom>
                <a:avLst/>
                <a:gdLst/>
                <a:ahLst/>
                <a:rect l="l" t="t" r="r" b="b"/>
                <a:pathLst>
                  <a:path w="86" h="88">
                    <a:moveTo>
                      <a:pt x="0" y="44"/>
                    </a:moveTo>
                    <a:lnTo>
                      <a:pt x="85" y="87"/>
                    </a:lnTo>
                    <a:lnTo>
                      <a:pt x="85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4" name=""/>
            <p:cNvSpPr/>
            <p:nvPr/>
          </p:nvSpPr>
          <p:spPr>
            <a:xfrm>
              <a:off x="1359000" y="5570640"/>
              <a:ext cx="0" cy="601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97520" y="1095480"/>
              <a:ext cx="41907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5943600" y="1600200"/>
              <a:ext cx="0" cy="44956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20960" y="5070600"/>
              <a:ext cx="0" cy="18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3263760" y="3474720"/>
              <a:ext cx="0" cy="1633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34040" y="5083200"/>
              <a:ext cx="0" cy="190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571920" y="1276200"/>
              <a:ext cx="1400040" cy="5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8199ca"/>
              </a:gs>
              <a:gs pos="50000">
                <a:srgbClr val="a2c1fe"/>
              </a:gs>
              <a:gs pos="100000">
                <a:srgbClr val="8199ca"/>
              </a:gs>
            </a:gsLst>
            <a:lin ang="81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5543640" y="4653000"/>
          <a:ext cx="3276360" cy="194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3640" y="4653000"/>
                    <a:ext cx="3276360" cy="19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0" y="189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 ADAPTAR LOS RESULTADOS Y TOMAR ACC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0" y="1989000"/>
            <a:ext cx="9144000" cy="32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4b0866"/>
                </a:solidFill>
                <a:latin typeface="Times New Roman"/>
              </a:rPr>
              <a:t>10.1 ¿Cómo integrar los resultados a la realidad de su operació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800" spc="-1" strike="noStrike">
                <a:solidFill>
                  <a:srgbClr val="4b0866"/>
                </a:solidFill>
                <a:latin typeface="Times New Roman"/>
              </a:rPr>
              <a:t>[Aplicar  BSC.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4b0866"/>
                </a:solidFill>
                <a:latin typeface="Times New Roman"/>
              </a:rPr>
              <a:t>10.2 ¿Cómo tomar acción para cerrar la brech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28800" y="-36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NCHMA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137440" y="4683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/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79280" y="685800"/>
            <a:ext cx="8713800" cy="61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  RESULTADO DESEADO (PRODUCTO / SERVICIO O BIEN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) TIEMPO DE ENTREGA (PUNTUAL ADECUADO A TIEMP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) CALIDAD DEL SERVICIO  (PRODUCTO O BIE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) CANTIDAD REQUERIDA  (EXACTITU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5)  ATENCION PERSONALIZADA (QUE LO PERCIBA EL CLIENTE 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)  MANTENIMIENTO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xterno /interno; combinado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7) SERVICIO POS-VENTA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( Garantías, seguimiento /valor agregado: sistemas de lealtad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)  ASISTENCIA TECNICA. (Centro de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 y/o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n camp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9) INVESTIGACION Y DESARROLLO 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reatividad e innovación; prototipos; patentes desarrollad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0)  SUSTITUCION DE SERVICIOS /BIENES Y PRODUCTO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1) PROGRAMA DE REDUCCION DE PRECIOS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 / promociones, campañas, etc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2)  SUSTITUCION  DE  INSUMOS. 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asociado a I&amp;D. de materias primas y tecnología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3)  SUSTITUCION DE PROVEEDORES (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arrollo de proveedore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4)  SERVICIOS APRECIADOS  (JAT/Stock en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nsignació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; Kan-Ban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5)  COMUNICACIÓN OPORTUNA Y CONSISTENTE;  (intencion/interes y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atención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6)  CAPACITACION Y ADIESTRAMIENTO. (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objetiva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; y seguimiento continuo y 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</a:rPr>
              <a:t>consistent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7)  PLAN DE MEJORA Y REDUCCION DE PRECIOS. (FINANCIAMIENTOS BLANDOS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8)  COMPROMETIDO CON CLIENTE  /  PROVEEDOR. ( verlo como Partner/ Soci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9)  TRANSPORTE  Y ENTREGA EFICIENTE,  OPORTUNO Y EN TIEMP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0)  RECONOCIMIENTO a la  LABOR y  DESEMPEÑO / MOTIVAC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1643040" y="5013360"/>
            <a:ext cx="4800600" cy="18446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1736640" y="50198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08000" y="115920"/>
            <a:ext cx="876312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0.3 Informe ejecutiv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(resultados específico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1- Expectativas del auditori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2- observar nuevas norm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3- Convencimiento a los participantes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e las nuevas propuest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0.3.4- Vencer el escepticismo, la resistenci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l cambio [ceguera de taller]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9129600" cy="6843600"/>
          </a:xfrm>
          <a:prstGeom prst="rect">
            <a:avLst/>
          </a:prstGeom>
          <a:blipFill rotWithShape="0">
            <a:blip r:embed="rId1"/>
            <a:srcRect/>
            <a:stretch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2568600" y="2000160"/>
            <a:ext cx="4006800" cy="28576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4175280" y="38768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79280" y="108000"/>
            <a:ext cx="8496360" cy="49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10.3 Informe ejecutivo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(resultados específicos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5- Hágalos partícipes [compromiso de todos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6- Las acciones que se están tomando nos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rán cambiar los hábitos y costumbres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7- El progreso se debe monitorear y me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0.3.8- Las acciones que se están tomando n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harán camb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9880" y="2743200"/>
            <a:ext cx="1521000" cy="1647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381880" y="6095880"/>
            <a:ext cx="723960" cy="723960"/>
          </a:xfrm>
          <a:prstGeom prst="rect">
            <a:avLst/>
          </a:prstGeom>
          <a:gradFill rotWithShape="0">
            <a:gsLst>
              <a:gs pos="0">
                <a:srgbClr val="618ffd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37920" y="0"/>
            <a:ext cx="43434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Britannic Bold"/>
              </a:rPr>
              <a:t>1.¿QUÉ 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90676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0" spc="-1" strike="noStrike">
                <a:solidFill>
                  <a:srgbClr val="000000"/>
                </a:solidFill>
                <a:latin typeface="Arial"/>
              </a:rPr>
              <a:t>1.1 Proceso continuo y sistemático para evaluar productos o servicios y procesos de trabajo que son reconocidos como las mejores prácticas y métodos para el mejoramiento de desarrollo organizaciona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43800" cy="500364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0" y="18900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cf2974"/>
                </a:solidFill>
                <a:latin typeface="Times New Roman"/>
              </a:rPr>
              <a:t>11. Porque FALLA DEL PROCESO  de  BENCHMARKING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184788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1- Definición imprecisa del objetiv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2- Que los directivos no lo comp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[no se comprometan ni lo apoyen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3- Exclusión de algunas personas,   -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[clave y/o responsable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4- Cuestionarios e información pobres [indicadores deficiente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11.5 No escuchar al personal involucrad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n el proces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gradFill rotWithShape="0">
            <a:gsLst>
              <a:gs pos="0">
                <a:srgbClr val="e282ad"/>
              </a:gs>
              <a:gs pos="100000">
                <a:srgbClr val="cf297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1800" y="0"/>
            <a:ext cx="180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250920" y="3933720"/>
            <a:ext cx="3816360" cy="273528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2270160" y="4257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57200" y="0"/>
            <a:ext cx="868680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 Porque FALLA DEL PROCESO DE BENCHMARK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6- No realizar visitas en grupo          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[no mostrar trabajo en equipo]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7- Perderse en los detalles;                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8- Desviarse del  propósito original      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del  estudio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9-No identificar las causas de la brecha;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11.10- No identificar Personas clave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l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competidor;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[no involucradas]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6480" y="6480"/>
            <a:ext cx="9129600" cy="6843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6227640" y="1735200"/>
            <a:ext cx="2819520" cy="392580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503280" y="260280"/>
            <a:ext cx="83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12. FACTORES DE ÉX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08000" y="1268280"/>
            <a:ext cx="8712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-Apoyo del nivel direc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[Compromiso total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Invertir en entrenamiento y capaci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- Sistema efectivo, de información interna.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[Balance score card y tablero de comando]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4.- Aprendizaje en Cultura de servicio de to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miembr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5.- Presupuestar los recursos adecuados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[tiempo, equipo y diner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0920" y="5950080"/>
            <a:ext cx="794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600" spc="-1" strike="noStrike">
                <a:solidFill>
                  <a:srgbClr val="cf2974"/>
                </a:solidFill>
                <a:latin typeface="Times New Roman"/>
              </a:rPr>
              <a:t>“</a:t>
            </a:r>
            <a:r>
              <a:rPr b="1" lang="es-ES_tradnl" sz="3600" spc="-1" strike="noStrike">
                <a:solidFill>
                  <a:srgbClr val="cf2974"/>
                </a:solidFill>
                <a:latin typeface="Times New Roman"/>
              </a:rPr>
              <a:t>DESEO de APRENDER y de SERVI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9129600" cy="68436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804000" y="2421000"/>
            <a:ext cx="2305080" cy="38163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3946680" y="2962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79280" y="142920"/>
            <a:ext cx="84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 JERARQUÍA DE 7 NIVELES DE BENCHMAR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022640" y="40291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4920" y="1773360"/>
            <a:ext cx="89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1 Aprender de nuestros éxitos pasado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[internos y externos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2 Tomar ideas al azar sin importar su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rigen, [causa y efecto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3 Iniciar el desarrollo interno de l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mejores prácticas, en forma objetiv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13.4 Igualar los estándares estableci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n su indust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14400" y="14400"/>
            <a:ext cx="9129600" cy="6843600"/>
          </a:xfrm>
          <a:prstGeom prst="rect">
            <a:avLst/>
          </a:prstGeom>
          <a:gradFill rotWithShape="0">
            <a:gsLst>
              <a:gs pos="0">
                <a:srgbClr val="d3199e"/>
              </a:gs>
              <a:gs pos="100000">
                <a:srgbClr val="efb0dd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489480" y="410544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0" y="57006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800" spc="-1" strike="noStrike" u="sng">
                <a:solidFill>
                  <a:srgbClr val="0236b8"/>
                </a:solidFill>
                <a:uFillTx/>
                <a:latin typeface="Times New Roman"/>
              </a:rPr>
              <a:t>TRABAJO AL INTERI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946680" y="33433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6" name=""/>
          <p:cNvGraphicFramePr/>
          <p:nvPr/>
        </p:nvGraphicFramePr>
        <p:xfrm>
          <a:off x="2368440" y="2849400"/>
          <a:ext cx="4148280" cy="31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8440" y="2849400"/>
                    <a:ext cx="414828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>
            <a:off x="4327560" y="32670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85800" y="293760"/>
            <a:ext cx="80773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5 Buscar los mejores estánda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6 Tomar las mejores prácticas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su factor industr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13.7 Optimizar las mejores prácticas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nivel mund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714240" y="581040"/>
            <a:ext cx="7363080" cy="4543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 u="sng">
                <a:solidFill>
                  <a:srgbClr val="663300"/>
                </a:solidFill>
                <a:uFillTx/>
                <a:latin typeface="Arial"/>
                <a:ea typeface="Arial"/>
              </a:rPr>
              <a:t>Agradecimien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A todos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os 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istentes, por su atenc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n  e interés  most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En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presente pon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Muchas Grac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tenta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LAE.- Jaime G .Sánchez Carrillo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orreo electrónico : jsanchez43@prodigy.net.mx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jsanchez43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837720"/>
            <a:ext cx="82836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4000" spc="-1" strike="noStrike">
                <a:solidFill>
                  <a:srgbClr val="000000"/>
                </a:solidFill>
                <a:latin typeface="Arial"/>
              </a:rPr>
              <a:t>1.2 El proceso continuo de medición de productos o bienes, servicios y prácticas comparados con el más fuerte-  o aquellas compañías reconocidas como líderes de la industria mas competitiva y exitos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4400" y="14400"/>
            <a:ext cx="9129600" cy="684360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s-ES_tradnl" sz="3800" spc="-1" strike="noStrike">
                <a:solidFill>
                  <a:srgbClr val="000000"/>
                </a:solidFill>
                <a:latin typeface="Arial"/>
              </a:rPr>
              <a:t>1.3    Punto de referencia topográfica.</a:t>
            </a:r>
            <a:br>
              <a:rPr sz="3800"/>
            </a:br>
            <a:br>
              <a:rPr sz="2000"/>
            </a:br>
            <a:r>
              <a:rPr b="0" i="1" lang="es-ES_tradnl" sz="3800" spc="-1" strike="noStrike">
                <a:solidFill>
                  <a:srgbClr val="000000"/>
                </a:solidFill>
                <a:latin typeface="Arial"/>
              </a:rPr>
              <a:t>1.4   [1950].-  Exigencia de clientes de  mínimos estándares de adquisición de computadoras centrales.</a:t>
            </a:r>
            <a:br>
              <a:rPr sz="3800"/>
            </a:br>
            <a:br>
              <a:rPr sz="1800"/>
            </a:br>
            <a:r>
              <a:rPr b="0" i="1" lang="es-ES_tradnl" sz="3800" spc="-1" strike="noStrike">
                <a:solidFill>
                  <a:srgbClr val="000000"/>
                </a:solidFill>
                <a:latin typeface="Arial"/>
              </a:rPr>
              <a:t>1.5   [1970].- Comparación de procesos continuos de elaboración de bienes o servicios con el líder [el que lo esta haciendo mejor en el mercado].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6200000">
            <a:off x="7502400" y="5106960"/>
            <a:ext cx="1339920" cy="18730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9234d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106200" y="4149720"/>
          <a:ext cx="4537080" cy="266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" y="4149720"/>
                    <a:ext cx="4537080" cy="26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6300720" y="907920"/>
            <a:ext cx="2735280" cy="1800360"/>
          </a:xfrm>
          <a:custGeom>
            <a:avLst/>
            <a:gdLst>
              <a:gd name="textAreaLeft" fmla="*/ 624240 w 2735280"/>
              <a:gd name="textAreaRight" fmla="*/ 2111040 w 2735280"/>
              <a:gd name="textAreaTop" fmla="*/ 410760 h 1800360"/>
              <a:gd name="textAreaBottom" fmla="*/ 1389600 h 1800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a2ff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691320" y="1236600"/>
          <a:ext cx="1913040" cy="212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91320" y="1236600"/>
                    <a:ext cx="1913040" cy="212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 rot="18817800">
            <a:off x="6041880" y="3614040"/>
            <a:ext cx="1739880" cy="1368720"/>
          </a:xfrm>
          <a:prstGeom prst="rightArrow">
            <a:avLst>
              <a:gd name="adj1" fmla="val 50000"/>
              <a:gd name="adj2" fmla="val 63564"/>
            </a:avLst>
          </a:prstGeom>
          <a:solidFill>
            <a:srgbClr val="9234d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754680" y="1558800"/>
          <a:ext cx="1849680" cy="2014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54680" y="1558800"/>
                    <a:ext cx="1849680" cy="20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85760" y="189000"/>
            <a:ext cx="8131320" cy="14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d49fff"/>
                </a:solidFill>
                <a:latin typeface="Times New Roman"/>
              </a:rPr>
              <a:t>2. ¿QUÉ BENEFICIOS SE LOGRA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100080" y="1700280"/>
            <a:ext cx="7696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1 Se copian sólo las mejoras practicas de otras cultura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2.2 En la economía global, se compara el liderazgo con el  de los conocimiento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5280" y="115920"/>
            <a:ext cx="9055080" cy="6669000"/>
          </a:xfrm>
          <a:prstGeom prst="rect">
            <a:avLst/>
          </a:prstGeom>
          <a:solidFill>
            <a:srgbClr val="9933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6516720" y="2270160"/>
          <a:ext cx="2627280" cy="30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6720" y="2270160"/>
                    <a:ext cx="2627280" cy="30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457200" y="3657600"/>
          <a:ext cx="3809880" cy="228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657600"/>
                    <a:ext cx="380988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179280" y="115920"/>
            <a:ext cx="8713800" cy="655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2.3 Soporte de los nuevo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cc99"/>
                </a:solidFill>
                <a:latin typeface="Times New Roman"/>
              </a:rPr>
              <a:t>conceptos de administr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Bookshelf Symbol 4"/>
                <a:ea typeface="Bookshelf Symbol 4"/>
              </a:rPr>
              <a:t>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- Calidad total y mejora continu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4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- Desarrollar una Organ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ligen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4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.- Aplicar Reingeniería de proceso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integr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Bookshelf Symbol 4" charset="2"/>
              <a:buChar char="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Evaluación de Administración del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sempeño [B.S.C.] Balanced Score card-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[indicadores No Financieros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6480" y="6480"/>
            <a:ext cx="9055080" cy="676908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57600" y="458640"/>
            <a:ext cx="3487680" cy="606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96400" y="976320"/>
            <a:ext cx="2144520" cy="545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4191120" cy="3733920"/>
          </a:xfrm>
          <a:prstGeom prst="star5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876920" y="0"/>
            <a:ext cx="4190760" cy="3733920"/>
          </a:xfrm>
          <a:prstGeom prst="star5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3124080"/>
            <a:ext cx="4191120" cy="3733920"/>
          </a:xfrm>
          <a:prstGeom prst="star5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438280" y="990720"/>
            <a:ext cx="4191120" cy="3733560"/>
          </a:xfrm>
          <a:prstGeom prst="star5">
            <a:avLst/>
          </a:prstGeom>
          <a:solidFill>
            <a:srgbClr val="9234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876920" y="3048120"/>
            <a:ext cx="4190760" cy="3733560"/>
          </a:xfrm>
          <a:prstGeom prst="star5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0880" y="692280"/>
            <a:ext cx="8305920" cy="55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.4 Encontrar las diferencias de rendimiento con el líd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[con el que lo hace mejor, para-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acelerar el desarrollo]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2.5 Herramienta de trabajo de administración; Innovación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MX" sz="4800" spc="-1" strike="noStrike">
                <a:solidFill>
                  <a:srgbClr val="000000"/>
                </a:solidFill>
                <a:latin typeface="Times New Roman"/>
              </a:rPr>
              <a:t>e Ingeniería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3e63"/>
            </a:gs>
            <a:gs pos="100000">
              <a:srgbClr val="cd87d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0" y="76320"/>
          <a:ext cx="9067680" cy="67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320"/>
                    <a:ext cx="9067680" cy="6781680"/>
                  </a:xfrm>
                  <a:prstGeom prst="rect">
                    <a:avLst/>
                  </a:prstGeom>
                  <a:ln w="12600">
                    <a:solidFill>
                      <a:srgbClr val="66ff33"/>
                    </a:solidFill>
                    <a:miter/>
                  </a:ln>
                  <a:effectLst>
                    <a:outerShdw dist="107932" dir="2700000" blurRad="0" rotWithShape="0">
                      <a:srgbClr val="000000"/>
                    </a:outerShdw>
                  </a:effectLst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609480" y="333360"/>
            <a:ext cx="80773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. ¿QUIÉNES SON LOS PIONERO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1700280"/>
            <a:ext cx="525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XEROX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MOTORO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General .Electri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FOR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General Moto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G.P.I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LCW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T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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merican Expres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12T19:29:02Z</dcterms:created>
  <dc:creator>Acer End User</dc:creator>
  <dc:description/>
  <cp:keywords/>
  <dc:language>en-US</dc:language>
  <cp:lastModifiedBy> Jaime G.Sanchez C.</cp:lastModifiedBy>
  <dcterms:modified xsi:type="dcterms:W3CDTF">2008-11-25T03:29:19Z</dcterms:modified>
  <cp:revision>45</cp:revision>
  <dc:subject/>
  <dc:title>WORLD TRADE CENTER</dc:title>
</cp:coreProperties>
</file>